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DDE-D9C0-4742-95D5-691CD7A8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F2D-29DA-4E0E-9D5A-8865D0F2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460-3035-4AC8-BF21-96F95CC5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C24-1B32-4754-B56C-64292594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4C4-6124-4782-838D-0CC867E4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BBE-2860-4539-957B-011A845B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D3A-AF63-4F65-A40C-C11353E6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0698-7EF8-4FBF-85F2-8D9BB058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328-E25A-43DF-9194-F98E6661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5044-E89F-4366-8980-986B8FBF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9ECF-53ED-43EA-8062-A1AB08CF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F71-6992-4ACE-A7E5-7C08DDFB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C295-720C-401E-B17F-4CE1D7C3AD9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mailto:esf@mpsv.cz" TargetMode="Externa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mailto:esf@mpsv.cz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spolufinancovaných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ESF/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931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Označení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školících místností a certifikátů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povinnými 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ANO: 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kurz pořádaný konkrétně pro příjem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NE: 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kurz pro veřejnost, kterého se příjemce pouze účastní.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Vlaječky ČR a EU není třeba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Pro označení místnosti není třeba tisknout plakáty či bannery, stačí dostatečně velká a viditelná cedule (čtvrtka) s řadou l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Shrnu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2 manu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Manuál pro publicitu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Manuál vizuální identity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3 základní povinnosti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(závazný balíč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povinná l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označení školící místnosti a 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prezentace n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Zdroje informací a konta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rogramové období 2007-13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OP LZZ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manuály, šablony, loga, prez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Doporučujeme odebíra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ovinky e-mailem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, kde se dozvíte o aktuálních výzvách, seminářích, realizovaných projektech, zadávacích řízeních a podob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Vkládání informací na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Registrace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na stránkách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Záložka Realizované projekty 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Vložit projekt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Záložka Zadávací řízení 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Přidat zadávací řízení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07e"/>
                </a:solidFill>
                <a:latin typeface="Arial"/>
              </a:rPr>
              <a:t>Děkuji Vám za pozorno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povinná </a:t>
            </a:r>
            <a:r>
              <a:rPr b="1" lang="en-US" sz="3200" spc="-1" strike="noStrike">
                <a:solidFill>
                  <a:srgbClr val="0d3673"/>
                </a:solidFill>
                <a:latin typeface="Arial"/>
              </a:rPr>
              <a:t>součást všech projektů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 spolufinancovaných z fondů 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je předmětem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Nařízení Komise č. 1828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dává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informování příjemců i široké veřejnosti, že projekt je spolufinancován z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dostává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uvedení příjemců na veřejně přístupném sezn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pro publicitu OP LZZ   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stanovuje základní pravidla týkající se publicity v 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vizuální identity OP LZZ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r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je zásady správného pou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ívání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Závazný balíček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k provádění propagačních a informačních aktiv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é minimum publicity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Arial"/>
              </a:rPr>
              <a:t>~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l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označen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školící místnosti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(+ vybav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ložení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prezentace projektu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 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Povinné minimum publ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3673"/>
                </a:solidFill>
                <a:uFillTx/>
                <a:latin typeface="Arial"/>
              </a:rPr>
              <a:t>a)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 logo fondu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b)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název „Evropský sociální fond v ČR“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3673"/>
                </a:solidFill>
                <a:uFillTx/>
                <a:latin typeface="Arial"/>
              </a:rPr>
              <a:t>c)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logo E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3673"/>
                </a:solidFill>
                <a:uFillTx/>
                <a:latin typeface="Arial"/>
              </a:rPr>
              <a:t>d)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logo operačního program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e)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motto „Podporujeme vaši budoucnost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f)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odkaz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Kompletní řady i samostatná loga jsou ke stažení na webu (formát JPG, A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Manuál vizuální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velikost, řazení, rozestupy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bare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typy pís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velké množství příkladů</a:t>
            </a:r>
            <a:r>
              <a:rPr b="0" lang="en-US" sz="36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Lze použít i logo příjemce, případně logo projek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Povinné minimum publicity × publicitní ak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minimum publicity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= povinná loga, uvádí všichni příjemci; propagace programu, fondu, EU (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kdo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peníze dává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publicitní aktivity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= aktivity specifikované v projektové žádosti; zejména propagace projektu (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na co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se peníze dávaj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Logo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MPSV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příjemci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nemusí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Loga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není třeba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uvádět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pouze v řadě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Barevná a černobílá varianta lo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2664000" cy="816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16000" y="3068640"/>
            <a:ext cx="2664000" cy="84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692360" y="4221000"/>
          <a:ext cx="158436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2360" y="4221000"/>
                    <a:ext cx="158436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403280" y="4076640"/>
            <a:ext cx="1944720" cy="136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547640" y="4149720"/>
            <a:ext cx="194472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4356000" y="1989000"/>
            <a:ext cx="1328760" cy="1281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6516720" y="1989000"/>
            <a:ext cx="144144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5292720" y="3860640"/>
            <a:ext cx="1871640" cy="120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>
            <a:off x="4932360" y="3573360"/>
            <a:ext cx="2735280" cy="182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3716280"/>
            <a:ext cx="2735280" cy="1677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Loga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je třeba používat na dokumentech spojených s projektem a na materiálech/předmětech hrazených z projektu, nemusí být ale úplně vš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ANO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: smlouvy, zadávací dokumentace, letáky, brožury, propagační předměty, prezenční listiny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: kancelářské potřeby pro běžnou administrativu, faktury a objednávky (generované strojo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Lze použít 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samolepku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nebo 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razítko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Větu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„Tento projekt je financován z ESF prostřednictvím OP LZZ a ze státního rozpočtu ČR.“ není třeba v tištěné podobě použí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aM</cp:lastModifiedBy>
  <dcterms:modified xsi:type="dcterms:W3CDTF">2010-06-17T14:43:16Z</dcterms:modified>
  <cp:revision>265</cp:revision>
  <dc:subject/>
  <dc:title>Snímek 1</dc:title>
</cp:coreProperties>
</file>