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ED1-0E59-4983-8AA3-46197E2A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A98-ACEC-4A23-9BFB-18C5BE14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1CA-F272-44F9-854B-7776DE9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7A8-D85F-4916-A07D-BD570263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E70-B712-4C61-B82C-3B6146B0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851-769B-49FD-8846-3A627062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2D8-EEA4-4B8F-806D-4C06E4A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CF9-401F-4962-BD46-52B551AE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696-D9A7-40B4-8502-A404F64D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F0C-7540-47B6-AF61-C5ECD99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E87-F51B-4C10-9D0A-AE4E879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4D8-D411-4B6D-A325-AA9B287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FC98-3269-422A-8F01-755B18D603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en-US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eminář pro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a předává jej kontrolované osobě k podpisu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bsahuje seznam uložených nápravných opatření, vč. lhůty k jejich odstran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roti rozhodnutí o námitkách není opravný prostředek přípustný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porušení rozpočtové kázně</a:t>
            </a: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 poradenstv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tvořeným pracovním místům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hlášení podezření na nesrovnalost Řídícímu orgá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2:41Z</dcterms:modified>
  <cp:revision>265</cp:revision>
  <dc:subject/>
  <dc:title>Snímek 1</dc:title>
</cp:coreProperties>
</file>