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0183-C0E9-4AF9-A685-09996BE92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A408-B2E4-4C6E-8D3E-358C42F4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C62D-DEBE-4865-B632-C6F657CD9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33BA-5376-47D0-A9E4-4B32BA0ED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D474-51F1-43DD-A047-1DA2D55C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A2A9-F656-470B-84B8-03D93BA0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227C-C74B-4225-9F5E-AC6CBEA6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F4B6-CB34-4664-B6CF-090DF81B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F3CA-3259-4A2A-A3DF-4EBAA0AA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82FC-1769-4717-8BB0-C889A540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151C-2EC2-4FE5-B421-C4AEF50F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0C3A-F44E-435A-9229-2A12F5CA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69B5-FDC0-4BCA-A537-77BC98ED2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sfcr.cz/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sfcr.cz/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hyperlink" Target="http://www.esfcr.cz/" TargetMode="External"/><Relationship Id="rId5" Type="http://schemas.openxmlformats.org/officeDocument/2006/relationships/hyperlink" Target="http://www.esfcr.cz/" TargetMode="External"/><Relationship Id="rId6" Type="http://schemas.openxmlformats.org/officeDocument/2006/relationships/hyperlink" Target="http://www.esfcr.cz/" TargetMode="External"/><Relationship Id="rId7" Type="http://schemas.openxmlformats.org/officeDocument/2006/relationships/hyperlink" Target="http://www.esfcr.cz/" TargetMode="External"/><Relationship Id="rId8" Type="http://schemas.openxmlformats.org/officeDocument/2006/relationships/hyperlink" Target="http://www.esfcr.cz/" TargetMode="Externa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16280"/>
            <a:ext cx="7772400" cy="20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3673"/>
                </a:solidFill>
                <a:latin typeface="Arial"/>
              </a:rPr>
              <a:t>Seminář pro příjemce OP LZZ</a:t>
            </a:r>
            <a:br>
              <a:rPr sz="3600"/>
            </a:b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- metodická čá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067280" y="4149720"/>
            <a:ext cx="42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Zdeněk Foltý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7. října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Pra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07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Zpráva o zahájení realizace projektu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d3673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Plánované klíčové aktivity projektu</a:t>
            </a: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d367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Číslo klíčové aktivity, název klíčové aktivity, období realizace klíčové aktivity, popis plánované klíčové aktivity a jejího cíle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buClr>
                <a:srgbClr val="0d3673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Výběrová říze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d367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Popis vyhlášených výběrových 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buClr>
                <a:srgbClr val="0d3673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Nepodstatné změny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d367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Popis případných formálních a věcných změn projektu a změn v rozpočtu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07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Zpráva o zahájení realizace projektu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buClr>
                <a:srgbClr val="0d3673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Podstatné změny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d367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Popis případných podstatných změn ve sledovaném období, zda byly odsouhlaseny a čeho se týk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buClr>
                <a:srgbClr val="0d3673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Další informace o realizaci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d367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Jakékoli jiné informace neuvedené výše a mající vliv na realizac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buClr>
                <a:srgbClr val="0d3673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Čestné prohlášení příjemce podp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d367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Podpis statutárního zástupce nebo oprávněné oso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Možnost změny termínu předložení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Za nedodržení termínu pro předložení zpráv jsou v právním aktu stanoveny sank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ísemná žádost o změnu termínu - název a registrační číslo projektu, název příjemce, zdůvodnění žádosti, návrh nového termínu a podpis statutárního zástupce organizace nebo osoby oprávněné jednat jejím jméne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Žádost musí být doručena poskytovateli před uplynutím termínu pro předložení zprávy (postačí e-mail s naskenovanou žádostí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kud právní akt obsahuje přesné termíny předložení zpráv, pak je změna termínu možná jen změnou právního a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Změny v projektech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ovlivní cíle, obsah nebo zam</a:t>
            </a: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ěř</a:t>
            </a: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ení projektu</a:t>
            </a: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 zakládají změnu právního akt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žádost o změnu, formulář na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sfcr.cz</a:t>
            </a:r>
            <a:r>
              <a:rPr b="0" lang="en-US" sz="2400" spc="-1" strike="noStrike" u="sng">
                <a:solidFill>
                  <a:srgbClr val="14407e"/>
                </a:solidFill>
                <a:uFillTx/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nejpozději 30 dnů před ukončením realizace projekt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nelze provést před odsouhlasením poskytovatele podpor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zaslat v listinné i elektronické podobě na adresu poskytova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Změny v projektech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407e"/>
                </a:solidFill>
                <a:latin typeface="Arial"/>
              </a:rPr>
              <a:t>Podstatné změny - pří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změna data ukončení projekt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změna monitorovacích indikátorů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změna bankovního účtu organiza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přesun mezi kapitolami vyšší než 15 %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objemu původního rozpo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tu kapitoly, z ní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 jsou finan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ní prost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edky 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esouvány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esun mezi polo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kami na neinvesti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ní a investi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ní výdaj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navýšení kapitoly k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í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ové financování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navýšení jednotkové ceny o více ne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 10% 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ů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vodní cen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zm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ě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na právní formy 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íjemce, slou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ení s jinou právnickou osobo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40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zm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ě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na verze 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íru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  <a:ea typeface="Times New Roman"/>
              </a:rPr>
              <a:t>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Změny v projektech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407e"/>
                </a:solidFill>
                <a:latin typeface="Arial"/>
              </a:rPr>
              <a:t>Nepodstatné změny – příklady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407e"/>
                </a:solidFill>
                <a:latin typeface="Arial"/>
              </a:rPr>
              <a:t>(informovat poskytovatele v nejbližší MZ se zdůvodnění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rozpo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u 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ádosti omezená na p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sun prost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dk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v rámci jedné kapitoly rozpo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u nebo p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sun prost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dk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mezi jednotlivými kapitolami do výše 15 % objemu p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odního rozpo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u kapitoly, z ní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jsou finan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í prost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dky p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souvány – 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dolo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it v MZ p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pracovaný rozpo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t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ytvo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nové polo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ky v rozpo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u / p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p. její zrušení za podmínky, 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 neznamená za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átek nové aktivity, resp. zrušení 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i ukon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stávající klí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vé aktivit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výšení jednotkových cen ve výši maximáln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10 % p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odní cen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Změny v projektech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407e"/>
                </a:solidFill>
                <a:latin typeface="Arial"/>
              </a:rPr>
              <a:t>Nepodstatné změny – příklady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harmonogramu realizace, která neovlivní spln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í cíl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ů 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ani monitorovacích indikátor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projektu – 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dolo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it v MZ p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pracovaný harmonogra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ch údaj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(informovat neprodlen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),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sídla a statutárního zástupce p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jemce podpor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 osoby projektu 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(informovat neprodlen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0" i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uzav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a zm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y (formálního charakteru) smluv s partner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audit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Změny v projektech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Klíčové ak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ě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ve z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ů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sobu provád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ě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í klí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vých aktivit uvedených v 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loze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. 1 Rozhodnutí je 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pustná za 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dpokladu 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dchozího písemného souhlasu poskytovatele vydaného na základ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ě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písemné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ádosti 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jemce dot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07e"/>
                </a:solidFill>
                <a:latin typeface="Arial"/>
              </a:rPr>
              <a:t>Realizační tý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loha klí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vé osoby realiza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ího týmu – zm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ě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krétní osoby (v 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pad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ě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 je uvedeno jméno) 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pustná za 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dpokladu 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dchozího písemného souhlasu poskytovatele vydaného na základě písemné 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ádosti 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jemce dota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ytvo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nové pozice – nepodstatná zm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ě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rušení pozice uvedené v p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ř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loze – podstatná zm</a:t>
            </a:r>
            <a:r>
              <a:rPr b="1" lang="en-US" sz="2000" spc="-1" strike="noStrike">
                <a:solidFill>
                  <a:srgbClr val="14407e"/>
                </a:solidFill>
                <a:latin typeface="Arial"/>
              </a:rPr>
              <a:t>ě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Partne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partneři projekt společně vytvářejí – podílejí se na zpracování projektové žádosti a na realizaci věcných projektových aktivi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d3673"/>
                </a:solidFill>
                <a:latin typeface="Arial"/>
              </a:rPr>
              <a:t>spoluúčast všech partnerů na projektu je podstatná a nezastupitelná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partnerství nesmí nahrazovat zabezpečení běžné administrace projektu, jako je zpracování monitorovacích zpráv, finanční řízení a účetnictví projektu, administrativní agenda apod.; poskytování běžných služeb (např. IT služby, publicita projektu, audit apod.) ani dodání zboží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povaha právních vztahů mezi žadatelem a jeho partnery nesmí být založena na poskytování služ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3f7e"/>
                </a:solidFill>
                <a:latin typeface="Arial"/>
              </a:rPr>
              <a:t>definice nepřímých nákladů – náklady, které nejsou nebo nemohou být jednoznačně spojeny s konkrétní aktivitou projektu. Tyto náklady zahrnují zejména náklady spojené s administrací projektu</a:t>
            </a: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3f7e"/>
                </a:solidFill>
                <a:latin typeface="Arial"/>
              </a:rPr>
              <a:t>nepřímé náklady se nedokladují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3f7e"/>
                </a:solidFill>
                <a:latin typeface="Arial"/>
              </a:rPr>
              <a:t>u nepřímých nákladů se vždy má za to, že tyto náklady vznikly a jsou způsobilé ve výši odvozené z podílu nepřímých nákladů na přímých nákladech stanoveného v Rozhodnutí o poskytnutí dot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Obsah prezen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05920" cy="37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Základ o monitorovacích zpráv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Zpráva o zahájení realizace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Změny v projek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Partners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Nepřímé nákl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 - pří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(úplný výčet viz příručka D5 – Metodika způsobilých výdajů, kap. 2.7.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3f7e"/>
                </a:solidFill>
                <a:latin typeface="Arial"/>
              </a:rPr>
              <a:t>odměňování pracovníků - 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vedení účetnictví, personalistika, zajištění publicity, kopírování, tisku pro administraci projekt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3f7e"/>
                </a:solidFill>
                <a:latin typeface="Arial"/>
              </a:rPr>
              <a:t>cestovné 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- veškeré cestovní náhrady spojené s vnitrostátními pracovními cestami, veškeré náklady na provoz vozidla k vnitrostátním cestám, cestovní náhrady spojené s pracovními cestami, jejichž cílem bylo zajištění publicity pomoci z ESF (tuzemské i zahraniční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3f7e"/>
                </a:solidFill>
                <a:latin typeface="Arial"/>
              </a:rPr>
              <a:t>zařízení a vybavení 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- spotřební a kancelářský materiál, zajištění občerstvení, odpisy budov (všechny) a odpisy zařízení a vybavení (ne pro C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3f7e"/>
                </a:solidFill>
                <a:latin typeface="Arial"/>
              </a:rPr>
              <a:t>nákup služeb 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- náklady spojené s kanceláří projektu (nájem, energie, voda, internet, telefon), bankovní poplatky, realizace výběrových řízeních, služby spojené s řízením projektu (účetnictví, personalistika, publicita, kopírování, webové stránky, daňové a právní poradenství atd.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3f7e"/>
                </a:solidFill>
                <a:latin typeface="Arial"/>
              </a:rPr>
              <a:t>základ pro výpočet oprávněné výše nepřímých nákladů v projektu musí být dle nařízení č. 1081/2006 použity </a:t>
            </a:r>
            <a:r>
              <a:rPr b="1" lang="en-US" sz="2400" spc="-1" strike="noStrike" u="sng">
                <a:solidFill>
                  <a:srgbClr val="143f7e"/>
                </a:solidFill>
                <a:uFillTx/>
                <a:latin typeface="Arial"/>
              </a:rPr>
              <a:t>skutečně vzniklé způsobilé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3f7e"/>
                </a:solidFill>
                <a:latin typeface="Arial"/>
              </a:rPr>
              <a:t>ze strany vyhlašovatele výzvy bude na základě závěrečného vyúčtování výdajů projektu ověřeno, zda struktura skutečně vzniklých způsobilých výdajů není v parametru podílu nákupu služeb natolik odlišná, že by muselo dojít ke změně podílu nepřímých náklad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3f7e"/>
                </a:solidFill>
                <a:latin typeface="Arial"/>
              </a:rPr>
              <a:t>pokud ano, bude na základě vyúčtování celkových uskutečněných přímých způsobilých výdajů projektu procento nepřímých nákladů odpovídajícím způsobem sníž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Děkuji Vám za pozornost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Typy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05920" cy="37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Zpráva o zahájení realizace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Průběžná monitorovací zprá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Závěrečná monitorovací zprá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68360" y="1341360"/>
          <a:ext cx="8229600" cy="4272120"/>
        </p:xfrm>
        <a:graphic>
          <a:graphicData uri="http://schemas.openxmlformats.org/drawingml/2006/table">
            <a:tbl>
              <a:tblPr/>
              <a:tblGrid>
                <a:gridCol w="1450800"/>
                <a:gridCol w="2016360"/>
                <a:gridCol w="2941560"/>
                <a:gridCol w="18208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Termíny předlož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Jak se vyplňuj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Obsahuje žádost o platbu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ZZR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o 15 dnů třetího měsíce realiz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Ve wordu, vzor na </a:t>
                      </a:r>
                      <a:r>
                        <a:rPr b="0" lang="cs-CZ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2"/>
                        </a:rPr>
                        <a:t>www.esfcr.cz</a:t>
                      </a:r>
                      <a:r>
                        <a:rPr b="1" lang="cs-CZ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růběžná M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o 30 dnů po skončení monit. obdob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. část v Benefit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2. část ve wordu, vzor na </a:t>
                      </a:r>
                      <a:r>
                        <a:rPr b="0" lang="cs-CZ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3"/>
                        </a:rPr>
                        <a:t>www.</a:t>
                      </a:r>
                      <a:r>
                        <a:rPr b="0" lang="cs-CZ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4"/>
                        </a:rPr>
                        <a:t>esfcr</a:t>
                      </a:r>
                      <a:r>
                        <a:rPr b="0" lang="cs-CZ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5"/>
                        </a:rPr>
                        <a:t>.cz</a:t>
                      </a:r>
                      <a:r>
                        <a:rPr b="1" lang="cs-CZ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zpravidla 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Závěrečná M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o 2 měsíců od ukončení proje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. část v Benefit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2. část ve wordu, vzor na </a:t>
                      </a:r>
                      <a:r>
                        <a:rPr b="0" lang="cs-CZ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6"/>
                        </a:rPr>
                        <a:t>www.</a:t>
                      </a:r>
                      <a:r>
                        <a:rPr b="0" lang="cs-CZ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7"/>
                        </a:rPr>
                        <a:t>esfcr</a:t>
                      </a:r>
                      <a:r>
                        <a:rPr b="0" lang="cs-CZ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8"/>
                        </a:rPr>
                        <a:t>.c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Délka monitorovacího období je 6 měsíců, tj. nejméně za každých 6 měsíců realizace projektu předkládá příjemce průběžnou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Žádost o platbu musí být předložena vždy, pokud v daném monitorovacím období realizoval příjemce způsobilé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Žádost o platbu nelze předložit samostatně bez 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Povinnost archivace MZ a žádostí o platbu příjemc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Předložení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4076280"/>
            <a:ext cx="821844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Rozhodující je datum doručení zprávy poskytovateli pod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Případná doplnění je třeba zaslat nejpozději do 15 pracovních dnů od vyžádání poskytovatelem (není-li stanoven jiný termí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116000" y="1268280"/>
          <a:ext cx="7280280" cy="2648160"/>
        </p:xfrm>
        <a:graphic>
          <a:graphicData uri="http://schemas.openxmlformats.org/drawingml/2006/table">
            <a:tbl>
              <a:tblPr/>
              <a:tblGrid>
                <a:gridCol w="2016360"/>
                <a:gridCol w="5263920"/>
              </a:tblGrid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Způsob předlož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ZZR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listinná podoba, elektronicky na CD nebo e-mail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růběžná M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listinná podoba, elektronicky v Benefit7 – 2. část MZ je příloha v Benefit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Závěrečná M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listinná podoba, elektronicky v Benefit7 – 2. část MZ je příloha v Benefit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07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Zpráva o zahájení realizace projektu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49"/>
              </a:spcBef>
              <a:buClr>
                <a:srgbClr val="0d3673"/>
              </a:buClr>
              <a:buFont typeface="Arial"/>
              <a:buAutoNum type="arabicPeriod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Údaje o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d3673"/>
              </a:buClr>
              <a:buFont typeface="Arial"/>
              <a:buChar char="–"/>
              <a:tabLst>
                <a:tab algn="l" pos="53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Číslo oblasti podp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d3673"/>
              </a:buClr>
              <a:buFont typeface="Arial"/>
              <a:buChar char="–"/>
              <a:tabLst>
                <a:tab algn="l" pos="53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Registrační  číslo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d3673"/>
              </a:buClr>
              <a:buFont typeface="Arial"/>
              <a:buChar char="–"/>
              <a:tabLst>
                <a:tab algn="l" pos="53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Název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d3673"/>
              </a:buClr>
              <a:buFont typeface="Arial"/>
              <a:buChar char="–"/>
              <a:tabLst>
                <a:tab algn="l" pos="53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Celková výše finanční podpory v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d3673"/>
              </a:buClr>
              <a:buFont typeface="Arial"/>
              <a:buChar char="–"/>
              <a:tabLst>
                <a:tab algn="l" pos="53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Skutečné datum zahájení realizace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d3673"/>
              </a:buClr>
              <a:buFont typeface="Arial"/>
              <a:buChar char="–"/>
              <a:tabLst>
                <a:tab algn="l" pos="53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Skutečné datum ukončení realizace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d3673"/>
              </a:buClr>
              <a:buFont typeface="Arial"/>
              <a:buChar char="–"/>
              <a:tabLst>
                <a:tab algn="l" pos="53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Sledované obdob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d3673"/>
              </a:buClr>
              <a:buFont typeface="Arial"/>
              <a:buChar char="–"/>
              <a:tabLst>
                <a:tab algn="l" pos="53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Datum vypracování zpráv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07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Zpráva o zahájení realizace projektu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49"/>
              </a:spcBef>
              <a:buClr>
                <a:srgbClr val="0d3673"/>
              </a:buClr>
              <a:buFont typeface="Arial"/>
              <a:buAutoNum type="arabicPeriod" startAt="2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Údaje o příjemci a zhotoviteli zprá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d3673"/>
              </a:buClr>
              <a:buFont typeface="Arial"/>
              <a:buChar char="–"/>
              <a:tabLst>
                <a:tab algn="l" pos="53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Název Příjem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d3673"/>
              </a:buClr>
              <a:buFont typeface="Arial"/>
              <a:buChar char="–"/>
              <a:tabLst>
                <a:tab algn="l" pos="53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I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d3673"/>
              </a:buClr>
              <a:buFont typeface="Arial"/>
              <a:buChar char="–"/>
              <a:tabLst>
                <a:tab algn="l" pos="53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Statutární zástup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d3673"/>
              </a:buClr>
              <a:buFont typeface="Arial"/>
              <a:buChar char="–"/>
              <a:tabLst>
                <a:tab algn="l" pos="53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Jméno, příjmení a kontaktní údaje zhotovitele zpráv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d3673"/>
              </a:buClr>
              <a:buFont typeface="Arial"/>
              <a:buAutoNum type="arabicPeriod" startAt="2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Zahájené klíčové ak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d3673"/>
              </a:buClr>
              <a:buFont typeface="Arial"/>
              <a:buChar char="–"/>
              <a:tabLst>
                <a:tab algn="l" pos="53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Číslo, název klíčové ak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d3673"/>
              </a:buClr>
              <a:buFont typeface="Arial"/>
              <a:buChar char="–"/>
              <a:tabLst>
                <a:tab algn="l" pos="53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Období realizace klíčové ak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d3673"/>
              </a:buClr>
              <a:buFont typeface="Arial"/>
              <a:buChar char="–"/>
              <a:tabLst>
                <a:tab algn="l" pos="53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Popis a zhodnocení realizace klíčové ak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07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131c"/>
                </a:solidFill>
                <a:latin typeface="Arial"/>
                <a:ea typeface="Arial"/>
              </a:rPr>
              <a:t>Zpráva o zahájení realizace projektu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876"/>
              </a:spcBef>
              <a:buClr>
                <a:srgbClr val="0d3673"/>
              </a:buClr>
              <a:buFont typeface="Arial"/>
              <a:buAutoNum type="arabicPeriod" startAt="4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Informace o místě realizace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24"/>
              </a:spcBef>
              <a:buClr>
                <a:srgbClr val="0d3673"/>
              </a:buClr>
              <a:buFont typeface="Arial"/>
              <a:buChar char="–"/>
              <a:tabLst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místo, kde je Váš projekt realizován</a:t>
            </a:r>
            <a:r>
              <a:rPr b="1" lang="en-US" sz="20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876"/>
              </a:spcBef>
              <a:buClr>
                <a:srgbClr val="0d3673"/>
              </a:buClr>
              <a:buFont typeface="Arial"/>
              <a:buAutoNum type="arabicPeriod" startAt="4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Informace o uzavření smluv o partnerství s projektovými partn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Clr>
                <a:srgbClr val="0d3673"/>
              </a:buClr>
              <a:buFont typeface="Arial"/>
              <a:buChar char="–"/>
              <a:tabLst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kdy a s jakými partnery byly uzavřeny smlouvy o partnerstv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Clr>
                <a:srgbClr val="0d3673"/>
              </a:buClr>
              <a:buFont typeface="Arial"/>
              <a:buChar char="–"/>
              <a:tabLst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Doložte v příloze zprávy kopie smlu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876"/>
              </a:spcBef>
              <a:buClr>
                <a:srgbClr val="0d3673"/>
              </a:buClr>
              <a:buFont typeface="Arial"/>
              <a:buAutoNum type="arabicPeriod" startAt="4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673"/>
                </a:solidFill>
                <a:latin typeface="Arial"/>
                <a:ea typeface="Arial"/>
              </a:rPr>
              <a:t>Informace o obsazení realizačního týmu pracovní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Clr>
                <a:srgbClr val="0d3673"/>
              </a:buClr>
              <a:buFont typeface="Arial"/>
              <a:buChar char="–"/>
              <a:tabLst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Jméno a příjmení pracovníka, funkce pracovníka v projektu, druh pracovně právního vztahu, úvazek, datum vzniku pracovně právního vztah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foltynz</cp:lastModifiedBy>
  <dcterms:modified xsi:type="dcterms:W3CDTF">2010-10-05T12:02:50Z</dcterms:modified>
  <cp:revision>281</cp:revision>
  <dc:subject/>
  <dc:title>Snímek 1</dc:title>
</cp:coreProperties>
</file>