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97E5-B0D9-4475-AF62-23B1E9A93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8E92-401E-4B03-9AD2-E703DF963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E08B-C7A2-410B-AB1C-246167210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A665-BEEF-4991-954E-BF0D6A6C2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49FF-44C0-470F-AAEC-52C64D0BB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5E8A-4224-4511-8022-BFD1084F4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77DA-E24A-4F20-AE69-E5B2FBDBE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4445-5896-45D5-A089-F1CE05264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B33F-A5BF-4FAD-B9A7-114E48509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B8F8-A14A-481E-8CED-B1262968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C952-8CB8-4659-AA9E-69A14D7B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F899-C001-4C0B-BF6D-3E6B9375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40A4B-1B2C-4378-9F54-AB84DE3069A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980640"/>
            <a:ext cx="821844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MONITOROVACÍ ZPRÁVA</a:t>
            </a:r>
            <a:br>
              <a:rPr sz="3200"/>
            </a:br>
            <a:r>
              <a:rPr b="1" lang="cs-CZ" sz="2000" spc="-1" strike="noStrike">
                <a:solidFill>
                  <a:srgbClr val="d1131c"/>
                </a:solidFill>
                <a:latin typeface="Arial"/>
              </a:rPr>
              <a:t>(MZ)</a:t>
            </a:r>
            <a:br>
              <a:rPr sz="20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br>
              <a:rPr sz="32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JEDNODUŠENÁ ŽÁDOST O PLATBU </a:t>
            </a:r>
            <a:r>
              <a:rPr b="1" lang="cs-CZ" sz="2000" spc="-1" strike="noStrike">
                <a:solidFill>
                  <a:srgbClr val="d1131c"/>
                </a:solidFill>
                <a:latin typeface="Arial"/>
              </a:rPr>
              <a:t>(ZjŽoP)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finanční čá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611280" y="3284640"/>
            <a:ext cx="821844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2268360" y="45086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- Přílohy M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- Zjednodušená žádost o platbu (ZjŽo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- Vyúčtování dotace dle vyhlášky MF Č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5. Rozpis mzdových nákladů</a:t>
            </a:r>
            <a:r>
              <a:rPr b="1" lang="en-US" sz="2000" spc="-1" strike="noStrike">
                <a:solidFill>
                  <a:srgbClr val="d1131c"/>
                </a:solidFill>
                <a:latin typeface="Arial"/>
              </a:rPr>
              <a:t> (1/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Pro každý měsíc jeden rozp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Číslo položky rozpočtu </a:t>
            </a:r>
            <a:r>
              <a:rPr b="0" lang="en-US" sz="1600" spc="-1" strike="noStrike">
                <a:solidFill>
                  <a:srgbClr val="143f7e"/>
                </a:solidFill>
                <a:latin typeface="Arial"/>
              </a:rPr>
              <a:t>– musí odpovídat položce platného rozpoč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Druh pracovněprávního vztahu</a:t>
            </a:r>
            <a:r>
              <a:rPr b="0" lang="en-US" sz="1600" spc="-1" strike="noStrike">
                <a:solidFill>
                  <a:srgbClr val="143f7e"/>
                </a:solidFill>
                <a:latin typeface="Arial"/>
              </a:rPr>
              <a:t> – rozlišeno dle toho, zda zaměstnavatel za zaměstnance hradí sociální a zdravotní pojištění (PS, DPČ x DP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Zúčtovaná hrubá mzda v daném měsíci</a:t>
            </a:r>
            <a:r>
              <a:rPr b="0" lang="en-US" sz="1600" spc="-1" strike="noStrike">
                <a:solidFill>
                  <a:srgbClr val="143f7e"/>
                </a:solidFill>
                <a:latin typeface="Arial"/>
              </a:rPr>
              <a:t> – dle výplatní pásky (tj. vč. odměn a </a:t>
            </a:r>
            <a:r>
              <a:rPr b="0" lang="en-US" sz="1600" spc="-1" strike="noStrike">
                <a:solidFill>
                  <a:srgbClr val="0d3673"/>
                </a:solidFill>
                <a:latin typeface="Arial"/>
              </a:rPr>
              <a:t>příplatků, dovolené, nejsou zahrnuty nemocenské dávk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3673"/>
                </a:solidFill>
                <a:latin typeface="Arial"/>
              </a:rPr>
              <a:t>Měsíční fond pracovní doby v hodinách</a:t>
            </a:r>
            <a:r>
              <a:rPr b="0" lang="en-US" sz="1600" spc="-1" strike="noStrike">
                <a:solidFill>
                  <a:srgbClr val="0d3673"/>
                </a:solidFill>
                <a:latin typeface="Arial"/>
              </a:rPr>
              <a:t> – časový fond u zaměstnavatele v daném měsíci celkem (vč. hodin mimo projekt) na dané smlouvě (údaj z výkazu práce „Celkem hodin“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3673"/>
                </a:solidFill>
                <a:latin typeface="Arial"/>
              </a:rPr>
              <a:t>Počet odpracovaných hodin na projektu dle výkazu práce </a:t>
            </a:r>
            <a:r>
              <a:rPr b="0" lang="en-US" sz="1600" spc="-1" strike="noStrike">
                <a:solidFill>
                  <a:srgbClr val="0d3673"/>
                </a:solidFill>
                <a:latin typeface="Arial"/>
              </a:rPr>
              <a:t>– údaj o počtu hodin připadajících</a:t>
            </a:r>
            <a:r>
              <a:rPr b="0" lang="en-US" sz="1600" spc="-1" strike="noStrike">
                <a:solidFill>
                  <a:srgbClr val="143f7e"/>
                </a:solidFill>
                <a:latin typeface="Arial"/>
              </a:rPr>
              <a:t> na projekt (jedná se o údaj z výkazu práce „- z toho součet hodin souvisejících s projektem“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5. Rozpis mzdových nákladů</a:t>
            </a:r>
            <a:r>
              <a:rPr b="1" lang="en-US" sz="2000" spc="-1" strike="noStrike">
                <a:solidFill>
                  <a:srgbClr val="d1131c"/>
                </a:solidFill>
                <a:latin typeface="Arial"/>
              </a:rPr>
              <a:t> (2/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iné (odvádí se z nich odvody)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další výdaje, ze kterých odvádí zaměstnavatel za zaměstnance odvody, event. ponížení zúčtované hrubé mz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Mzdový příspěvek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automatický výpočet zúčtované hrubé mzdy připadající na projekt (součinem průměrné hodinové mzdy v měsíci a počtu hodin připadajících na projek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jistné na sociální a zdravotní pojištěn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automatický výpočet pojistného hrazeného zaměstnavatelem (PS, DPČ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d3673"/>
                </a:solidFill>
                <a:latin typeface="Arial"/>
              </a:rPr>
              <a:t>Jiné (neodvádí se z nich odvody)</a:t>
            </a: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 - výdaje, které nejsou zahrnuty v zúčtované hrubé mzdě (poměrná část nemocenských dávek, slevy na pojistném s minusem a další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působilé osobní náklad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automatický výpočet „superhrubé“ mzdy připadající na projekt (tj. vč. odvodů na soc. a zdr. poj. hrazené zaměstnavatele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atum uskutečnění úhrady mzd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dle výpisu z bankovního účtu, poklad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6. Rozpis cestovních náhr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Číslo položky rozpočtu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- musí odpovídat položce platného rozpoč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Účel pracovní cest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popis musí jednoznačně prokázat souvislost cesty s aktivitami projektu (náklady spojené s vnitrostátními pracovními cestami patří do nepřímých nákladů – zde tedy nebudou vykazová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racovní cesta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rozlišení tuzemské (T) a zahraniční (Z) služební ces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Skutečné výdaje na pracovní cestu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výše způsobilých výdajů vynaložených na pracovní cestu v souladu se zákoníkem práce a vyhláškou MPSV a MF upravující sazby náhrad pro aktuální rok. V případě zahraničních expertů v ČR se uplatňují náhrady, tzv. „per diems“. Eventuelně další prokázané nutné vedlejší výdaje (telefon, parkovné atd.). Výpočet bude vycházet z vyúčtování schváleného cestovního příkaz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7. Odpi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aňová odpisová skupina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dle zákona o dani z příj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řizovací cena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částka pod kterou je majetek vedený v účetní evidenci (tj. cena včetně nákladů souvisejících s pořízení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ýše ročního odpisu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vypočet dle sazeb uvedených v zákoně o dani z příj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čet dní v roce, po které byl majetek v užíván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počet dní, po které byl majetek zařazen v účetní evidenci (bez ohledu na to, zda byl využíván pro projek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čet dní, po které byl majetek používán pro projekt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počet dní, po které byl majetek zařazen v účetní evidenci a zároveň využíván pro projekt (v případě částečného využívání je nutné počet dní alikvótně poníži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Odpis, který přísluší projektu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automatický výpočet výše odpisu způsobilého pro projek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8. Výpisy z bankovního úč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d3673"/>
                </a:solidFill>
                <a:latin typeface="Arial"/>
              </a:rPr>
              <a:t>Minimálně 1 kopie výpisu měsíč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d3673"/>
                </a:solidFill>
                <a:latin typeface="Arial"/>
              </a:rPr>
              <a:t>Elektronické výpisy musí být podepsány osobou uvedenou na podpisovém vzoru (příloha č. 1 M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ýdaje musí být jednoznačně identifikovatelné na soupisku dokladů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d3673"/>
                </a:solidFill>
                <a:latin typeface="Arial"/>
              </a:rPr>
              <a:t>(pořadové číslo dokladu event. jiné průkazné ozna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ýdaje nesouvisející s projektem mohou být znečitelně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řípadě speciálního účtu pro projekt je možné z tohoto účtu realizovat pouze výdaje související s projek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řípadě speciálního účtu pro projekt jsou úroky příjmem projektu, které snižují způsobilé výdaje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9. Přehled čerpání způsobilých výdajů</a:t>
            </a:r>
            <a:r>
              <a:rPr b="1" lang="en-US" sz="2000" spc="-1" strike="noStrike">
                <a:solidFill>
                  <a:srgbClr val="d1131c"/>
                </a:solidFill>
                <a:latin typeface="Arial"/>
              </a:rPr>
              <a:t> (1/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ruh výdajů rozpočtu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Položka rozpočtu (číslo + náze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latný rozpoč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- Upravený příjemcem (přesun ze zdrojové kapitoly do 15-ti % původní výše rozpočtu kapitoly schválené v právním aktu o poskytnutí podpor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- Schválený poskytovatelem (přesun ze zdrojové kapitoly nad 15 % původní výše rozpočtu kapitoly schválené v právním aktu o poskytnutí podpor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osud prokázané výdaje (veřejné + soukromé) –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Vyúčtované výdaje schválené poskytovatelem za předcházející ZjŽ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Aktuálně prokazované výdaje (veřejné + soukromé)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– Vyúčtované výdaje předkládané v aktuální ZjŽ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řadová čísla účetních dokladů na soupisce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– Čísla dokladů z aktuálně předkládané ZjŽoP (např. 52 – 6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9. Přehled čerpání způsobilých výdajů </a:t>
            </a:r>
            <a:r>
              <a:rPr b="1" lang="en-US" sz="2000" spc="-1" strike="noStrike">
                <a:solidFill>
                  <a:srgbClr val="d1131c"/>
                </a:solidFill>
                <a:latin typeface="Arial"/>
              </a:rPr>
              <a:t>(2/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d3673"/>
                </a:solidFill>
                <a:latin typeface="Arial"/>
              </a:rPr>
              <a:t>Přímé způsobilé náklady celkem</a:t>
            </a: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 – automatický součet přímých výdaj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d3673"/>
                </a:solidFill>
                <a:latin typeface="Arial"/>
              </a:rPr>
              <a:t>Příjmy projektu</a:t>
            </a: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 – plánované či neplánované příjmy projektu</a:t>
            </a:r>
            <a:r>
              <a:rPr b="0" lang="cs-CZ" sz="20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d3673"/>
                </a:solidFill>
                <a:latin typeface="Arial"/>
              </a:rPr>
              <a:t>Nepřímé způsobilé náklady</a:t>
            </a: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 – automatický výpočet částky nepřímých náklad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d3673"/>
                </a:solidFill>
                <a:latin typeface="Arial"/>
              </a:rPr>
              <a:t>Celkové způsobilé náklady</a:t>
            </a: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 – součet přímých způsobilých a nepřímých způsobilých náklad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d3673"/>
                </a:solidFill>
                <a:latin typeface="Arial"/>
              </a:rPr>
              <a:t>Spolufinancování příjemcem</a:t>
            </a: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 – částka připadající na povinné spolufinancování žadatelem (soukromé spolufinancování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d3673"/>
                </a:solidFill>
                <a:latin typeface="Arial"/>
              </a:rPr>
              <a:t>Celkové nezpůsobilé náklady</a:t>
            </a: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 – výdaje neoprávněně nárokované a krácené v dřívějších ZjŽ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10. Auditorská zprá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3f7e"/>
                </a:solidFill>
                <a:latin typeface="Arial"/>
              </a:rPr>
              <a:t>Povinně grantové projekty od 3 mil. CZK výše, nebo projekty, u kterých toto stanoví poskytovatel v právním aktu o poskytnutí podp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3f7e"/>
                </a:solidFill>
                <a:latin typeface="Arial"/>
              </a:rPr>
              <a:t>Předkládána pouze se závěrečnou monitorovací zpráv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3f7e"/>
                </a:solidFill>
                <a:latin typeface="Arial"/>
              </a:rPr>
              <a:t>Nejpozději 7 měsíců před ukončením projektu uzavřít smlouvu s auditor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3f7e"/>
                </a:solidFill>
                <a:latin typeface="Arial"/>
              </a:rPr>
              <a:t>Náležitosti zprávy dle § 14, zákona č. 254/2000 Sb., o auditor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jednodušená žádost o platbu (ZjŽo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ředkládána za každých šest měsíců (1-6, 7-12, 13-18 at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Tvořena dvěma část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- Vyúčtování předchozí části dotace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– veškeré způsobilé výdaje vykázané v aktuálním monitorovacím období event. nevykázané v dřívějších ZjŽoP (způsobilé výdaje je nutné ponížit o příjmy projektu – úroky, motivační poplatky aj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- Další část dotace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Nárok na další část dotace stanovená v právním aktu o poskytnutí podpory ponížená o dosud nevyúčtovanou výši předchozích částí dotace (závěrečná MZ, resp. ZjŽoP již neobsahuje částku další části dota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árok na předložení ZjŽoP, resp. mimořádnou MZ při vyčerpání minimálně 60-ti % poslední části dotace a všech již dříve poskytnutých částí dot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Bude proplacena do 35 pracovních dnů od dodání kompletní MZ a ZjŽ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Vyúčtování dotace dle vyhlášky MF Č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3f7e"/>
                </a:solidFill>
                <a:latin typeface="Arial"/>
              </a:rPr>
              <a:t>Upraveno vyhláškou MF (aktuálně č. 52/2008 Sb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3f7e"/>
                </a:solidFill>
                <a:latin typeface="Arial"/>
              </a:rPr>
              <a:t>Předkládáno po schválení závěrečné MZ (nejpozději však do data uvedeného ve vyhlášce M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3f7e"/>
                </a:solidFill>
                <a:latin typeface="Arial"/>
              </a:rPr>
              <a:t>Zúčtování poskytnutých a vyúčtovaných finančních prostřed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3f7e"/>
                </a:solidFill>
                <a:latin typeface="Arial"/>
              </a:rPr>
              <a:t>Podrobnější pokyny budou poskytnuty spolu s informací o schválení závěrečné M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Přílohy M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3f7e"/>
                </a:solidFill>
                <a:latin typeface="Arial"/>
              </a:rPr>
              <a:t>Podpisové vzo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3f7e"/>
                </a:solidFill>
                <a:latin typeface="Arial"/>
              </a:rPr>
              <a:t>Soupiska účetních do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3f7e"/>
                </a:solidFill>
                <a:latin typeface="Arial"/>
              </a:rPr>
              <a:t>Předkládané účetní do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3f7e"/>
                </a:solidFill>
                <a:latin typeface="Arial"/>
              </a:rPr>
              <a:t>Pracovní výka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3f7e"/>
                </a:solidFill>
                <a:latin typeface="Arial"/>
              </a:rPr>
              <a:t>Rozpis mzdových ná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3f7e"/>
                </a:solidFill>
                <a:latin typeface="Arial"/>
              </a:rPr>
              <a:t>Rozpis cestovních náhr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3f7e"/>
                </a:solidFill>
                <a:latin typeface="Arial"/>
              </a:rPr>
              <a:t>Odpi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3f7e"/>
                </a:solidFill>
                <a:latin typeface="Arial"/>
              </a:rPr>
              <a:t>Výpisy z bankovního ú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3f7e"/>
                </a:solidFill>
                <a:latin typeface="Arial"/>
              </a:rPr>
              <a:t>Přehled čerpání způsobilých výdajů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3f7e"/>
                </a:solidFill>
                <a:latin typeface="Arial"/>
              </a:rPr>
              <a:t>Auditorská zprá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11426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To jest vše k finanční stránce MZ a souvisejícím dokumentů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219320" y="3200040"/>
            <a:ext cx="670536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3f7e"/>
                </a:solidFill>
                <a:latin typeface="Arial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1. Podpisové vz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d3673"/>
                </a:solidFill>
                <a:latin typeface="Arial"/>
              </a:rPr>
              <a:t>Statutární zástupce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– podepisuje MZ a ZjŽ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d3673"/>
                </a:solidFill>
                <a:latin typeface="Arial"/>
              </a:rPr>
              <a:t>Oprávněná osoba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– osoba oprávněná podepisovat přílohy MZ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event. jednat jménem příjemce, tzn. přebírá oprávnění od statutárního zástupce (podepisuje MZ a ZjŽoP - nutno doložit notářsky ověřenou plnou mocí od statutárního zástup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spcAft>
                <a:spcPts val="451"/>
              </a:spcAft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d3673"/>
                </a:solidFill>
                <a:latin typeface="Arial"/>
              </a:rPr>
              <a:t>Osoba odpovědná za účetní případy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– osoba odpovědná dle vnitřních postupů organizace</a:t>
            </a: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2. Soupiska účetních dokladů</a:t>
            </a:r>
            <a:r>
              <a:rPr b="1" lang="en-US" sz="24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d1131c"/>
                </a:solidFill>
                <a:latin typeface="Arial"/>
              </a:rPr>
              <a:t>(1/2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Pořadové číslo dokladu</a:t>
            </a:r>
            <a:r>
              <a:rPr b="0" lang="en-US" sz="1600" spc="-1" strike="noStrike">
                <a:solidFill>
                  <a:srgbClr val="143f7e"/>
                </a:solidFill>
                <a:latin typeface="Arial"/>
              </a:rPr>
              <a:t> – na každé soupisce vždy znovu od č.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Položka kapitoly rozpočtu projektu</a:t>
            </a:r>
            <a:r>
              <a:rPr b="0" lang="en-US" sz="1600" spc="-1" strike="noStrike">
                <a:solidFill>
                  <a:srgbClr val="143f7e"/>
                </a:solidFill>
                <a:latin typeface="Arial"/>
              </a:rPr>
              <a:t> – musí být totožné s číslem a názvem kapitoly ze schváleného aktuálního rozpočtu projek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Popis výdaje</a:t>
            </a:r>
            <a:r>
              <a:rPr b="0" lang="en-US" sz="24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43f7e"/>
                </a:solidFill>
                <a:latin typeface="Arial"/>
              </a:rPr>
              <a:t>– popis musí jednoznačně identifikovat, že daný výdaj lze hradit z příslušné kapitolu rozpočtu, resp. je způsobilý k financování z OP LZZ (v případě účasti partnerů s finančním příspěvkem vždy uvádět název subjektu, který výdaj uskutečnil nebo lze řešit samostatnou soupiskou vystavenou na každého z partnerů), uvedeny budou i příjmy a to s minus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Částka uvedená na dokladu v Kč</a:t>
            </a:r>
            <a:r>
              <a:rPr b="0" lang="en-US" sz="1600" spc="-1" strike="noStrike">
                <a:solidFill>
                  <a:srgbClr val="143f7e"/>
                </a:solidFill>
                <a:latin typeface="Arial"/>
              </a:rPr>
              <a:t> – celková částka, na kterou je doklad vystaven (tzn. v případě, nárokování jedné položky z vícepoložkové faktury bude uvedena částka celé faktur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Částka zahrnutá k proplacení z OP LZZ v Kč (veřejné zdroje)</a:t>
            </a:r>
            <a:r>
              <a:rPr b="0" lang="en-US" sz="1600" spc="-1" strike="noStrike">
                <a:solidFill>
                  <a:srgbClr val="143f7e"/>
                </a:solidFill>
                <a:latin typeface="Arial"/>
              </a:rPr>
              <a:t> – vyúčtovaná částka připadající na přidělenou dotaci (příjmy s minuse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2. Soupiska účetních dokladů</a:t>
            </a:r>
            <a:r>
              <a:rPr b="1" lang="en-US" sz="24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d1131c"/>
                </a:solidFill>
                <a:latin typeface="Arial"/>
              </a:rPr>
              <a:t>(2/2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 toho částka připadající na investiční výdaje v Kč (veřejné zdroje)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vyplňováno pouze v případě, že se jedná o investiční výdaj (bude uvedena stejná částka jako ve sloupci předchozí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atum úhrady výdaje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datum dle úhrady uvedené na výpisu z bankovního účtu nebo pokladním výdajovém dokla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ruh účetního dokladu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– faktura, pokladní doklad, interní dokl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Číslo účetního dokladu v účetnictv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interní označení dokladu dle evidence organizace (musí být jednoznačně identifikovatelný na projek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Číslo smlouvy (objednávky), ke které se doklad vztahuje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uváděno v případě, že existuje písemná smlouvy či objednáv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řížové financování celkem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– součet částek těch dokladů soupisky, které spadají do kapitol rozpočtu hrazených v rámci křížového financování (kapitola 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rocento nepřímých náklad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Mzdy –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uvést celkovou částku za měsíc dle rozpisu mzdových výdajů (rozpočtová položka bude 0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Kapitola 01 – Osobní ná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3f7e"/>
                </a:solidFill>
                <a:latin typeface="Arial"/>
              </a:rPr>
              <a:t>Výkazy prá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3f7e"/>
                </a:solidFill>
                <a:latin typeface="Arial"/>
              </a:rPr>
              <a:t>Rozpis mzdových nákladů (příloha č. 5 M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3f7e"/>
                </a:solidFill>
                <a:latin typeface="Arial"/>
              </a:rPr>
              <a:t>Kopie výpisu z bankovního účtu (nutná identifikace plate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Kapitola 02 –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3f7e"/>
                </a:solidFill>
                <a:latin typeface="Arial"/>
              </a:rPr>
              <a:t>Pouze kopie dokladů na částku vyšší jak 10.000,00 Kč (i v případě, že je v rámci dokladu nárokována částka nižší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3f7e"/>
                </a:solidFill>
                <a:latin typeface="Arial"/>
              </a:rPr>
              <a:t>Rozpis cestovních náhrad (příloha č. 6 M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3f7e"/>
                </a:solidFill>
                <a:latin typeface="Arial"/>
              </a:rPr>
              <a:t>Odpisy (příloha č. 7 M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3f7e"/>
                </a:solidFill>
                <a:latin typeface="Arial"/>
              </a:rPr>
              <a:t>Doklady v částce 10.000,00 Kč a nižší mohou být vyžádány při administrativní kontrole či kontrole na míst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3f7e"/>
                </a:solidFill>
                <a:latin typeface="Arial"/>
              </a:rPr>
              <a:t>Podklady k provedeným výběrovým řízením, smlouvy, objednávky (pouze jednou, při prvním nárokování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3f7e"/>
                </a:solidFill>
                <a:latin typeface="Arial"/>
              </a:rPr>
              <a:t>Kopie výpisu z bankovního účtu (nutná identifikace plate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3. Předkládané účetní doklady </a:t>
            </a:r>
            <a:r>
              <a:rPr b="1" lang="cs-CZ" sz="2000" spc="-1" strike="noStrike">
                <a:solidFill>
                  <a:srgbClr val="d1131c"/>
                </a:solidFill>
                <a:latin typeface="Arial"/>
              </a:rPr>
              <a:t>(1/2)</a:t>
            </a:r>
            <a:br>
              <a:rPr sz="20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polu se ZjŽ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eškeré podklady k jednoznačnému prokázání způsobilosti uskutečněného výd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apitola 01 – Osobní ná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Originály veškerých dokladů (zejména doklady, které nebyly součástí předložené ZjŽ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racovní smlouv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Mzdové lis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ýplatní pás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apitola 02 –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Originály veškerých dokladů (zejména doklady, které nebyly součástí předložené ZjŽoP – např. doklady v částce 10.000,00 Kč a nižší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Cestovní příkazy, pozvánky, prezenční listiny, knihy jízd, účetní evidence at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3. Předkládané účetní doklady </a:t>
            </a:r>
            <a:r>
              <a:rPr b="1" lang="en-US" sz="2000" spc="-1" strike="noStrike">
                <a:solidFill>
                  <a:srgbClr val="d1131c"/>
                </a:solidFill>
                <a:latin typeface="Arial"/>
              </a:rPr>
              <a:t>(2/2)</a:t>
            </a:r>
            <a:br>
              <a:rPr sz="2000"/>
            </a:b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na vyžádání či kontrole na mís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4. Pracovní výkazy </a:t>
            </a:r>
            <a:r>
              <a:rPr b="1" lang="en-US" sz="2000" spc="-1" strike="noStrike">
                <a:solidFill>
                  <a:srgbClr val="d1131c"/>
                </a:solidFill>
                <a:latin typeface="Arial"/>
              </a:rPr>
              <a:t>(1/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ztažen vždy ke smlouvě s pracovní náplní pro proje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ro každého pracovníka (položka v rozpočtu) a měsíc jeden výkaz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Role v projektu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– název a číslo pozice dle rozpočtu projek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ruh pracovního poměru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pracovní smlouva, dohoda o pracovní činnosti, dohoda o provedení prá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ýše úvazku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výše úvazku dle smlouvy/dohody (v hodinách či podíle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Úvazek v dalších projektech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úvazky na jiných projektech ESF vč. uvedení čísla projektu a úvazku připadající na každý z projekt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d3673"/>
                </a:solidFill>
                <a:latin typeface="Arial"/>
              </a:rPr>
              <a:t>Počet odpracovaných hodin u zaměstnavatele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– celkově odpracované hodiny u zaměstnavatele vážící se k dané pracovní smlouvě (vč. poměrné části dle úvazku připadající na státní svátky, neuvádí se dovolená a nemo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- z toho pro projekt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z toho odpracované hodiny pro projekt na dané smlouv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pis vykonávaných aktivit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podrobně (nestačí pouze „administrativní práce“), musí být zřejmá souvislost s aktivitami projek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4. Pracovní výkazy </a:t>
            </a:r>
            <a:r>
              <a:rPr b="1" lang="en-US" sz="2000" spc="-1" strike="noStrike">
                <a:solidFill>
                  <a:srgbClr val="d1131c"/>
                </a:solidFill>
                <a:latin typeface="Arial"/>
              </a:rPr>
              <a:t>(2/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Počet hodin dovolené celkem </a:t>
            </a:r>
            <a:r>
              <a:rPr b="0" lang="en-US" sz="1600" spc="-1" strike="noStrike">
                <a:solidFill>
                  <a:srgbClr val="143f7e"/>
                </a:solidFill>
                <a:latin typeface="Arial"/>
              </a:rPr>
              <a:t>– údaj vč. dovolené nepřipadající na projek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Počet hodin dovolené odpovídajících zapojení do projektu</a:t>
            </a:r>
            <a:r>
              <a:rPr b="0" lang="en-US" sz="1600" spc="-1" strike="noStrike">
                <a:solidFill>
                  <a:srgbClr val="143f7e"/>
                </a:solidFill>
                <a:latin typeface="Arial"/>
              </a:rPr>
              <a:t> – údaj o výši dovolené připadající na projekt (musí odpovídat poměrné výši úvazku pro projek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3673"/>
                </a:solidFill>
                <a:latin typeface="Arial"/>
              </a:rPr>
              <a:t>Počet hodin pracovní neschopnosti celkem </a:t>
            </a:r>
            <a:r>
              <a:rPr b="0" lang="en-US" sz="1600" spc="-1" strike="noStrike">
                <a:solidFill>
                  <a:srgbClr val="0d3673"/>
                </a:solidFill>
                <a:latin typeface="Arial"/>
              </a:rPr>
              <a:t>– údaj vč. pracovní neschopnosti nepřipadající na projek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3673"/>
                </a:solidFill>
                <a:latin typeface="Arial"/>
              </a:rPr>
              <a:t>Počet hodin pracovní neschopnosti odpovídajících zapojení do projektu</a:t>
            </a:r>
            <a:r>
              <a:rPr b="0" lang="en-US" sz="1600" spc="-1" strike="noStrike">
                <a:solidFill>
                  <a:srgbClr val="0d3673"/>
                </a:solidFill>
                <a:latin typeface="Arial"/>
              </a:rPr>
              <a:t> – údaj o výši pracovní neschopnosti připadající na projekt (musí odpovídat poměrné výši úvazku pro projek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3673"/>
                </a:solidFill>
                <a:latin typeface="Arial"/>
              </a:rPr>
              <a:t>Celkem hodin </a:t>
            </a:r>
            <a:r>
              <a:rPr b="0" lang="en-US" sz="1600" spc="-1" strike="noStrike">
                <a:solidFill>
                  <a:srgbClr val="0d3673"/>
                </a:solidFill>
                <a:latin typeface="Arial"/>
              </a:rPr>
              <a:t>– automatický součet hodin připadajících na danou pracovní smlouvu u zaměstnavatele (odpracované + dovolená + pracovní neschopnost), tento údaj bude dále uveden v příloze č. 5 M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3673"/>
                </a:solidFill>
                <a:latin typeface="Arial"/>
              </a:rPr>
              <a:t>- z toho součet hodin souvisejících s projektem</a:t>
            </a:r>
            <a:r>
              <a:rPr b="0" lang="en-US" sz="1600" spc="-1" strike="noStrike">
                <a:solidFill>
                  <a:srgbClr val="143f7e"/>
                </a:solidFill>
                <a:latin typeface="Arial"/>
              </a:rPr>
              <a:t> – automatický součet hodin připadajících z dané smlouvy na projekt (odpracované + dovolená + pracovní neschopnost), tento údaj bude dále uveden v příloze č. 5 MZ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TruneckovaL</cp:lastModifiedBy>
  <dcterms:modified xsi:type="dcterms:W3CDTF">2010-10-05T14:04:11Z</dcterms:modified>
  <cp:revision>267</cp:revision>
  <dc:subject/>
  <dc:title>Snímek 1</dc:title>
</cp:coreProperties>
</file>