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B79-7CE2-4385-9484-7A6CF962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A18-5648-41EC-A83A-6132EB1D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4E4-E722-41A1-820F-978B8D55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402-969B-42CA-97F7-43CABD1D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D2C-2BAF-46C5-A14E-61C768D1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FCE-2B51-434C-A274-1DED0B98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422E-269C-4AF7-A627-08E5A45D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213-B8E8-4454-B98A-F0BD37E8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68A-D77C-4832-B324-C799C958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073-21E5-4FAE-8DCE-AAB8B156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0BF-197C-4258-9F88-8678DBDE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7DE-4F18-4AB8-9BDB-A2F4D8EE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507B-2E2B-467C-B817-8F2CA90A2EE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en-US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Seminář pro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a předává jej kontrolované osobě k podpisu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obsahuje seznam uložených nápravných opatření, vč. lhůty k jejich odstra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d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roti rozhodnutí o námitkách není opravný prostředek přípustný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porušení rozpočtové kázně</a:t>
            </a: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 poradenství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tvořeným pracovním místům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hlášení podezření na nesrovnalost Řídícímu orgá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aM</cp:lastModifiedBy>
  <dcterms:modified xsi:type="dcterms:W3CDTF">2010-06-17T14:42:41Z</dcterms:modified>
  <cp:revision>265</cp:revision>
  <dc:subject/>
  <dc:title>Snímek 1</dc:title>
</cp:coreProperties>
</file>