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DE2-B264-475D-9423-B80B6D2C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BC0-9A75-4981-8528-6A587049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746-08CE-4C05-A009-03C7D9C5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12F-E149-434C-9F3F-EA747E4A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5F0-62A5-4A14-B21D-CACFB888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7CD-E725-4AEF-BBB4-08F25984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DDD-C9EB-43FA-B5FE-0A80DD44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806-337E-463D-95FE-A933ADDF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0D5-2D2A-431C-A551-FF9E7AB6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B4C-81C4-4AD2-A021-C04B6AD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C4A-C8AC-472D-94B0-3624080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9FC-8F14-403A-806E-8F114162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01C3-05F8-4218-BF01-C8A8E3B1D5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mailto:esf@mpsv.cz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mailto:esf@mpsv.cz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rezentace n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na stránkách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Přidat zadávací řízení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en-US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en-US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en-US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en-US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aM</cp:lastModifiedBy>
  <dcterms:modified xsi:type="dcterms:W3CDTF">2010-06-17T14:43:16Z</dcterms:modified>
  <cp:revision>265</cp:revision>
  <dc:subject/>
  <dc:title>Snímek 1</dc:title>
</cp:coreProperties>
</file>