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EB4-7444-402A-829D-1584A1FA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AF8-E335-4D53-A05D-B7F16BD8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470-FB3F-4C62-BBE1-73CD3ECF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227-18BE-48DD-AEE4-9A1C627B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97B-2E3D-4CF2-ADA3-67564F84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8FD-44BD-458C-84EC-A215E206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2E0-0E8F-4D2C-803B-7C08CA5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D8A-2222-492B-B9A3-7D6F54AB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EFD-7D3F-4A62-AFDC-DE573488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56F-3FA2-4166-B589-2742FD7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090-0D99-4CC6-8B76-98BB0B8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D02-C465-43E7-B5D8-3AFB113A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880-A42D-469D-BCDF-285E9D354B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adávání zakázek</a:t>
            </a: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 </a:t>
            </a:r>
            <a:br>
              <a:rPr sz="3200"/>
            </a:br>
            <a:br>
              <a:rPr sz="900"/>
            </a:b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 rámci projektů </a:t>
            </a:r>
            <a:br>
              <a:rPr sz="2000"/>
            </a:b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peračního programu Lidské zdroje a zaměstna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Seminář pro příjem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ředmětem zakázky </a:t>
            </a:r>
            <a:r>
              <a:rPr b="0" lang="en-US" sz="3200" spc="-1" strike="noStrike">
                <a:solidFill>
                  <a:srgbClr val="14407e"/>
                </a:solidFill>
                <a:latin typeface="Arial"/>
              </a:rPr>
              <a:t>je zadavatelem požadované plnění tzn. poptávané služby, zboží nebo stavební prá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ředmětem jedné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jsou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šechna obdobná a spolu související plnění, která zadavatel zamýšlí zadat v rámci jednoho  účetního obdob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V případě, že mezi plněními existuje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místní, věcná a časová souvislost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jsou předmětem jedné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šechna obdobná a spolu související plnění, která zadavatel zamýšlí zadat v rámci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 účely zjištění závazného postupu zadávání zakázky je zadavatel povinen stanovi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ředpokládanou hodnotu zakáz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edpokládaná hodnota zakázky představuje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předpokládanou výši zadavatelova peněžitého závazku odpovídajícího poskytnutému pl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stanovení předpokládané hodnoty zakázky je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ždy rozhodná cena bez DPH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a to cena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ke dni odeslání či uveřejnění výzv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k podání nabíd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je přitom povinen vzít v úvahu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šechna obdobná, spolu související plně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která zamýšlí pořídit v průběhu jednoho účetního období resp. realizace projektu, a tato plnění sečí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stanovení předpokládané hodnoty je dále zadavatel povi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ycházet z ceny zakázek s obdobným pln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má-li zadavatel k dispozici takové údaje, je nezbytné, aby před zahájením výběru dodavatele provedl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růzkum cen v místě plnění zaká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ředmět zakázky a předpokládaná hodnota, kap. 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nesmí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rozdělit předmět zakázky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na menší zakázky s cílem snížit předpokládanou hodnotu zakázky pod limity stanovené pro jednotlivé postupy (kap. 2.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kázáno není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rozdělení veřejné zakázku na části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zadává se jedna vnitřně dělená zakázka, nabídky pro jednotlivé části jsou posuzovány samostatně, výsledkem může být zadání jednotlivých částí různým dodavatelů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může rozdělit předmět zakázky do více zakázek za předpoklad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, že při zadání každé takové zakázky použije postup stanovený pro zakázky s předpokládanou hodnotou odpovídající součtu předpokládaných hodnot všech takto vzniklých zakáz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ostupy při zadávání zakázek podle předpokládané hodnoty, kap. 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kázky se podle předpokládané hodnoty rozdělují na zakáz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do 2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200 000 Kč včetně do 8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800 000 Kč včetně do 2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d 2 000 000 Kč vý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do 200 000 Kč, kap. 2.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davatel nemá povinnost provádět výběrové 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stačí výzva k předložení nabíd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vhodnému dodavateli (zadavatel vymezí požadované plnění a další podmínky, dodavatel podá cenovou nabídku), příp.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bjednávka vhodnému dodavateli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Výzvu i objednávku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sílá doporučeným dopisem nebo elektronicky nebo doručeny osobně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proti písemnému potvrzení dodavatele o převzet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 předpokládanou hodnotu zakázky se považuje sjednaná cena (bez DP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uzavř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ísemnou smlouv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nebo odešle písemná objednávku, která musí být písemně potvrzená dodavate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je povinen dodržet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ásady uvedené v kap.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do 200 000 Kč kap. 2.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ákup zboží v obchod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ři nákupu drobných položek v obchodě s cenou nepřesahující 5 000 Kč (včetně DPH) postačí doložit paragon z obchodu (tj. stvrzenka o nákupu) s doplněnými náležitostmi účetního dokladu dle zákona č. 563/1991 Sb., o účetnictví nebo paragon z obchodu a výdajový pokladní doklad zadavatele, které spolu tvoří jeden účetní dokl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Zadávání zakázek od 200 000 do 800 000 Kč, kap. 2.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á výzva k podání nabídky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3 vhodným dodavatelům, výzva musí naplňovat požadavky kap. 2.4 (viz níž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nesmí zásadně vyzývat opakovaně stejný okruh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odepsaná výzva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musí být zaslána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doporučeným dopisem nebo elektronicky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e-mailem s doručenk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– alespoň 10 d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osoba k uchazečům nestranná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ameny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Metodický pokyn pro zadávání zakázek v OP LZ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(nyní ve verzi 1.3; jako příručka D9 součástí tzv. Desatera OP LZ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kon č. 137/2006 Sb., o veřejných zakáz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800 000 do 2 000 000 Kč, kap. 2.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Uveřejnění výzvy k podání nabídk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po dobu 15 dnů. Zadavatel využije on-line formulář dostupný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tvrdí žádost o uveřejnění výzvy odesláním naskenovaného vyplněného a podepsaného formuláře na adresu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esfzakazky@mpsv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ýzva musí naplňovat požadavky kap. 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nesmí skončit před uplynutím minimální doby pro uveřejn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alespoň tříčlenná hodnotící komise. Členové komis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k uchazečům nestranní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. Alespoň jeden člen s odbornou kvalifikací nebo zkušeností odpovídající povaze předmětu zaká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800 000 do 2 000 000 Kč, kap. 2.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 uzavření smlouvy s vybraným dodavatelem zašle    on-line formulář „Výsledek zadávacího řízení“ k uveřejnění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sfcr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á výzva k podání nabídky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5 vhodným dodavatelům, výzva musí naplňovat požadavky kap. 2.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nesmí zásadně vyzývat opakovaně stejný okruh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roveň zadavatel uveřejní výzvu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alespoň po dobu 15 dnů. Zadavatel využije on-line formulář dostupný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tvrdí žádost o uveřejnění výzvy odesláním naskenovaného vyplněného a podepsaného formuláře na adresu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esfzakazky@mpsv.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Lhůta pro podání nabídek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nesmí skončit před uplynutím minimální doby pro uveřejn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tevírání obálek s nabídkami, posouzení úplnosti a hodnocení nabídek - provádí alespoň pětičlenná hodnotící komise. Členové komis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k uchazečům nestranní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čestné prohl.). Alespoň jeden člen s odbornou kvalifikací nebo zkušeností odpovídající povaze předmětu zakáz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je povinen prokazatelně zaslat poskytovateli písemnou nebo elektronickou, pozvánku na jednání hodnotící komise, a to nejpozději 7 kalendářních dnů před jeho koná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uzavírá s dodavatele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ísemnou smlouv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Zadávání zakázek od 2 000 000 Kč výše,</a:t>
            </a:r>
            <a:br>
              <a:rPr sz="2800"/>
            </a:b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ap. 2.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zpracuje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ápis o posouzení a hodnocení nabídek 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– doporučující vzor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 záložce „Přidat zadávací říze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dává nevyloučeným uchazečům 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informaci o výsledku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výb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avatel po uzavření smlouvy s vybraným dodavatelem zašle    on-line formulář „Výsledek zadávacího řízení“ k uveřejnění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ýzva k předložení nabídky, kap.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Náležitosti výzvy uvedené v kap. 2.4 jsou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ávazné pro zadávání zakázek s předpokládanou hodnotou 200 000 Kč a víc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zakázky zadávané postupy podle kap. 2.3.2, 2.3.3 a 2.3.4), je možné je využít i pro zadání zakázky podle kap. 2.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vinné náležitosti výz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identifikace zakázky, zadavatele a jeho kontaktní os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místo a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lhůta pro podávání nabídek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musí být dostatečná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vzhledem k předmětu zakáz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pis předmětu zakázky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dostatečně přes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žadavek na písemnou formu nabídky a podpis nabí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žadavek na jazyk nabí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žadavky na prokázání kvalifikace uchazeč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– liší se podle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ředpokládané hodnoty zakáz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Výzva k předložení nabídky, kap.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ředpokládaná hodnotu zak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ožadavek na uvedení kontaktní osoby uchazeče do nabí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lhůtu dodání / časový harmonogram plnění / dobu trvání zakázky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a místo dodání / převzetí pl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1" lang="en-US" sz="1800" spc="-1" strike="noStrike" u="sng">
                <a:solidFill>
                  <a:srgbClr val="14407e"/>
                </a:solidFill>
                <a:uFillTx/>
                <a:latin typeface="Arial"/>
              </a:rPr>
              <a:t>hodnotící kritéria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 – jedním z kritérií musí být vždy cena, kritéria musí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být vždy dostatečně přesně popsána, a to včetně metody a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způsobu hodnocení nabídek podle těchto hodnotících kritérií tak,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aby bylo uchazečům zřejmé, jaké parametry nabídky bude v 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4407e"/>
                </a:solidFill>
                <a:latin typeface="Arial"/>
              </a:rPr>
              <a:t>daném kritériu hodnotit zadavatel jako nejvýhodněj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povinnost dodavatele strpět kontrolu osobami oprávněnými k výkonu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kontrol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informace o tom, že se nejedná o zadávací řízení dle zákona o veřejných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zakáz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14407e"/>
                </a:solidFill>
                <a:latin typeface="Arial"/>
              </a:rPr>
              <a:t>informační povinnost dle Manuálu pro publicitu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osouz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Ustanovení kapitoly 2.5 povinné pro zakázky s předpokládanou hodnotou 200 000  Kč a ví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 uplynutí lhůt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ro podávání nabídek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tevřít obálk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se včas doručenými nabídkami =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&gt; 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nabídkám přiřadit čísla a do Zápisu o posouzení a hodnocení nabídek uvést datum a čas doručení nabí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abídka doručená po uplynutí lhůty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pro podávání nabídek se neotevírá a nehodnotí (o tom zadavatel vyrozumí uchazeče dopisem nebo elektronic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Posouz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 otevření obálek se proved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souzení úplnosti nabí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nabídka nesplňuj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šechny požadav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stanovené zadavatelem, jedná se o nabídku neúpl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ýjimka -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neúplnou nabídkou nen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abídka, která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esplňuje čistě formální požadavky zadavatele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, které nemají vliv na transparentnost výběrového řízení (např. požadavek na počet kopií nabídky, požadavek na pořadí částí nabídky, požadavek na podpis statutárního orgánu – postačí podpis osoby oprávněné jedna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může elektronicky požádat uchazeče o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doplnění neúplné nabídky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v dodatečné 48 hodinové lhůtě. Dodržet princip rovného zacházení. Nelze doplňovat či měnit nabízené plnění, nabídkovou cenu nebo složení realizačního tý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Hodnoc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Hodnotit nelze neúplné nabídky (zadavatel informuje uchazeče, který podal neúplnou nabídk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byla doručena pouze jedna nabídka – hodnocení se neprovád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Hodnotí se pomocí hodnotících kritérií, kterým jsou přiřazeny váhy vyjádřené v procentech podle jejich důležitosti, přičemž součet vah musí tvořit 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buď pomoc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jednoho kritéri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, kterým j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vhodné spíše u pořizování zboží, nezbytnost přesné specifikace požadovaného plnění) neb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íce kritérií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– jedním z nich musí být vždy cena, další kritéria např. způsob poskytování požadované služby, metodologie, případová studie vztahující se k plnění, délka záruky, výše smluvní pokuty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Hodnotícími kritérii nemohou být kritéria odpovídající požadavkům na prokázání kvalifikace uchaze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Oblast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Stanovená pravidla výběru dodavatele se vztahují na jakékoli úplatné pořízení zboží, služeb nebo stavebních prací hrazených alespoň částečně z prostředků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ýjimka: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zboží, služby nebo stavební práce pořízené v rámci tzv. nepřímých náklad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Hodnocení nabídek, kap.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 posouzení úplnosti a hodnocení musí být sepsán a podepsán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pis o posouzení a hodnocení nabídek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Číselná kritéria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e hodnotí podle jednoho ze vzorců uvedených v kap. 2.5 (cena, doba dodání, doba záru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 hodnocení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subjektivních (nečíselných) kritéri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e použije bodová stupnice 1 až 100. Nejvhodnější nabídce je přiřazena hodnota 100 bodů, ostatním body odpovídající porovnání s nejvhodnější nabídkou v daném kritériu.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Hodnotitelé jsou povinni do zápisu dostatečně zdůvodnit své hodnocení tak, aby bylo jejich hodnocení přezkoumatel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Smlouva s dodavatelem, kap.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uzavírá smlouvu zásadně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s uchazečem, který podal vítěznou nabídk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Zadavatel nesmí uzavřít smlouvu s uchazečem, jehož nabídka je podána v rozporu se zákazem zadat zakázku určitým kategoriím os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Smlouva musí mít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ísemnou form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(výjimka – nákup drobných položek v obchodě) a musí obsahovat alespoň tyto náležitos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Identifikační údaje stran smlou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ředmět plnění (pořizovaného zboží, služby nebo stavební prá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Cenu s DPH a sazbu DPH (příp. informaci, že dodavatel není plátcem DP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latební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Smlouva s dodavatelem, kap.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Lhůtu dodání nebo harmonogram plnění a místo dodání / převzetí zboží nebo výstupu 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vinnost dodavatele umožnit osobám oprávněným k výkonu kontroly projektu, z něhož je zakázka hrazena, provést kontrolu těchto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Smluvní podmínky nesmí být v rozporu s výzvou, se zadávací dokumentací, ani s nabídkou vybraného dodava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rušení zadávacího řízení, kap. 2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avatel je povinen resp. oprávněn zrušit zadávací řízení jen z důvodů a za podmínek uvedených v kap. 2.7, nejpozději však do okamžiku uzavření smlou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Důvody obligatorního zruš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žádné nabídky, pouze neúplné nabídky, vážné nesrovnalosti ve výzvě resp. v zadávací dokumentaci, smlouvu neuzavřel ani třetí uchazeč v pořa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Důvody fakultativního zruš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důvody zvláštního zřetele hodné, pro které nelze v řízení pokračovat, vítězný uchazeč příp. uchazeč druhý v pořadí neuzavřel smlouvu, zadavateli byla doručena pouze jedna nabíd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vláštní způsoby zadání zakázky, kap 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nedostatečný počet dod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davateli byla doručena pouze jedna nabí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elektronické tržiště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pro státní orgá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dříve uzavřené smlouvy 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první dva odstavce upravují postup pro zakázky zadané před zahájením realizace projektu, třetí odstavec upravuje podmínky využití dlouhodobých smluv uzavřených alespoň 6 měsíců před zahájením realiz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akázky odpovídající výjimkám ze zákona </a:t>
            </a:r>
            <a:r>
              <a:rPr b="0" i="1" lang="en-US" sz="2000" spc="-1" strike="noStrike">
                <a:solidFill>
                  <a:srgbClr val="14407e"/>
                </a:solidFill>
                <a:latin typeface="Arial"/>
              </a:rPr>
              <a:t>(např. nájem existujících nemovitos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Doplňující povinnosti k zakázkám zadávaným podle zákona, kap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edle zákonných požadavků musí zadavatel dodržet i následující povin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Oznámení resp. výzva o zahájení zadávacího řízení musí být zveřejněny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on-line formulá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Výsledek zadávacího řízení musí být uveřejněn na web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z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(on-line formulá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Zadávací dokumentace a následně i smlouva uzavřená s dodavatelem musí obsahovat povinnost dodavatele umožnit osobám oprávněným k výkonu kontroly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Ustanovení kapitoly 2.8.4. (Dříve uzavřené smlouvy) platí obdobně i pro veřejné zakázky zadávané postupy podle zákona, za předpokladu, že byla smlouva uzavřena na základě zákona č. 40/2004 Sb. nebo zákona č. 137/2006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Pokud zadavatel použil poskytnuté veřejné prostředky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 rozporu s některým z pravidel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uvedených v Metodickém pokynu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je jeho jednání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orušením rozpočtové kázně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a nese s sebou zákonem předvídané násled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ŘO OP LZZ doporučuje při zadávání zakázek postupovat krok po kroku podle Metodického pokynu, aby se příjemce vyvaroval porušení některého z pravi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Výzva pro předkládání nabídek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musí být naformulována tak, aby nepřipouštěla více výkladů uchazečů a zabránilo se podání případných neporovnatelným nabídká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Hodnotící kritéria</a:t>
            </a: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 musí být nastavena tak, aby byli uchazeči schopni posoudit, jakou nabídku bude zadavatel považovat za nabídku nejvhodně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d1131c"/>
                </a:solidFill>
                <a:uFillTx/>
                <a:latin typeface="Arial"/>
              </a:rPr>
              <a:t>esf@mpsv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y, které je zadavatel povinen při zadávání dodrž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zbytnost plnění pro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hospodárnost, efektivita a účelnost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ací zásady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transparentnosti, nediskriminace a rovného zacházení s uchaz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oporc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akceptace kvalifikačních dokladů z jiných států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rincipy Smlouvy o ES: volného pohybu osob, zboží a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nemožnost zadat zakázku určitým kategoriím oso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transparentnosti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spočívá v zajištění co největší průhlednost řízení, která umožní přezkoumání celého zadávacího řízení a kontrolu postupu zadavate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o všech významných úkonech pořizovat a uchováva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písemnou dokument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jasně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vymezit hodnotící kritéria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v dostatečném předstihu před samotným vypracováním nabí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všechna rozhodnutí opatřit 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řádným odůvodn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rovného zacházení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každý zadavatel je již od okamžiku přípravy řízení, povinen přistupovat stejným způsobem ke všem dodavatelům, kteří mohou podat či podávají nabídky. Zadavatel je povinen přesně definovat podmínky zadávacího říz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ásada nediskriminace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– zadavatel je povinen v průběhu zadávání zakázky postupovat vždy tak, aby jeho jednáním nedošlo k diskriminaci žádného z dodavatelů. Podmínky pro zadání zakázky musí být stanoveny tak, aby umožňovaly výběr nejvhodnějšího dodavatele a zároveň neodůvodněně neuzavíraly přístup jinému dodavateli do říz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Principy, kap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možnost zadat zakázku určitým kategoriím o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a platí pouze pro zakázky zadávané postupy mimo režim zákona č. 137/2006 Sb., o veřejných zakáz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městnanci zadavatele, členové realizačního týmu projektu  a osoby, které se ve prospěch zadavatele podíleli na přípravě nebo zadávání předmětné zakázky, se nesmí podílet na zpracování nabídky, nesmí podat nabídku a být tak uchazečem o zakázku či uchazečem ve sdružení ani působit jako subdodavat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Rozdělení zakázek podle závazných po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Postupy zadávání zakázek realizovaných v rámci projektů OP LZZ se děl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ání zakázek, na které se nevztahují postupy upravené zákonem o veřejných zakázkách (kap. 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adávání veřejných zakázek postupy podle zákona o veřejných zakázkách (doplněných o povinnosti uvedené v kap. 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Obsahem dalšího výkladu budou zakázky zadávané mimo režim zákona tj. zakázky podle kap. 2 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131c"/>
                </a:solidFill>
                <a:latin typeface="Arial"/>
              </a:rPr>
              <a:t>Rozdělení zakázek podle závazných po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Do kategorie zakázek zadávaných postupy podle kap. 2 Metodického pokynu patř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zásadně všechny zakázky zadavatelů, kteří patří mezi soukromé zadavatele 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bez ohledu na jejich předpokládanou hodnot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; výjimky viz kap. 2.1 Metodického poky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veřejné zakázky malého rozsahu</a:t>
            </a:r>
            <a:r>
              <a:rPr b="0" lang="en-US" sz="2400" spc="-1" strike="noStrike">
                <a:solidFill>
                  <a:srgbClr val="14407e"/>
                </a:solidFill>
                <a:latin typeface="Arial"/>
              </a:rPr>
              <a:t> zadávané veřejnými zadavateli (resp. VZMR a podlimitní zakázky sektorových a tzv. dotovaných zadavatelů uvedených     v § 2 zákona o veřejných zakázká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elohradP</cp:lastModifiedBy>
  <dcterms:modified xsi:type="dcterms:W3CDTF">2010-10-04T11:04:38Z</dcterms:modified>
  <cp:revision>38</cp:revision>
  <dc:subject/>
  <dc:title>Snímek 1</dc:title>
</cp:coreProperties>
</file>