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420-CBAA-4DF9-B857-8808F1F7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311-BDB5-42E5-91BB-8C5A9C1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487-AB07-4D74-99CD-849285A1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C34-957B-4A4F-B6F2-8133F957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13B-CF04-438B-A71F-8A69FFDE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D53-0F5E-4862-8F19-963C5ECA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ED1-59E2-44C4-B83E-28E352B2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742-91A8-49C3-BBEB-50D12C8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407-F719-4944-B316-99768271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568-26E8-4AED-AD53-C8449A9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68A-871E-42A4-8B6A-1BB78076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201-01B4-4391-905D-2F2612E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C1E-0D53-4C7A-816E-5BCD477762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218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A</a:t>
            </a:r>
            <a:br>
              <a:rPr sz="3200"/>
            </a:b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MZ)</a:t>
            </a:r>
            <a:br>
              <a:rPr sz="20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JEDNODUŠENÁ ŽÁDOST O PLATBU </a:t>
            </a: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ZjŽoP)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11280" y="3284640"/>
            <a:ext cx="8218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68360" y="450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Přílohy 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Zjednodušená žádost o platbu (ZjŽ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Vyúčtování dotace dle vyhlášky MF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5. Rozpis mzdových náklad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ro každý měsíc jeden roz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íslo položky rozpočtu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musí odpovídat položce platné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Druh pracovněprávního vztah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rozlišeno dle toho, zda zaměstnavatel za zaměstnance hradí sociální a zdravotní pojištění (PS, DPČ x DP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Zúčtovaná hrubá mzda v daném měsíci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dle výplatní pásky (tj. vč. odměn a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příplatků, dovolené, nejsou zahrnuty nemocenské dáv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Měsíční fond pracovní doby v hodinách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 – časový fond u zaměstnavatele v daném měsíci celkem (vč. hodin mimo projekt) na dané smlouvě (údaj z výkazu práce „Celkem hodin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odpracovaných hodin na projektu dle výkazu práce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údaj o počtu hodin připadajících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na projekt (jedná se o údaj z výkazu práce „- z toho součet hodin souvisejících s projektem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5. Rozpis mzdových náklad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é (odvádí se z nich odvody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alší výdaje, ze kterých odvádí zaměstnavatel za zaměstnance odvody, event. ponížení zúčtované hrubé mz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dový příspěve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zúčtované hrubé mzdy připadající na projekt (součinem průměrné hodinové mzdy v měsíci a počtu hodin připadajících na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jistné na sociální a zdravotní pojišt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pojistného hrazeného zaměstnavatelem (PS, DPČ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Jiné (neodvádí se z nich odvody)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- výdaje, které nejsou zahrnuty v zúčtované hrubé mzdě (poměrná část nemocenských dávek, slevy na pojistném s minusem a dal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ůsobilé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„superhrubé“ mzdy připadající na projekt (tj. vč. odvodů na soc. a zdr. poj. hrazené zaměstnavatel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tum uskutečnění úhrady mz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le výpisu z bankovního účtu, poklad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6. Rozpis cesto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položky rozpoč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- musí odpovídat položce platné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čel pracovní ces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pis musí jednoznačně prokázat souvislost cesty s aktivitami projektu (náklady spojené s vnitrostátními pracovními cestami patří do nepřímých nákladů – zde tedy nebudou vykazová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acovní ces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rozlišení tuzemské (T) a zahraniční (Z) služební ce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kutečné výdaje na pracovní ces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ýše způsobilých výdajů vynaložených na pracovní cestu v souladu se zákoníkem práce a vyhláškou MPSV a MF upravující sazby náhrad pro aktuální rok. V případě zahraničních expertů v ČR se uplatňují náhrady, tzv. „per diems“. Eventuelně další prokázané nutné vedlejší výdaje (telefon, parkovné atd.). Výpočet bude vycházet z vyúčtování schváleného cestovního příka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7. Odp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ňová odpisová skupi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le zákona o dani z příj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řizovací ce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částka pod kterou je majetek vedený v účetní evidenci (tj. cena včetně nákladů souvisejících s pořízení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ročního odpi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ypočet dle sazeb uvedených v zákoně o dani z příj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dní v roce, po které byl majetek v užívá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čet dní, po které byl majetek zařazen v účetní evidenci (bez ohledu na to, zda byl využíván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dní, po které byl majetek používán pro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čet dní, po které byl majetek zařazen v účetní evidenci a zároveň využíván pro projekt (v případě částečného využívání je nutné počet dní alikvótně poníž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pis, který přísluší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výše odpisu způsobilého pro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8. Výpisy z bankovního ú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Minimálně 1 kopie výpisu měsí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Elektronické výpisy musí být podepsány osobou uvedenou na podpisovém vzoru (příloha č. 1 M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daje musí být jednoznačně identifikovatelné na soupisku doklad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(pořadové číslo dokladu event. jiné průkazné ozna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daje nesouvisející s projektem mohou být znečiteln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speciálního účtu pro projekt je možné z tohoto účtu realizovat pouze výdaje související s 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speciálního účtu pro projekt jsou úroky příjmem projektu, které snižují způsobilé výdaj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9. Přehled čerpání způsobilých výdaj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výdajů rozpoč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ožka rozpočtu (číslo + náz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atný rozpoč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- Upravený příjemcem (přesun ze zdrojové kapitoly do 15-ti % původní výše rozpočtu kapitoly schválené v právním aktu o poskytnutí podp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- Schválený poskytovatelem (přesun ze zdrojové kapitoly nad 15 % původní výše rozpočtu kapitoly schválené v právním aktu o poskytnutí podp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sud prokázané výdaje (veřejné + soukromé) –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Vyúčtované výdaje schválené poskytovatelem za předcházející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ktuálně prokazované výdaje (veřejné + soukromé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Vyúčtované výdaje předkládané v aktuální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řadová čísla účetních dokladů na soupis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Čísla dokladů z aktuálně předkládané ZjŽoP (např. 52 – 6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9. Přehled čerpání způsobilých výdajů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římé způsobilé náklady celkem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automatický součet přímých výdaj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říjmy projektu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plánované či neplánované příjmy projektu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Nepřímé 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automatický výpočet částky nepřímých nákla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Celkové 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součet přímých způsobilých a nepřímých způsobilých nákla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Spolufinancování příjemcem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částka připadající na povinné spolufinancování žadatelem (soukromé spolufinanc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Celkové ne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výdaje neoprávněně nárokované a krácené v dřívějších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10. Auditorská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vinně grantové projekty od 3 mil. CZK výše, nebo projekty, u kterých toto stanoví poskytovatel v právním aktu o poskytnutí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ána pouze se závěrečnou monitorovací zprá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Nejpozději 7 měsíců před ukončením projektu uzavřít smlouvu s audit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Náležitosti zprávy dle § 14, zákona č. 254/2000 Sb., o audito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jednodušená žádost o platbu (ZjŽ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kládána za každých šest měsíců (1-6, 7-12, 13-18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Tvořena dvěma čás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Vyúčtování předchozí části dot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veškeré způsobilé výdaje vykázané v aktuálním monitorovacím období event. nevykázané v dřívějších ZjŽoP (způsobilé výdaje je nutné ponížit o příjmy projektu – úroky, motivační poplatky aj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Další část dota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Nárok na další část dotace stanovená v právním aktu o poskytnutí podpory ponížená o dosud nevyúčtovanou výši předchozích částí dotace (závěrečná MZ, resp. ZjŽoP již neobsahuje částku další části dot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rok na předložení ZjŽoP, resp. mimořádnou MZ při vyčerpání minimálně 60-ti % poslední části dotace a všech již dříve poskytnutých čás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ude proplacena do 35 pracovních dnů od dodání kompletní MZ a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yúčtování dotace dle vyhlášky MF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Upraveno vyhláškou MF (aktuálně č. 52/2008 Sb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áno po schválení závěrečné MZ (nejpozději však do data uvedeného ve vyhlášce 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Zúčtování poskytnutých a vyúčtovaných finanč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drobnější pokyny budou poskytnuty spolu s informací o schválení závěreč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řílohy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dpisové vz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Soupiska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ané účetní do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racov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Rozpis mzd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Rozpis cestovních náh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Výpisy z bankov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hled čerpání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Auditorská zprá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To jest vše k finanční stránce MZ a souvisejícím dokument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7053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1. Podpisové vz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Statutární zástupce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podepisuje MZ a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Oprávněná osoba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osoba oprávněná podepisovat přílohy MZ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event. jednat jménem příjemce, tzn. přebírá oprávnění od statutárního zástupce (podepisuje MZ a ZjŽoP - nutno doložit notářsky ověřenou plnou mocí od statutárního zástup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451"/>
              </a:spcAft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Osoba odpovědná za účetní případy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osoba odpovědná dle vnitřních postupů organizace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2. Soupiska účetních dokladů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1/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řadové číslo doklad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na každé soupisce vždy znovu od č.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ložka kapitoly rozpočtu projekt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musí být totožné s číslem a názvem kapitoly ze schváleného aktuálního rozpočtu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pis výdaje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popis musí jednoznačně identifikovat, že daný výdaj lze hradit z příslušné kapitolu rozpočtu, resp. je způsobilý k financování z OP LZZ (v případě účasti partnerů s finančním příspěvkem vždy uvádět název subjektu, který výdaj uskutečnil nebo lze řešit samostatnou soupiskou vystavenou na každého z partnerů), uvedeny budou i příjmy a to s minu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ástka uvedená na dokladu v Kč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celková částka, na kterou je doklad vystaven (tzn. v případě, nárokování jedné položky z vícepoložkové faktury bude uvedena částka celé fakt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ástka zahrnutá k proplacení z OP LZZ v Kč (veřejné zdroje)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vyúčtovaná částka připadající na přidělenou dotaci (příjmy s minus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2. Soupiska účetních dokladů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toho částka připadající na investiční výdaje v Kč (veřejné zdroje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yplňováno pouze v případě, že se jedná o investiční výdaj (bude uvedena stejná částka jako ve sloupci předchozí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tum úhrady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atum dle úhrady uvedené na výpisu z bankovního účtu nebo pokladním výdajovém dokl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účetního dokladu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faktura, pokladní doklad, interní do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účetního dokladu v účetnictv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interní označení dokladu dle evidence organizace (musí být jednoznačně identifikovatelný na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smlouvy (objednávky), ke které se doklad vztahu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uváděno v případě, že existuje písemná smlouvy či objedn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řížové financování celkem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součet částek těch dokladů soupisky, které spadají do kapitol rozpočtu hrazených v rámci křížového financování (kapitola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dy –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uvést celkovou částku za měsíc dle rozpisu mzdových výdajů (rozpočtová položka bude 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Kapitola 01 –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Výkazy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Rozpis mzdových nákladů (příloha č. 5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Kopie výpisu z bankovního účtu (nutná identifikace plat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Kapitola 02 –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Pouze kopie dokladů na částku vyšší jak 10.000,00 Kč (i v případě, že je v rámci dokladu nárokována částka niž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Rozpis cestovních náhrad (příloha č. 6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Odpisy (příloha č. 7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Doklady v částce 10.000,00 Kč a nižší mohou být vyžádány při administrativní kontrole či kontrole na mís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Podklady k provedeným výběrovým řízením, smlouvy, objednávky (pouze jednou, při prvním nárok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Kopie výpisu z bankovního účtu (nutná identifikace plat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3. Předkládané účetní doklady </a:t>
            </a: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1/2)</a:t>
            </a:r>
            <a:br>
              <a:rPr sz="20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olu se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eškeré podklady k jednoznačnému prokázání způsobilosti uskutečněného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pitola 01 –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riginály veškerých dokladů (zejména doklady, které nebyly součástí předložené ZjŽ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acovní smlou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zdové l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platní pá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pitola 02 –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riginály veškerých dokladů (zejména doklady, které nebyly součástí předložené ZjŽoP – např. doklady v částce 10.000,00 Kč a niž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estovní příkazy, pozvánky, prezenční listiny, knihy jízd, účetní evidence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3. Předkládané účetní doklad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br>
              <a:rPr sz="2000"/>
            </a:b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a vyžádání či kontrole na mís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4. Pracovní výkaz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tažen vždy ke smlouvě s pracovní náplní pro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každého pracovníka (položka v rozpočtu) a měsíc jeden výkaz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le v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název a číslo pozice dle rozpočtu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pracovního pomě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ohoda o pracovní činnosti, dohoda o provedení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úvazk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ýše úvazku dle smlouvy/dohody (v hodinách či podíl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vazek v dalších projektech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úvazky na jiných projektech ESF vč. uvedení čísla projektu a úvazku připadající na každý z projek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očet odpracovaných hodin u zaměstnavatele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celkově odpracované hodiny u zaměstnavatele vážící se k dané pracovní smlouvě (vč. poměrné části dle úvazku připadající na státní svátky, neuvádí se dovolená a nem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z toho pro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z toho odpracované hodiny pro projekt na dané smlou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pis vykonávaných aktiv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drobně (nestačí pouze „administrativní práce“), musí být zřejmá souvislost s aktivitami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4. Pracovní výkaz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čet hodin dovolené celkem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údaj vč. dovolené nepřipadající na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čet hodin dovolené odpovídajících zapojení do projekt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údaj o výši dovolené připadající na projekt (musí odpovídat poměrné výši úvazku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hodin pracovní neschopnosti celkem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údaj vč. pracovní neschopnosti nepřipadající na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hodin pracovní neschopnosti odpovídajících zapojení do projektu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 – údaj o výši pracovní neschopnosti připadající na projekt (musí odpovídat poměrné výši úvazku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Celkem hodin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automatický součet hodin připadajících na danou pracovní smlouvu u zaměstnavatele (odpracované + dovolená + pracovní neschopnost), tento údaj bude dále uveden v příloze č. 5 M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- z toho součet hodin souvisejících s projektem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automatický součet hodin připadajících z dané smlouvy na projekt (odpracované + dovolená + pracovní neschopnost), tento údaj bude dále uveden v příloze č. 5 M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TruneckovaL</cp:lastModifiedBy>
  <dcterms:modified xsi:type="dcterms:W3CDTF">2010-10-05T14:04:11Z</dcterms:modified>
  <cp:revision>267</cp:revision>
  <dc:subject/>
  <dc:title>Snímek 1</dc:title>
</cp:coreProperties>
</file>