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569-24DE-4577-8816-0DCFF81E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1EB-6FB3-43C7-9F45-24E35668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0F4-FD18-4547-BF52-D2140C34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EFC-CB59-488F-86B9-8B53DD55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7B6-FAB0-4FF4-B6CE-FBE4077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9C2-6D43-4F05-840C-2D704F9A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922-0B5D-4C1C-BB3B-2A28B43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7CF-7770-42C7-8D08-BDCC2FD2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295-B60C-4235-BB6B-44558B1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EC2-6A58-45AE-BA8D-3913400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88B-7BE4-460B-AA8C-79F7207D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43B-85D2-4A5D-8E00-3892BF7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D77-E8FA-4D80-996B-85BDC8DF3C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en-US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eminář pro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a předává jej kontrolované osobě k podpisu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bsahuje seznam uložených nápravných opatření, vč. lhůty k jejich odstra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d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roti rozhodnutí o námitkách není opravný prostředek přípustný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porušení rozpočtové kázně</a:t>
            </a: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 poradenstv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tvořeným pracovním místům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hlášení podezření na nesrovnalost Řídícímu orgá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aM</cp:lastModifiedBy>
  <dcterms:modified xsi:type="dcterms:W3CDTF">2010-06-17T14:42:41Z</dcterms:modified>
  <cp:revision>265</cp:revision>
  <dc:subject/>
  <dc:title>Snímek 1</dc:title>
</cp:coreProperties>
</file>