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BA9-ACBB-44D7-B848-73E13606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519-6FB9-4C3C-9536-83B2D78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9BD-22E4-4E10-ACD0-41B2CB04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7A3-B6C7-4430-B60C-7329204B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E9E-21AB-41CC-BB08-69B0522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F24-3B8C-4B72-9469-14C9B9D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4D3-1740-43EA-B127-5BA3390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6F6-AD2B-4612-9386-2D826D3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F93-8925-4EFE-B350-0F2CE3E6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5E4-740A-4452-8BD4-4A42FB7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C5D-1C2C-4ABB-870B-0FAC5BA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7E0-E90C-44D2-9A8A-EA344E3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F54-7254-4E4B-B425-399361EA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- metodická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414972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Zdeněk Folt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7. říjn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lánované klíčové aktivity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klíčové aktivity, název klíčové aktivity, období realizace klíčové aktivity, popis plánované klíčové aktivity a jejího cíle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vyhlášených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formálních a věcných změn projektu a změn v rozpočtu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Další informace o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akékoli jiné informace neuvedené výše a mající vliv na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Čestné prohlášení příjemce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Možnost změny termínu předložení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 nedodržení termínu pro předložení zpráv jsou v právním aktu stanoveny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ísemná žádost o změnu termínu - název a registrační číslo projektu, název příjemce, zdůvodnění žádosti, návrh nového termínu a podpis statutárního zástupce organizace nebo osoby oprávněné jednat jejím jmén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Žádost musí být doručena poskytovateli před uplynutím termínu pro předložení zprávy (postačí e-mail s naskenovanou žádost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kud právní akt obsahuje přesné termíny předložení zpráv, pak je změna termínu možná jen změnou právního a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livní cíle, obsah nebo zam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zakládají změnu právního a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žádost o změnu, formulář 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jpozději 30 dnů před ukončením realizace proje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lze provést před odsouhlasením poskytovatele podpo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aslat v listinné i elektronické podobě na adresu poskyto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data ukončení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monitorovacích indikátorů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bankovního účtu organiz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bjemu původního rozp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ouvány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un mezi pol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kami na ne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a 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výda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kapitoly k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vé financován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jednotkové ceny o více ne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10%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právní form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jemce, slo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ní s jinou právnickou osobo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verz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r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informovat poskytovatele v nejbližší MZ se zdůvodnění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omezená na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 rámci jedné kapitoly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nebo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ho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ouvány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rozp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zrušení za podmínky,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ve výši maximá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10 %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harmonogramu realizace, která neovlivní sp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ni monitorovacích indikátor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harmon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sídla a statutárního zástupce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ve z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obu prová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ých aktivit uvedených v 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. 1 Rozhodnutí j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ealizační t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ha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osoby realiza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ho týmu –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krétní osoby (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je uvedeno jméno)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ě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zice – ne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rušení pozice uvedené 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– 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ři projekt společně vytvářejí – podílejí se na zpracování projektové žádosti a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d3673"/>
                </a:solidFill>
                <a:latin typeface="Arial"/>
              </a:rPr>
              <a:t>spoluúčast všech partnerů na projektu je podstatná a nezastupitelná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rství nesmí nahrazovat zabezpečení běžné administrace projektu, jako je zpracování monitorovacích zpráv, finanční řízení a účetnictví projektu, administrativní agenda apod.; poskytování běžných služeb (např. IT služby, publicita projektu, audit apod.) ani dodání zbož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ovaha právních vztahů mezi žadatelem a jeho partnery nesmí být založena na poskytování služ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definice nepřímých nákladů – náklady, které nejsou nebo nemohou být jednoznačně spojeny s konkrétní aktivitou projektu. Tyto náklady zahrnují zejména náklady spojené s administrací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nepřímé náklady se nedokladují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u nepřímých nákladů se vždy má za to, že tyto náklady vznikly a jsou způsobilé ve výši odvozené z podílu nepřímých nákladů na přímých nákladech stanoveného v Rozhodnutí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Obsah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klad o monitorovacích zprá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měny v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artner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(úplný výčet viz příručka D5 – Metodika způsobilých výdajů, kap. 2.7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odměňování pracovníků -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vedení účetnictví, personalistika, zajištění publicity, kopírování, tisku pro administraci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cestovné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veškeré cestovní náhrady spojené s vnitrostátními pracovními cestami, veškeré náklady na provoz vozidla k vnitrostátním cestám, cestovní náhrady spojené s pracovními cestami, jejichž cílem bylo zajištění publicity pomoci z ESF (tuzemské i zahraničn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zařízení a vybavení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spotřební a kancelářský materiál, zajištění občerstvení, odpisy budov (všechny) a odpisy zařízení a vybavení (ne pro 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nákup služeb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náklady spojené s kanceláří projektu (nájem, energie, voda, internet, telefon), bankovní poplatky, realizace výběrových řízeních, služby spojené s řízením projektu (účetnictví, personalistika, publicita, kopírování, webové stránky, daňové a právní poradenství atd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áklad pro výpočet oprávněné výše nepřímých nákladů v projektu musí být dle nařízení č. 1081/2006 použity </a:t>
            </a:r>
            <a:r>
              <a:rPr b="1" lang="en-US" sz="2400" spc="-1" strike="noStrike" u="sng">
                <a:solidFill>
                  <a:srgbClr val="143f7e"/>
                </a:solidFill>
                <a:uFillTx/>
                <a:latin typeface="Arial"/>
              </a:rPr>
              <a:t>skutečně vzniklé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e strany vyhlašovatele výzvy bude na základě závěrečného vyúčtování výdajů projektu ověřeno, zda struktura skutečně vzniklých způsobilých výdajů není v parametru podílu nákupu služeb natolik odlišná, že by muselo dojít ke změně podílu nepřímých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pokud ano, bude na základě vyúčtování celkových uskutečněných přímých způsobilých výdajů projektu procento nepřímých nákladů odpovídajícím způsobem sníž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Děkuji Vám za pozornost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341360"/>
          <a:ext cx="8229600" cy="4272120"/>
        </p:xfrm>
        <a:graphic>
          <a:graphicData uri="http://schemas.openxmlformats.org/drawingml/2006/table">
            <a:tbl>
              <a:tblPr/>
              <a:tblGrid>
                <a:gridCol w="1450800"/>
                <a:gridCol w="2016360"/>
                <a:gridCol w="2941560"/>
                <a:gridCol w="1820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Termíny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Jak se vyplňuj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bsahuje žádost o platb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15 dnů třetího měsíce real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30 dnů po skončení monit.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ravidla 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2 měsíců od ukončení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.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élka monitorovacího období je 6 měsíců, tj. nejméně za každých 6 měsíců realizace projektu předkládá příjemce průběžnou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ředlože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7628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ozhodující je datum doručení zprávy poskytovatel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řípadná doplnění je třeba zaslat nejpozději do 15 pracovních dnů od vyžádání poskytovatelem (není-li stanoven jiný term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16000" y="1268280"/>
          <a:ext cx="7280280" cy="2648160"/>
        </p:xfrm>
        <a:graphic>
          <a:graphicData uri="http://schemas.openxmlformats.org/drawingml/2006/table">
            <a:tbl>
              <a:tblPr/>
              <a:tblGrid>
                <a:gridCol w="2016360"/>
                <a:gridCol w="526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ůsob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na CD nebo e-mai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oblasti podp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egistrační  číslo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Celková výše finanční podpory v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zaháj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ukonč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ledované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I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tatutární zástup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, příjmení a kontaktní údaje zhotovitele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ahájené 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, název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a zhodnocen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místě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místo, kde je Váš projekt realizová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uzavření smluv o partnerství s projektovými part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kdy a s jakými partnery byly uzavřeny smlouvy o partner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oložte v příloze zprávy kopie sml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obsazení realizačního týmu pracov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 a příjmení pracovníka, funkce pracovníka v projektu, druh pracovně právního vztahu, úvazek, datum vzniku pracovně právního vzta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foltynz</cp:lastModifiedBy>
  <dcterms:modified xsi:type="dcterms:W3CDTF">2010-10-05T12:02:50Z</dcterms:modified>
  <cp:revision>281</cp:revision>
  <dc:subject/>
  <dc:title>Snímek 1</dc:title>
</cp:coreProperties>
</file>