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526F-B2EE-4B4C-97EB-A0DA160C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4FEE-89C7-4A70-B24D-07AA7B61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E0E0-BF63-447B-8E73-11FEF5BD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B9E3-C0EF-437F-9A15-6EBC9221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7E66-D613-408B-B5B2-8C110495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9E91-9B9B-491E-95FE-F2B6830A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4ED8-C3E3-4B04-8644-E7E3BFD4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172D-F582-4CFD-B7EF-E078B4AD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0A63-EA0C-4480-B507-AABC6F91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A621-933E-45BE-8F77-BFD279E7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9AA7-2469-4338-A6BC-CEEE4F80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1396-A24D-4CF8-BABE-E757FCAD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2419-369B-4634-B602-96A7D92495F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sfcr.cz/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mailto:esf@mpsv.cz" TargetMode="External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sfcr.cz/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mailto:esf@mpsv.cz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sfcr.cz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spolufinancovaných 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ESF/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7931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Označení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školících místností a certifikátů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povinnými log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ANO: 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kurz pořádaný konkrétně pro příjem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NE: 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kurz pro veřejnost, kterého se příjemce pouze účastní.</a:t>
            </a: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Vlaječky ČR a EU není třeba použí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Pro označení místnosti není třeba tisknout plakáty či bannery, stačí dostatečně velká a viditelná cedule (čtvrtka) s řadou lo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Shrnu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2 manuá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Manuál pro publicitu OP L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Manuál vizuální identity OP L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3 základní povinnosti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(závazný balíč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povinná lo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označení školící místnosti a vybav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prezentace na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Zdroje informací a konta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sfcr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rogramové období 2007-13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OP LZZ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manuály, šablony, loga, prez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Doporučujeme odebírat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ovinky e-mailem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, kde se dozvíte o aktuálních výzvách, seminářích, realizovaných projektech, zadávacích řízeních a podob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Vkládání informací na we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Registrace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na stránkách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sfcr.cz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Záložka Realizované projekty 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Vložit projekt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, kde naleznete návod i on-line formulá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Záložka Zadávací řízení 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Přidat zadávací řízení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, kde naleznete návod i on-line formulá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07e"/>
                </a:solidFill>
                <a:latin typeface="Arial"/>
              </a:rPr>
              <a:t>Děkuji Vám za pozornos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407e"/>
                </a:solidFill>
                <a:latin typeface="Arial"/>
              </a:rPr>
              <a:t>Odbor řízení pomoci z E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407e"/>
                </a:solidFill>
                <a:latin typeface="Arial"/>
              </a:rPr>
              <a:t>Ministerstvo práce a sociálních věcí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3673"/>
                </a:solidFill>
                <a:latin typeface="Arial"/>
              </a:rPr>
              <a:t>povinná </a:t>
            </a:r>
            <a:r>
              <a:rPr b="1" lang="en-US" sz="3200" spc="-1" strike="noStrike">
                <a:solidFill>
                  <a:srgbClr val="0d3673"/>
                </a:solidFill>
                <a:latin typeface="Arial"/>
              </a:rPr>
              <a:t>součást všech projektů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</a:rPr>
              <a:t> spolufinancovaných z fondů E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je předmětem k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3673"/>
                </a:solidFill>
                <a:latin typeface="Arial"/>
              </a:rPr>
              <a:t>Nařízení Komise č. 1828/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kdo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dává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pení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informování příjemců i široké veřejnosti, že projekt je spolufinancován z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kdo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dostává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pení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uvedení příjemců na veřejně přístupném sezn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Manuál pro publicitu OP LZZ   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stanovuje základní pravidla týkající se publicity v 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Manuál vizuální identity OP LZZ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ur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uje zásady správného pou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ívání povinných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Manuál pro publici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Závazný balíček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k provádění propagačních a informačních aktiv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ovinné minimum publicity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  <a:ea typeface="Arial"/>
              </a:rPr>
              <a:t>~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lo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označení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školící místnosti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(+ vybave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ložení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prezentace projektu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na 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Manuál pro publici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Povinné minimum public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d3673"/>
                </a:solidFill>
                <a:uFillTx/>
                <a:latin typeface="Arial"/>
              </a:rPr>
              <a:t>a)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 logo fondu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b)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název „Evropský sociální fond v ČR“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d3673"/>
                </a:solidFill>
                <a:uFillTx/>
                <a:latin typeface="Arial"/>
              </a:rPr>
              <a:t>c)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logo EU včetně náz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d3673"/>
                </a:solidFill>
                <a:uFillTx/>
                <a:latin typeface="Arial"/>
              </a:rPr>
              <a:t>d)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logo operačního programu včetně náz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e)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motto „Podporujeme vaši budoucnost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f)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odkaz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Kompletní řady i samostatná loga jsou ke stažení na webu (formát JPG, A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Manuál vizuální id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3673"/>
                </a:solidFill>
                <a:latin typeface="Arial"/>
              </a:rPr>
              <a:t>velikost, řazení, rozestupy povinných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3673"/>
                </a:solidFill>
                <a:latin typeface="Arial"/>
              </a:rPr>
              <a:t>bare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3673"/>
                </a:solidFill>
                <a:latin typeface="Arial"/>
              </a:rPr>
              <a:t>typy pís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3673"/>
                </a:solidFill>
                <a:latin typeface="Arial"/>
              </a:rPr>
              <a:t>velké množství příkladů</a:t>
            </a:r>
            <a:r>
              <a:rPr b="0" lang="en-US" sz="36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3673"/>
                </a:solidFill>
                <a:latin typeface="Arial"/>
              </a:rPr>
              <a:t>Lze použít i logo příjemce, případně logo projek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Povinné minimum publicity × publicitní ak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minimum publicity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= povinná loga, uvádí všichni příjemci; propagace programu, fondu, EU (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kdo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peníze dává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publicitní aktivity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= aktivity specifikované v projektové žádosti; zejména propagace projektu (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na co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se peníze dávají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Logo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MPSV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příjemci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nemusí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použí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Loga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není třeba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uvádět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pouze v řadě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Barevná a černobílá varianta lo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2664000" cy="816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16000" y="3068640"/>
            <a:ext cx="2664000" cy="84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1692360" y="4221000"/>
          <a:ext cx="158436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2360" y="4221000"/>
                    <a:ext cx="158436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403280" y="4076640"/>
            <a:ext cx="1944720" cy="136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547640" y="4149720"/>
            <a:ext cx="194472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4356000" y="1989000"/>
            <a:ext cx="1328760" cy="1281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6516720" y="1989000"/>
            <a:ext cx="1441440" cy="1398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5292720" y="3860640"/>
            <a:ext cx="1871640" cy="1206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H="1">
            <a:off x="4932360" y="3573360"/>
            <a:ext cx="2735280" cy="182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03640" y="3716280"/>
            <a:ext cx="2735280" cy="1677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Loga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 je třeba používat na dokumentech spojených s projektem a na materiálech/předmětech hrazených z projektu, nemusí být ale úplně všu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ANO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: smlouvy, zadávací dokumentace, letáky, brožury, propagační předměty, prezenční listiny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NE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: kancelářské potřeby pro běžnou administrativu, faktury a objednávky (generované strojov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Lze použít </a:t>
            </a: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samolepku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 nebo </a:t>
            </a: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razítko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Větu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 „Tento projekt je financován z ESF prostřednictvím OP LZZ a ze státního rozpočtu ČR.“ není třeba v tištěné podobě použí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aM</cp:lastModifiedBy>
  <dcterms:modified xsi:type="dcterms:W3CDTF">2010-06-17T14:43:16Z</dcterms:modified>
  <cp:revision>265</cp:revision>
  <dc:subject/>
  <dc:title>Snímek 1</dc:title>
</cp:coreProperties>
</file>