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8188-D8DE-4232-A2CA-0F70CBC91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2AC1-E0CC-466A-976A-F58222ED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19EF-BD42-4429-B11F-F206975F5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41D1-A25F-470C-9A4A-0072BE1FB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8178-9753-4BC7-B309-4F2969EE8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8FE5-8E3F-4F38-A4D6-69217ED8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3C312-ABF9-4E27-BE3A-BD41FA19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450D-CD22-472D-9859-EAAFBFE0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A05B-A1D6-442D-B765-82179C27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3FCF-50FE-40E2-ABF8-3DD2F9A3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42B5-E39F-4266-8929-EC9C8EE2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E3B6-5F8C-481B-BE65-30DBF4EB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A3191-7A25-4EAB-A128-AB4EC9DC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9BF5-7720-4D77-B645-21094777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70AD-DDD6-4950-9DB0-9EA176F0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0C726-B3B9-4540-9799-AFA9104CD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5CBF-57DC-41C4-ACC0-3ED28B13B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C821-4BB5-4489-9D0B-90941EA6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F46A-19C0-4B46-959F-DF984B86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1725-CE31-4A25-A945-7CADAD26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3DEB-AB96-4DFD-BBAE-75556F86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9E68-44E6-4BB9-97C9-784E03B7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01DC-D00C-466C-BE7B-8DB09BA2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12DB-566F-43EC-9666-83A9F3EC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D517-A34D-4C6C-9F46-D81F45F668B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47AF-3CAB-44C5-B7B3-D1A53431760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1844280"/>
            <a:ext cx="640080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Seminář pro žadatele</a:t>
            </a:r>
            <a:br>
              <a:rPr sz="2400"/>
            </a:b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OP LZZ – výzva č. 76 Rovné příležitosti žen a mužů na trhu práce a slaďování pracovního a rodinného živ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raha/Brno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Obrázek 3" descr="http://www.naseantikoncepce.cz/pohlavni-choroby/sablona/znak_muz_zena.gif"/>
          <p:cNvPicPr/>
          <p:nvPr/>
        </p:nvPicPr>
        <p:blipFill>
          <a:blip r:embed="rId1"/>
          <a:stretch/>
        </p:blipFill>
        <p:spPr>
          <a:xfrm>
            <a:off x="3780000" y="3781440"/>
            <a:ext cx="14601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Rovné příležitosti na trhu práce se vyplat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Žená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– více možností k seberealizaci, kariérní postup, posílení ekonomické situace, společenská presti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Zaměstnavatelů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– d</a:t>
            </a:r>
            <a:r>
              <a:rPr b="0" lang="pt-BR" sz="1800" spc="-1" strike="noStrike">
                <a:solidFill>
                  <a:srgbClr val="143f7e"/>
                </a:solidFill>
                <a:latin typeface="Arial"/>
              </a:rPr>
              <a:t>obré postavení podniku pokud jde o právní povinnosti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(rovnost vyžaduje zákon nebo existuje tlak zaměstnanců), výhody pro podnik plynoucí z různých přístupů, zkušeností a priorit, dobrá praxe. Snížení důrazu na pohlaví zaměstnanců znamená zvýšení důrazu na skutečné kvality, kompetence a schopnost vykonávat danou pracovní pozici co nejlép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Státu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– zvýšení zaměstnanosti, rozvoj statků a služeb, snížení nákladů na sociální dávky, podporu v nezaměstnanosti a výdaje na rekvalifikac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Než začnete psát projekt, položte si otázku, zda svými aktivitami skutečně přispěje ke zlepšení situace 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v těchto oblastec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Horizontální a vertikální rozdělení trhu práce podle pohlav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Míra platové nerovnosti žen a muž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řístup zaměstnavatelů ke slaďování pracovního </a:t>
            </a:r>
            <a:br>
              <a:rPr sz="2400"/>
            </a:b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a rodinného živo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dbourávání genderových stereotypů na trhu prá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… </a:t>
            </a: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pokud ano, pak směle do toho!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X:\We_Can_Do_It!.jpg"/>
          <p:cNvPicPr/>
          <p:nvPr/>
        </p:nvPicPr>
        <p:blipFill>
          <a:blip r:embed="rId1"/>
          <a:stretch/>
        </p:blipFill>
        <p:spPr>
          <a:xfrm>
            <a:off x="2733840" y="1484280"/>
            <a:ext cx="349380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Děkuji Vám za pozorno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třeba přistupovat ke každému člověku stejným způsobem nehledě na rasu, sexuální orientaci, pohlaví, fyzický vzhled nebo další odlišnosti, patří </a:t>
            </a:r>
            <a:br>
              <a:rPr sz="1600"/>
            </a:b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současnosti mezi jednu z hlavních zásad života ve společnos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incip rovných příležitostí znamená potírání diskriminace a předcházení diskriminaci na základě pohlaví, rasy, etnického původu, náboženského vyznání, víry, zdravotního postižení, věku či sexuální orient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erovnost na základě pohlaví lze identifikovat i v rámci jednotlivých sociálně ohrožených skupin, jedná se pak o kombinaci několika znevýhodňujících faktor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R</a:t>
            </a:r>
            <a:r>
              <a:rPr b="0" lang="en-GB" sz="1600" spc="-1" strike="noStrike">
                <a:solidFill>
                  <a:srgbClr val="143f7e"/>
                </a:solidFill>
                <a:latin typeface="Arial"/>
              </a:rPr>
              <a:t>ovné příležitosti pro muže a žen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= </a:t>
            </a:r>
            <a:r>
              <a:rPr b="0" lang="en-GB" sz="1600" spc="-1" strike="noStrike">
                <a:solidFill>
                  <a:srgbClr val="143f7e"/>
                </a:solidFill>
                <a:latin typeface="Arial"/>
              </a:rPr>
              <a:t>absenc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e</a:t>
            </a:r>
            <a:r>
              <a:rPr b="0" lang="en-GB" sz="1600" spc="-1" strike="noStrike">
                <a:solidFill>
                  <a:srgbClr val="143f7e"/>
                </a:solidFill>
                <a:latin typeface="Arial"/>
              </a:rPr>
              <a:t> překážek bránících občanům na základě jejich příslušnosti k pohlaví v účasti na ekonomice, politice a v sociální oblasti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Cílem politiky rovnosti žen a mužů je zajistit, aby ženy i muži měli stejná práva, povinnosti a příležitosti ve všech sférách živo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ormální rovnost (de jure) je pouze první krok k skutečné rovnosti (de fact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43f7e"/>
                </a:solidFill>
                <a:latin typeface="Arial"/>
              </a:rPr>
              <a:t>Otázka rovnosti žen a mužů jako jeden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e základních cílů Evropského společenstv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1131c"/>
                </a:solidFill>
                <a:latin typeface="Arial"/>
              </a:rPr>
              <a:t>Římská smlouva (1957)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 obsahovala ustanovení zavádějící princip rovného odměňování pro ženy a muž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1131c"/>
                </a:solidFill>
                <a:latin typeface="Arial"/>
              </a:rPr>
              <a:t>Plán Komise pro dosažení rovného postavení žen a mužů 2006 - 2010 (Roadmap)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tejná ekonomická nezávislost pro ženy i muže; sladění soukromého a profesního života; stejné zastoupení žen a mužů </a:t>
            </a:r>
            <a:br>
              <a:rPr sz="1800"/>
            </a:b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v rozhodovacích procesech; odstraňování všech forem násilí založeného na pohlaví; odstraňování stereotypů o roli žen a mužů ve společnosti ; podpora rovného postavení žen a mužů v zahraniční a rozvojové politic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Evropský pakt pro rovnost žen a mužů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řijat na zasedání Evropské rady </a:t>
            </a:r>
            <a:br>
              <a:rPr sz="1800"/>
            </a:b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v březnu 2006, deklaruje politickou vůli vrcholných představitelů členských států EU zajistit rovné postavení žen a mužů na trhu práce a potírání stereotypních předsudků o roli žen a mužů v zaměstnání,  zlepšení podmínek pro sladění pracovního a rodinného života žen a mužů a posílení hlediska rovnosti žen a mužů ve všech plánovacích a rozhodovacích procesech (gender mainstreaming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Rovné příležitosti žen a mužů také tvoří významnou součást aktivit Evropského sociálního fondu. Povinnost dodržovat 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rovné p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ř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íležitosti 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vyplývá pro 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Č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eskou republiku z 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na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  <a:ea typeface="Arial"/>
              </a:rPr>
              <a:t>ř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ízení Rady (ES) 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  <a:ea typeface="Arial"/>
              </a:rPr>
              <a:t>č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. 1083 / 2006 / 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  <a:ea typeface="Arial"/>
              </a:rPr>
              <a:t>č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l. 16 / Rovné p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  <a:ea typeface="Arial"/>
              </a:rPr>
              <a:t>ř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íležitosti žen a muž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  <a:ea typeface="Arial"/>
              </a:rPr>
              <a:t>ů 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a zákaz diskriminace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: 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„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Č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lenské státy a Komise zajistí podporu rovnosti žen a muž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ů 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a za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č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len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ě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ní hlediska rovnosti pohlaví b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ě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hem jednotlivých fází provád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ě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ní pomoci z fond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ů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rovnost žen a mužů v České republ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egregace pracovního trhu podle pohlav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ižší výdělky žen a jejich mzdové znevýhodň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btížnějším dosahování řídících a rozhodovacích pozic ženami jak </a:t>
            </a:r>
            <a:br>
              <a:rPr sz="1800"/>
            </a:br>
            <a:r>
              <a:rPr b="0" lang="pl-PL" sz="1800" spc="-1" strike="noStrike">
                <a:solidFill>
                  <a:srgbClr val="143f7e"/>
                </a:solidFill>
                <a:latin typeface="Arial"/>
              </a:rPr>
              <a:t>v podnikatelské, tak veřejné sféř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iskriminace osob pečujících o děti (vesměs však žen) na trhu prá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Tendence při snižování počtu zaměstnanců propouštět že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tereotypy o nižší schopnosti žen v důsledku jejich sociálních rolí (matky, pečovatelky a hospodyně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Tradiční model rodiny – muž živitel x žena hospodyn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éče žen o rodinu a domácnost x nutnost dvojího příjmu do domácnost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„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vojí břemeno“ žen (ovlivňuje výši mzdy a přístup k zaměstnání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Horizontální segregace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rientace na tzv. ”ženské” a ”mužské” profese reprodukovaná již v průběhu socializace ve výchovném a vzdělávacím procesu             platová nerovnost (finanční podhodnocení ženských oborů), vyšší nezaměstnanost jednoho pohlaví podle poptávky po mužských nebo ženských oborech           potřeba podporovat individuální schopnosti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zájmy žen a mužů v těch oborech, které jsou z hlediska jejich pohlaví považovány za netypick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Vertikální segregace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Čím vyšší stupeň řízení, tím méně žen. Příčinou jsou zejména stereotypy o nekompetentnosti k zastávání řídící pozice + péče žen o děti a domácnost (vyšší nároky na čas strávený v zaměstnání, zpomalení kariérního růstu a kvalifikace v důsledku péče o děti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Platové rozdíly mezi ženami a muži vykonávajícími stejnou práci nebo práci stejné hodnoty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 posouzení požadavků na práci a její povahy vyplývá, že má stejnou hodnotu jako srovnávaná práce (znalosti, dovednosti, odpovědnost a namáhavost, pracovní podmínky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Šipka doprava se zářezem 3"/>
          <p:cNvSpPr/>
          <p:nvPr/>
        </p:nvSpPr>
        <p:spPr>
          <a:xfrm>
            <a:off x="1835280" y="2243160"/>
            <a:ext cx="647640" cy="216000"/>
          </a:xfrm>
          <a:custGeom>
            <a:avLst/>
            <a:gdLst>
              <a:gd name="textAreaLeft" fmla="*/ 54000 w 647640"/>
              <a:gd name="textAreaRight" fmla="*/ 594000 w 647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00" y="5400"/>
                </a:ln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18000" y="16200"/>
                </a:lnTo>
                <a:lnTo>
                  <a:pt x="0" y="16200"/>
                </a:lnTo>
                <a:lnTo>
                  <a:pt x="18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Šipka doprava se zářezem 4"/>
          <p:cNvSpPr/>
          <p:nvPr/>
        </p:nvSpPr>
        <p:spPr>
          <a:xfrm>
            <a:off x="3059280" y="2781360"/>
            <a:ext cx="647640" cy="216000"/>
          </a:xfrm>
          <a:custGeom>
            <a:avLst/>
            <a:gdLst>
              <a:gd name="textAreaLeft" fmla="*/ 54000 w 647640"/>
              <a:gd name="textAreaRight" fmla="*/ 594000 w 647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00" y="5400"/>
                </a:ln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18000" y="16200"/>
                </a:lnTo>
                <a:lnTo>
                  <a:pt x="0" y="16200"/>
                </a:lnTo>
                <a:lnTo>
                  <a:pt x="18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Gender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polečensky sdílená a modelované pohlavní identita. Týká se sociálních rozdílů mezi ženami a muži, které jsou naučené a mohou se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průběhu času měnit. Pohlavní role nejsou stabilní, ale udržované společností a rozhodnutími, která v každodenním životě přijímá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Genderové stereotypy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polečenské představy o typicky mužských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ženských vlastnostech, rolích a pozicích mužů a žen ve společnosti.  Společnost 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„ví“, co je dobré pro muže a co pro ženy, co mohu muži nebo ženy dělat a co naopak dělat nesmí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o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dráž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se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 na dělbě práce, sociální, ekonomické a politické situaci obou pohlav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Např. stereotyp žena pečovatelka – muž živitel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451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vlivňuje ženy (záměrně volí méně časově náročné a hůře placené zaměstnání než muži, zkrácené úvazky at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451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vlivňuje zaměstnavatele (tendence lépe odměňovat muže jako živitele a umožňovat jim větší kariérní růst než ženám)          zpětně vliv na ženy (pro domácnost finančně výhodnější, když doma s dětmi zůstane žen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Šipka doprava se zářezem 5"/>
          <p:cNvSpPr/>
          <p:nvPr/>
        </p:nvSpPr>
        <p:spPr>
          <a:xfrm>
            <a:off x="5003640" y="3645000"/>
            <a:ext cx="648000" cy="215640"/>
          </a:xfrm>
          <a:custGeom>
            <a:avLst/>
            <a:gdLst>
              <a:gd name="textAreaLeft" fmla="*/ 54000 w 648000"/>
              <a:gd name="textAreaRight" fmla="*/ 594000 w 64800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00" y="5400"/>
                </a:ln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18000" y="16200"/>
                </a:lnTo>
                <a:lnTo>
                  <a:pt x="0" y="16200"/>
                </a:lnTo>
                <a:lnTo>
                  <a:pt x="18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Šipka doprava se zářezem 6"/>
          <p:cNvSpPr/>
          <p:nvPr/>
        </p:nvSpPr>
        <p:spPr>
          <a:xfrm>
            <a:off x="6372360" y="5516640"/>
            <a:ext cx="647640" cy="216000"/>
          </a:xfrm>
          <a:custGeom>
            <a:avLst/>
            <a:gdLst>
              <a:gd name="textAreaLeft" fmla="*/ 54000 w 647640"/>
              <a:gd name="textAreaRight" fmla="*/ 594000 w 647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00" y="5400"/>
                </a:ln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18000" y="16200"/>
                </a:lnTo>
                <a:lnTo>
                  <a:pt x="0" y="16200"/>
                </a:lnTo>
                <a:lnTo>
                  <a:pt x="18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Slaďování pracovního a rodinného života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hled zaměstnavatelů na další sociální role svých zaměstnanců             nástroje (pracovní doba, organizace práce, místo výkonu práce, poskytované služby atd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Týká se žen i mužů, rodičů i bezdětných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(potřeba umožnit slaďování pracovního a soukromého života obecně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Důležitost zapojení mužů do péče o děti a domácnost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Žádné z pohlaví nesmí být při výkonu péče o děti a domácnost diskriminováno, opatření tlumící nepříznivé sociální dopady výkonu této péče nemají být určena pouze ženám              potřeba posílení prestiže žen ve společnosti, stejně jako v posílení úlohy muže v rodin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Šipka doprava se zářezem 3"/>
          <p:cNvSpPr/>
          <p:nvPr/>
        </p:nvSpPr>
        <p:spPr>
          <a:xfrm>
            <a:off x="4932360" y="1989000"/>
            <a:ext cx="647640" cy="216000"/>
          </a:xfrm>
          <a:custGeom>
            <a:avLst/>
            <a:gdLst>
              <a:gd name="textAreaLeft" fmla="*/ 54000 w 647640"/>
              <a:gd name="textAreaRight" fmla="*/ 594000 w 647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00" y="5400"/>
                </a:ln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18000" y="16200"/>
                </a:lnTo>
                <a:lnTo>
                  <a:pt x="0" y="16200"/>
                </a:lnTo>
                <a:lnTo>
                  <a:pt x="18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Šipka doprava se zářezem 4"/>
          <p:cNvSpPr/>
          <p:nvPr/>
        </p:nvSpPr>
        <p:spPr>
          <a:xfrm>
            <a:off x="2987640" y="4653000"/>
            <a:ext cx="647640" cy="216000"/>
          </a:xfrm>
          <a:custGeom>
            <a:avLst/>
            <a:gdLst>
              <a:gd name="textAreaLeft" fmla="*/ 54000 w 647640"/>
              <a:gd name="textAreaRight" fmla="*/ 594000 w 647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00" y="5400"/>
                </a:ln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18000" y="16200"/>
                </a:lnTo>
                <a:lnTo>
                  <a:pt x="0" y="16200"/>
                </a:lnTo>
                <a:lnTo>
                  <a:pt x="18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Afirmativní (též pozitivní) akce ve prospěch žen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naha o zvýhodnění určitých znevýhodněných skupin s cílem poskytnout jim rovné příležitosti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kompenzovat znevýhodnění způsobené různými formami diskriminace                   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v oblasti podpory 3. 4 převažuje cílová skupina žen. Stejné zacházení s muži a ženami nutně nevede ve výsledcích k rovnosti, protože ženy a muži mají rozdílné životní podmínky a jsou konfrontováni s různými postoji a různým očekávání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Genderová statistika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šechny statistické údaje mapující potřebnost projektu je třeba sbírat zvlášť pro obě pohlaví. Všechny proměnné veličiny musí být analyzovány tak, aby pohlaví bylo hlavním klasifikačním rozlišení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existuje genderově neutrální problé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Gender mainstreaming“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ohledňování a zapracování hlediska rovnosti žen a mužů ve všech koncepčních, plánovacích, hodnotících a rozhodovacích procesech. Doporučeno aplikovat i v jednotlivých fázích grantového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Šipka doprava se zářezem 3"/>
          <p:cNvSpPr/>
          <p:nvPr/>
        </p:nvSpPr>
        <p:spPr>
          <a:xfrm>
            <a:off x="909720" y="4581360"/>
            <a:ext cx="647640" cy="216000"/>
          </a:xfrm>
          <a:custGeom>
            <a:avLst/>
            <a:gdLst>
              <a:gd name="textAreaLeft" fmla="*/ 54000 w 647640"/>
              <a:gd name="textAreaRight" fmla="*/ 594000 w 647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00" y="5400"/>
                </a:ln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18000" y="16200"/>
                </a:lnTo>
                <a:lnTo>
                  <a:pt x="0" y="16200"/>
                </a:lnTo>
                <a:lnTo>
                  <a:pt x="18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Šipka doprava se zářezem 3"/>
          <p:cNvSpPr/>
          <p:nvPr/>
        </p:nvSpPr>
        <p:spPr>
          <a:xfrm>
            <a:off x="933480" y="2557440"/>
            <a:ext cx="647640" cy="216000"/>
          </a:xfrm>
          <a:custGeom>
            <a:avLst/>
            <a:gdLst>
              <a:gd name="textAreaLeft" fmla="*/ 54000 w 647640"/>
              <a:gd name="textAreaRight" fmla="*/ 594000 w 647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00" y="5400"/>
                </a:ln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18000" y="16200"/>
                </a:lnTo>
                <a:lnTo>
                  <a:pt x="0" y="16200"/>
                </a:lnTo>
                <a:lnTo>
                  <a:pt x="18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Šeredová Purschová Adéla, PhDr. (MPSV)</cp:lastModifiedBy>
  <dcterms:modified xsi:type="dcterms:W3CDTF">2011-06-14T05:55:54Z</dcterms:modified>
  <cp:revision>566</cp:revision>
  <dc:subject/>
  <dc:title>Snímek 1</dc:title>
</cp:coreProperties>
</file>