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35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1600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06480" y="740880"/>
            <a:ext cx="4929120" cy="369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720" rIns="9072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384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37224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16000" y="937224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118CB-5576-4E48-9141-D01D66CA1F87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16360" y="937260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F96EE-9833-4981-AF10-1199F89F5C23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906480" y="741240"/>
            <a:ext cx="4929120" cy="369756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384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Primárně na webu, tištěně jen něc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16360" y="937260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FD8A3-B4B7-4BA4-BB32-7975191CA3FB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906480" y="741240"/>
            <a:ext cx="4929120" cy="369756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906480" y="741240"/>
            <a:ext cx="4929120" cy="369756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16360" y="937260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2E126-5ABB-42D1-826F-FC38EA3D5EEA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906480" y="741240"/>
            <a:ext cx="4929120" cy="369756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16360" y="937260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E0CB7-F0BB-4F56-BEBB-7CC248EB3DB0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E3847-42AE-45EE-8E34-65FE5C22F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4B0E6-E31C-4D62-9C45-F0980C327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0821F-799D-425F-94DE-CBC6E8BFA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AF050-C458-4379-BF12-B3B75A5E3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63C49-9905-4E2E-9F4F-2D36BCBC4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C4D5E-6D2F-4E94-A717-9E7C33398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364E1-F976-4836-879C-3BECE1102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D1436-5826-472D-9B2D-5B3566211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FB311-5741-40FF-B109-7500D7E24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DA952-5559-449F-934C-5431BE45C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E6C4E-BCC0-42F6-B536-9D55D0301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72F86-9B27-489A-AFD8-FB583A44D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B65FA-B98F-40CA-A513-F6ACC790B59F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14407e"/>
                </a:solidFill>
                <a:latin typeface="Arial"/>
              </a:rPr>
              <a:t>Seminář pro žadatele</a:t>
            </a:r>
            <a:br>
              <a:rPr sz="3600"/>
            </a:br>
            <a:r>
              <a:rPr b="1" lang="cs-CZ" sz="3600" spc="-1" strike="noStrike">
                <a:solidFill>
                  <a:srgbClr val="14407e"/>
                </a:solidFill>
                <a:latin typeface="Arial"/>
              </a:rPr>
              <a:t> OP LZZ – Rovné příležitosti </a:t>
            </a:r>
            <a:br>
              <a:rPr sz="3600"/>
            </a:br>
            <a:r>
              <a:rPr b="1" lang="cs-CZ" sz="3600" spc="-1" strike="noStrike">
                <a:solidFill>
                  <a:srgbClr val="14407e"/>
                </a:solidFill>
                <a:latin typeface="Arial"/>
              </a:rPr>
              <a:t>žen a muž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raha/Brno 20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logo_a_cb"/>
          <p:cNvPicPr/>
          <p:nvPr/>
        </p:nvPicPr>
        <p:blipFill>
          <a:blip r:embed="rId1"/>
          <a:stretch/>
        </p:blipFill>
        <p:spPr>
          <a:xfrm>
            <a:off x="7308720" y="190440"/>
            <a:ext cx="1438560" cy="14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říklady aktivit pro jednotlivé okruhy 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1131c"/>
                </a:solidFill>
                <a:latin typeface="Arial"/>
              </a:rPr>
              <a:t>Místní partnerství a tematické sít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Tematické sítě - výměna zkušeností a přenos dobré praxe mezi zahraničním partnerem a subjektem z Č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Místní partnerství - řešení specifických problémů dané lokality, služby péče o děti jako součást komplexního řeš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Prosazování změn a systémových opatř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Zapojování občanů a firem do plánování a realizace lokálních projekt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ředběžný harmon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1131c"/>
                </a:solidFill>
                <a:latin typeface="Arial"/>
              </a:rPr>
              <a:t>31. srpen 2011</a:t>
            </a:r>
            <a:r>
              <a:rPr b="0" lang="cs-CZ" sz="3200" spc="-1" strike="noStrike">
                <a:solidFill>
                  <a:srgbClr val="143f7e"/>
                </a:solidFill>
                <a:latin typeface="Arial"/>
              </a:rPr>
              <a:t> – uzávěrka pro příjem žádost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1131c"/>
                </a:solidFill>
                <a:latin typeface="Arial"/>
              </a:rPr>
              <a:t>Do 1. ledna 2012</a:t>
            </a:r>
            <a:r>
              <a:rPr b="0" lang="cs-CZ" sz="3200" spc="-1" strike="noStrike">
                <a:solidFill>
                  <a:srgbClr val="143f7e"/>
                </a:solidFill>
                <a:latin typeface="Arial"/>
              </a:rPr>
              <a:t> – vyhlášení výsledk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1131c"/>
                </a:solidFill>
                <a:latin typeface="Arial"/>
              </a:rPr>
              <a:t>Do 15 dnů</a:t>
            </a:r>
            <a:r>
              <a:rPr b="0" lang="cs-CZ" sz="3200" spc="-1" strike="noStrike">
                <a:solidFill>
                  <a:srgbClr val="143f7e"/>
                </a:solidFill>
                <a:latin typeface="Arial"/>
              </a:rPr>
              <a:t> od poskytnutí podkladů od žadatele - uzavření právního aktu </a:t>
            </a:r>
            <a:br>
              <a:rPr sz="3200"/>
            </a:br>
            <a:r>
              <a:rPr b="0" lang="cs-CZ" sz="3200" spc="-1" strike="noStrike">
                <a:solidFill>
                  <a:srgbClr val="143f7e"/>
                </a:solidFill>
                <a:latin typeface="Arial"/>
              </a:rPr>
              <a:t>o poskytnutí podpor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1131c"/>
                </a:solidFill>
                <a:latin typeface="Arial"/>
              </a:rPr>
              <a:t>Únor/březen 2012</a:t>
            </a:r>
            <a:r>
              <a:rPr b="0" lang="cs-CZ" sz="3200" spc="-1" strike="noStrike">
                <a:solidFill>
                  <a:srgbClr val="143f7e"/>
                </a:solidFill>
                <a:latin typeface="Arial"/>
              </a:rPr>
              <a:t> - předpokládaný začátek realizace projek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Oprávnění žadatel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lnSpc>
                <a:spcPct val="80000"/>
              </a:lnSpc>
              <a:spcBef>
                <a:spcPts val="7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143f7e"/>
                </a:solidFill>
                <a:uFillTx/>
                <a:latin typeface="Arial"/>
              </a:rPr>
              <a:t>územní samosprávné celk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lnSpc>
                <a:spcPct val="80000"/>
              </a:lnSpc>
              <a:spcBef>
                <a:spcPts val="7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143f7e"/>
                </a:solidFill>
                <a:uFillTx/>
                <a:latin typeface="Arial"/>
              </a:rPr>
              <a:t>nestátní neziskové organizac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lnSpc>
                <a:spcPct val="80000"/>
              </a:lnSpc>
              <a:spcBef>
                <a:spcPts val="7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143f7e"/>
                </a:solidFill>
                <a:uFillTx/>
                <a:latin typeface="Arial"/>
              </a:rPr>
              <a:t>sociální partneř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lnSpc>
                <a:spcPct val="80000"/>
              </a:lnSpc>
              <a:spcBef>
                <a:spcPts val="7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143f7e"/>
                </a:solidFill>
                <a:uFillTx/>
                <a:latin typeface="Arial"/>
              </a:rPr>
              <a:t>školy a školská zařízení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lnSpc>
                <a:spcPct val="80000"/>
              </a:lnSpc>
              <a:spcBef>
                <a:spcPts val="7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143f7e"/>
                </a:solidFill>
                <a:uFillTx/>
                <a:latin typeface="Arial"/>
              </a:rPr>
              <a:t>vysoké ško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lnSpc>
                <a:spcPct val="80000"/>
              </a:lnSpc>
              <a:spcBef>
                <a:spcPts val="7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143f7e"/>
                </a:solidFill>
                <a:uFillTx/>
                <a:latin typeface="Arial"/>
              </a:rPr>
              <a:t>hospodářská komo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lnSpc>
                <a:spcPct val="80000"/>
              </a:lnSpc>
              <a:spcBef>
                <a:spcPts val="7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143f7e"/>
                </a:solidFill>
                <a:uFillTx/>
                <a:latin typeface="Arial"/>
              </a:rPr>
              <a:t>podnikatelské subjek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Cílové skupiny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Cílové skupiny jednotlivců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lnSpc>
                <a:spcPct val="9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Osoby pečující o závislého člena rodi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Zaměstnanci/kyně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Ženy ohrožené na trhu prác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   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-  dlouhodobě nezaměstnané že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   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-  ženy ohrožené nezaměstnanost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    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- ženy vracející se po rodičovské dovolené nebo péči o závislého člena rodi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lnSpc>
                <a:spcPct val="9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Muži v obdobné situaci jako ženy s malými dět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lnSpc>
                <a:spcPct val="9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Ženy se základním vzdělání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lnSpc>
                <a:spcPct val="9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Ženy v předdůchodovém věk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lnSpc>
                <a:spcPct val="9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Ženy začínající podnikání a vykonávající samostatně výdělečnou činn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143f7e"/>
                </a:solidFill>
                <a:latin typeface="Arial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Cílové skupiny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2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Cílové skupiny organizac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Instituce služeb zaměstnanosti a jejich pracovníci/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Nestátní neziskové organiz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Odborové organizace a sociální partneř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Orgány státní správy a jimi zřizované organiz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Úřad práce České republi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Územní samosprávné celky a úřady samosprávných celků, jejich orgány a jimi zřízené nebo založené organizace a jejich zaměstanci/kyn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Výzkumné a vzdělávací institu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Zaměstnavatel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Specifické podmínky výzv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Publicita – samostatná klíčová aktivita</a:t>
            </a:r>
            <a:r>
              <a:rPr b="0" lang="cs-CZ" sz="2400" spc="-1" strike="noStrike">
                <a:solidFill>
                  <a:srgbClr val="d1131c"/>
                </a:solidFill>
                <a:latin typeface="Arial"/>
              </a:rPr>
              <a:t>, 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informování širší veřejnosti a dotčených subjektů o výstupech projektu a problematice rovných příležitostí žen a mužů</a:t>
            </a:r>
            <a:r>
              <a:rPr b="0" lang="en-US" sz="2400" spc="-1" strike="noStrike">
                <a:solidFill>
                  <a:srgbClr val="143f7e"/>
                </a:solidFill>
                <a:latin typeface="Arial"/>
              </a:rPr>
              <a:t>;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aktivity nad rámec povinného publicitního mini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Pozice expert/ka na rovné příležitosti žen a mužů v realizačním týmu, 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v projektové žádosti, nebo příloze musí být prokázáno </a:t>
            </a: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vzdělání nebo praxe experta nebo publikační činnost 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v dané oblasti/obo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Školení a volnočasové aktivity - 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předložené projektové žádosti </a:t>
            </a: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nesmí 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obsahovat pouze školení bez návaznosti na jiné aktivity a jakékoliv volnočasové ak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Informace pro žadatele a příjemce: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ttp://www.esfcr.cz/vyzvu-c-76-k-predkladani-grantovych-projektu-rov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val 3"/>
          <p:cNvSpPr/>
          <p:nvPr/>
        </p:nvSpPr>
        <p:spPr>
          <a:xfrm>
            <a:off x="1676520" y="5562720"/>
            <a:ext cx="1981080" cy="3045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5" descr=""/>
          <p:cNvPicPr/>
          <p:nvPr/>
        </p:nvPicPr>
        <p:blipFill>
          <a:blip r:embed="rId1"/>
          <a:stretch/>
        </p:blipFill>
        <p:spPr>
          <a:xfrm>
            <a:off x="547560" y="1600200"/>
            <a:ext cx="80488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 </a:t>
            </a: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Informace pro žadatele a příjemce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http://www.esfcr.cz/vyzvu-c-76-k-predkladani-grantovych-projektu-rov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Desatero OP LZZ: </a:t>
            </a: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http://www.esfcr.cz/07-13/oplzz/desatero-op-lz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Výzv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Dokumenty ke stažen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00"/>
              </a:spcBef>
              <a:buClr>
                <a:srgbClr val="d1131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d1131c"/>
                </a:solidFill>
                <a:latin typeface="Arial"/>
              </a:rPr>
              <a:t>Metodika hodnocení specifických kritéri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00"/>
              </a:spcBef>
              <a:buClr>
                <a:srgbClr val="d1131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d1131c"/>
                </a:solidFill>
                <a:latin typeface="Arial"/>
              </a:rPr>
              <a:t>Metodika logického rám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00"/>
              </a:spcBef>
              <a:buClr>
                <a:srgbClr val="d1131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d1131c"/>
                </a:solidFill>
                <a:latin typeface="Arial"/>
              </a:rPr>
              <a:t>Tabulka logického rám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00"/>
              </a:spcBef>
              <a:buClr>
                <a:srgbClr val="d1131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d1131c"/>
                </a:solidFill>
                <a:latin typeface="Arial"/>
              </a:rPr>
              <a:t>Obvyklé mzdy a pla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00"/>
              </a:spcBef>
              <a:buClr>
                <a:srgbClr val="d1131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d1131c"/>
                </a:solidFill>
                <a:latin typeface="Arial"/>
              </a:rPr>
              <a:t>Obvyklé cen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00"/>
              </a:spcBef>
              <a:buClr>
                <a:srgbClr val="d1131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d1131c"/>
                </a:solidFill>
                <a:latin typeface="Arial"/>
              </a:rPr>
              <a:t>Vzor potvrzení o zařazení do IPR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00"/>
              </a:spcBef>
              <a:buClr>
                <a:srgbClr val="d1131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d1131c"/>
                </a:solidFill>
                <a:latin typeface="Arial"/>
              </a:rPr>
              <a:t>ESF fórum pokyn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00"/>
              </a:spcBef>
              <a:buClr>
                <a:srgbClr val="d1131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d1131c"/>
                </a:solidFill>
                <a:latin typeface="Arial"/>
              </a:rPr>
              <a:t>Vypořádání připomínek k výzv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artnerství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1131c"/>
                </a:solidFill>
                <a:latin typeface="Arial"/>
              </a:rPr>
              <a:t>Partner </a:t>
            </a: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s finančním příspěvkem </a:t>
            </a:r>
            <a:r>
              <a:rPr b="0" lang="cs-CZ" sz="2400" spc="-1" strike="noStrike">
                <a:solidFill>
                  <a:srgbClr val="d1131c"/>
                </a:solidFill>
                <a:latin typeface="Arial"/>
              </a:rPr>
              <a:t>– 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tento typ partnera přijímá prostřednictvím příjemce část finanční podpory na realizaci věcných projektových aktiv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1131c"/>
                </a:solidFill>
                <a:latin typeface="Arial"/>
              </a:rPr>
              <a:t>Partner </a:t>
            </a: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bez finančního příspěvku </a:t>
            </a:r>
            <a:r>
              <a:rPr b="0" lang="cs-CZ" sz="2400" spc="-1" strike="noStrike">
                <a:solidFill>
                  <a:srgbClr val="d1131c"/>
                </a:solidFill>
                <a:latin typeface="Arial"/>
              </a:rPr>
              <a:t>– 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podílí se na realizaci věcných aktivit projektu (např. formou konzultací, odborné garance apod.) a není mu poskytován žádný finanční příspěvek za účast na realizaci projektu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Projekt může mít i </a:t>
            </a: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zahraničního partnera</a:t>
            </a:r>
            <a:r>
              <a:rPr b="0" lang="cs-CZ" sz="2400" spc="-1" strike="noStrike">
                <a:solidFill>
                  <a:srgbClr val="d1131c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z členského státu EU. Zahraniční partner je vždy partnerem bez finančního příspěvku. Jeho právní forma není nijak omezená (fyzická osoba/právnická osoba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artnerství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Důležité! 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Český partner s finančním příspěvkem i bez finančního příspěvku musí patřit mezi oprávněné žadatele v této výzvě. Výjimku tvoří Úřad práce České republiky, který může být partnerem bez finančního příspěvku. Ostatní organizační složky státu a jimi zřizované organizace mohou být pouze spolupracujícími organizacemi, nikoli partner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V případě realizace projektu s partnery je žadatel povinen zajistit, aby vztahy mezi ním a jeho partnery odpovídaly podmínkám a principům partnerství uvedeným v Příručce pro žadatele z OP LZZ, dostupné ke stažení na webových stránkách </a:t>
            </a:r>
            <a:r>
              <a:rPr b="1" lang="cs-CZ" sz="2400" spc="-1" strike="noStrike" u="sng">
                <a:solidFill>
                  <a:srgbClr val="00b050"/>
                </a:solidFill>
                <a:uFillTx/>
                <a:latin typeface="Arial"/>
              </a:rPr>
              <a:t>www.esfcr.cz</a:t>
            </a:r>
            <a:r>
              <a:rPr b="0" lang="cs-CZ" sz="2400" spc="-1" strike="noStrike">
                <a:solidFill>
                  <a:srgbClr val="00b05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Výzva č. 76: základní informace (1) 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Prioritní osa 3:</a:t>
            </a: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 Sociální integrace a rovné příležit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Oblast podpory 3. 4:</a:t>
            </a: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 Rovné příležitosti žen a mužů na trhu práce a slaďování pracovního rodinného života</a:t>
            </a:r>
            <a:r>
              <a:rPr b="1" lang="cs-CZ" sz="2800" spc="-1" strike="noStrike">
                <a:solidFill>
                  <a:srgbClr val="143f7e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00000"/>
                </a:solidFill>
                <a:latin typeface="Arial"/>
              </a:rPr>
              <a:t>3. výzva pro předkládání grantových projektů                     v oblasti podpory 3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Vyhlašovatel:</a:t>
            </a: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 MPSV, Ř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Vyhlášení výzvy</a:t>
            </a:r>
            <a:r>
              <a:rPr b="1" lang="en-US" sz="2400" spc="-1" strike="noStrike">
                <a:solidFill>
                  <a:srgbClr val="d1131c"/>
                </a:solidFill>
                <a:latin typeface="Arial"/>
              </a:rPr>
              <a:t>:</a:t>
            </a:r>
            <a:r>
              <a:rPr b="1" lang="en-US" sz="24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16. května 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Objem výzvy:</a:t>
            </a: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 450 000 000 K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Kontakt na vyhlašovatele:</a:t>
            </a: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 http://forum.esfcr.cz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1199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Uzávěrka pro příjem žádostí</a:t>
            </a:r>
            <a:r>
              <a:rPr b="1" lang="en-US" sz="2400" spc="-1" strike="noStrike">
                <a:solidFill>
                  <a:srgbClr val="d1131c"/>
                </a:solidFill>
                <a:latin typeface="Arial"/>
              </a:rPr>
              <a:t>:</a:t>
            </a:r>
            <a:r>
              <a:rPr b="1" lang="en-US" sz="24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31. srpna 2011, 14: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artnerství 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Role partnera, včetně jeho podílu na konkrétních aktivitách projektu, popř. části prostředků finanční podpory, musí být popsána žadatelem již v Žádosti </a:t>
            </a:r>
            <a:br>
              <a:rPr sz="2400"/>
            </a:b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o finanční podporu z OP LZZ, konkrétně v části Způsob zapojení partnerů do realizace projekt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V případě, že příjemce dotace předpokládá poukázat část poskytnuté finanční podpory partnerům, musí být v rámci rozpočtu projektu jasně vymezeny náklady jednotlivých partnerů na realizaci projektu. To znamená, že položky rozpočtu, které náleží partnerovi, musí být označeny názvem partnera, aby bylo jasně dohledatelné partnerovo financování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řílohy žádosti 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3352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1500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Povinné přílohy žádost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 algn="just">
              <a:lnSpc>
                <a:spcPct val="80000"/>
              </a:lnSpc>
              <a:spcBef>
                <a:spcPts val="1250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Doklad o právní subjektivitě v odpovídající formě, odlišné podle právní formy žadatele – viz Příručka pro žadatele, kapitola Přílohy žádosti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1250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otvrzení o zařazení do IPRM (pouze pokud je relevantní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1500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Úspěšní žadatelé dolož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 algn="just">
              <a:lnSpc>
                <a:spcPct val="80000"/>
              </a:lnSpc>
              <a:spcBef>
                <a:spcPts val="1250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rohlášení o bezdlužnosti a bezúhonnost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 algn="just">
              <a:lnSpc>
                <a:spcPct val="80000"/>
              </a:lnSpc>
              <a:spcBef>
                <a:spcPts val="1250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rohlášení o partnerstv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 algn="just">
              <a:lnSpc>
                <a:spcPct val="80000"/>
              </a:lnSpc>
              <a:spcBef>
                <a:spcPts val="1250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rohlášení o velikosti podnik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 algn="just">
              <a:lnSpc>
                <a:spcPct val="8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Čestné prohlášení o tom, že na schválený projekt žadatel nečerpá jiné veřejné prostřed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 algn="just">
              <a:lnSpc>
                <a:spcPct val="8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rohlášení o závažných změná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 algn="just">
              <a:lnSpc>
                <a:spcPct val="8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bankou potvrzený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Formulář finanční identifik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Konzult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82880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143f7e"/>
                </a:solidFill>
                <a:latin typeface="Arial"/>
              </a:rPr>
              <a:t>Pro Vaše dotazy a podněty:</a:t>
            </a: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333399"/>
                </a:solidFill>
                <a:latin typeface="Arial"/>
                <a:ea typeface="Times New Roman"/>
              </a:rPr>
              <a:t>http://forum.esfcr.cz</a:t>
            </a:r>
            <a:r>
              <a:rPr b="0" lang="cs-CZ" sz="3200" spc="-1" strike="noStrike">
                <a:solidFill>
                  <a:srgbClr val="4597a0"/>
                </a:solidFill>
                <a:latin typeface="Arial"/>
                <a:ea typeface="Times New Roman"/>
              </a:rPr>
              <a:t>,</a:t>
            </a:r>
            <a:r>
              <a:rPr b="0" lang="cs-CZ" sz="3200" spc="-1" strike="noStrike">
                <a:solidFill>
                  <a:srgbClr val="333399"/>
                </a:solidFill>
                <a:latin typeface="Arial"/>
                <a:ea typeface="Times New Roman"/>
              </a:rPr>
              <a:t> </a:t>
            </a:r>
            <a:r>
              <a:rPr b="0" lang="cs-CZ" sz="3200" spc="-1" strike="noStrike" u="sng">
                <a:solidFill>
                  <a:srgbClr val="4597a0"/>
                </a:solidFill>
                <a:uFillTx/>
                <a:latin typeface="Arial"/>
              </a:rPr>
              <a:t>podpora34-51@ea-oplzz.c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143f7e"/>
                </a:solidFill>
                <a:latin typeface="Arial"/>
              </a:rPr>
              <a:t>Osobní konzultace: Praha, Brno, Ostra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     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Termíny konzultací jsou zveřejňovány na stránkách www.esfcr,c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143f7e"/>
                </a:solidFill>
                <a:latin typeface="Arial"/>
              </a:rPr>
              <a:t>Předložení žádosti o finanční podpor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Způsob a forma předkládání žádostí a hodnocení žádostí</a:t>
            </a:r>
            <a:r>
              <a:rPr b="0" lang="cs-CZ" sz="3200" spc="-1" strike="noStrike">
                <a:solidFill>
                  <a:srgbClr val="d1131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Způsob a forma předkládání žádostí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Žádost o finanční podporu z OP LZZ je žadatelem vypracována on-line v aplikaci Benefit7 (elektronická žádost) na www.eu-zadost.cz nebo www.eu-zadost.eu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   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OZOR: Žádost musí být založena ve správné výzvě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Žádost o finanční podporu se předkládá v tištěné podobě v 1 vyhotovení (originál) a podepsaná na příslušném místě statutárním zástupcem + 1 výtisk (originál nebo ověřená kopie) povinných přílo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Každá z příloh musí být označena pořadovým číslem podle jejího označení v seznamu příloh v aplikaci Benefit7 a podepsaná statutárním zástupcem žadate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očet listů uváděný do seznamu příloh musí odpovídat skutečně počtu listů, nikoli stráne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Jeden žadatel může předložit maximálně 3 žád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Způsob a forma předkládání žádostí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Podepsaná žádost musí být sešita a přelepena páskou v levém horním rohu (na přední i zadní straně) nebo jiným obdobným způsobem </a:t>
            </a:r>
            <a:br>
              <a:rPr sz="2400"/>
            </a:b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a podepsána z obou stran (případně orazítkována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Podrobné informace pro vyplnění žádosti o finanční podporu z OP LZZ naleznete v Průvodci vyplněním projektové žádosti OP LZZ (D6), která je součástí desatera OP LZZ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Způsob a forma předkládání žádostí 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Požadovaná forma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Na obálce musí být uvedeny následující informace – adresa vyhlašovatele</a:t>
            </a:r>
            <a:r>
              <a:rPr b="0" lang="en-US" sz="2000" spc="-1" strike="noStrike">
                <a:solidFill>
                  <a:srgbClr val="143f7e"/>
                </a:solidFill>
                <a:latin typeface="Arial"/>
              </a:rPr>
              <a:t>; 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název operačního programu</a:t>
            </a:r>
            <a:r>
              <a:rPr b="0" lang="en-US" sz="2000" spc="-1" strike="noStrike">
                <a:solidFill>
                  <a:srgbClr val="143f7e"/>
                </a:solidFill>
                <a:latin typeface="Arial"/>
              </a:rPr>
              <a:t>;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 číslo prioritní osy </a:t>
            </a:r>
            <a:br>
              <a:rPr sz="2000"/>
            </a:b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a oblasti podpory</a:t>
            </a:r>
            <a:r>
              <a:rPr b="0" lang="en-US" sz="2000" spc="-1" strike="noStrike">
                <a:solidFill>
                  <a:srgbClr val="143f7e"/>
                </a:solidFill>
                <a:latin typeface="Arial"/>
              </a:rPr>
              <a:t>;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 název globálního grantu</a:t>
            </a:r>
            <a:r>
              <a:rPr b="0" lang="en-US" sz="2000" spc="-1" strike="noStrike">
                <a:solidFill>
                  <a:srgbClr val="143f7e"/>
                </a:solidFill>
                <a:latin typeface="Arial"/>
              </a:rPr>
              <a:t>; 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číslo</a:t>
            </a:r>
            <a:r>
              <a:rPr b="0" lang="en-US" sz="20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výzvy</a:t>
            </a:r>
            <a:r>
              <a:rPr b="0" lang="en-US" sz="2000" spc="-1" strike="noStrike">
                <a:solidFill>
                  <a:srgbClr val="143f7e"/>
                </a:solidFill>
                <a:latin typeface="Arial"/>
              </a:rPr>
              <a:t>;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 název žádosti o finanční podporu</a:t>
            </a:r>
            <a:r>
              <a:rPr b="0" lang="en-US" sz="2000" spc="-1" strike="noStrike">
                <a:solidFill>
                  <a:srgbClr val="143f7e"/>
                </a:solidFill>
                <a:latin typeface="Arial"/>
              </a:rPr>
              <a:t>;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označení věcného zaměření projektu viz bod 3.2 výzvy (A,B nebo C podle převažujícího typu činností)</a:t>
            </a:r>
            <a:r>
              <a:rPr b="1" lang="en-US" sz="2000" spc="-1" strike="noStrike">
                <a:solidFill>
                  <a:srgbClr val="143f7e"/>
                </a:solidFill>
                <a:latin typeface="Arial"/>
              </a:rPr>
              <a:t>; 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lný název a adresa žadatele, heslo „NEOTVÍRAT“ (levý horní ro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24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Stav žádosti lze po celou dobu procesu hodnocení sledovat v IS Benefit7 (záložka Konto žádost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24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ovinnosti žadatele jsou blíže specifikovány v příloze Desatera OP LZZ č. D1 -Příručka pro žadate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Formální hodnocení a hodnocení přijatel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53964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143f7e"/>
                </a:solidFill>
                <a:latin typeface="Arial"/>
              </a:rPr>
              <a:t>Provádí se podle checklistu, který obsahuje jednotlivá formální kritéria a kritéria přijatelnosti formou odpovědi ANO/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143f7e"/>
                </a:solidFill>
                <a:latin typeface="Arial"/>
              </a:rPr>
              <a:t>Formální hodnocení a hodnocení přijatelnosti probíhá do 30 dnů od uzávěrky příjmu žádost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Formální krité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Hodnotí 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43f7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Žádost byla dodána v tištěné podobě – 1 originál, unikátní kód tištěné verze musí souhlasit s kódem finálně uzavřené žádosti v Benefit7, na obálce jsou e všechny požadované úda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43f7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Žádost obsahuje všechny stránky, číslování je kontinuál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43f7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Jsou přiloženy všechny povinné přílohy, resp. pro výzvu 76 je relevantní pouze doklad o právní subjektivit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43f7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okud je projekt zařazen do IPRM, je přiloženo potvrzení obce o tomto zařazení (vzor je přílohou výzv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43f7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očet listů příloh odpovídá počtu uvedenému v Seznamu přílo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43f7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Žádost, seznam příloh a jednotlivé přílohy jsou podepsány statutárním zástupc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Kritéria Přijatelnosti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Hodnotí 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43f7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Žádost byla v Benefitu7 finálně uložena a tištěná verze je shodná s elektronickou (viz formální hodnocení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43f7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Žadatel je oprávněným žadatelem v dané výzvě a sídlo má na území ČR (validace v AR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43f7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artner patří mezi oprávněné žadatele s výjimkou Úřadu prá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43f7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Cílové skupiny jsou v souladu s textem výzvy, v případě zařazení jakékoliv jiné cílové skupiny bude projekt vyřazen, území dopadu nesmí být hl.m.Prah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43f7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ředpokládaná doba realizace projektu nepřesahuje maximální dobu stanovenou výzvo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43f7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Výzva č. 76: základní informace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1131c"/>
                </a:solidFill>
                <a:latin typeface="Arial"/>
                <a:ea typeface="Times New Roman"/>
              </a:rPr>
              <a:t>Globální cíl</a:t>
            </a:r>
            <a:r>
              <a:rPr b="0" lang="cs-CZ" sz="2800" spc="-1" strike="noStrike">
                <a:solidFill>
                  <a:srgbClr val="14407e"/>
                </a:solidFill>
                <a:latin typeface="Arial"/>
              </a:rPr>
              <a:t>: Prosazování cílených opatření pro plnění principu rovných příležitostí žen a mužů na trhu práce a sladění pracovního a rodinného živo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1131c"/>
                </a:solidFill>
                <a:latin typeface="Arial"/>
              </a:rPr>
              <a:t>Min</a:t>
            </a: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14407e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14407e"/>
                </a:solidFill>
                <a:latin typeface="Arial"/>
              </a:rPr>
              <a:t>výše podpory</a:t>
            </a:r>
            <a:r>
              <a:rPr b="0" lang="en-US" sz="2800" spc="-1" strike="noStrike">
                <a:solidFill>
                  <a:srgbClr val="14407e"/>
                </a:solidFill>
                <a:latin typeface="Arial"/>
              </a:rPr>
              <a:t>/</a:t>
            </a:r>
            <a:r>
              <a:rPr b="0" lang="cs-CZ" sz="2800" spc="-1" strike="noStrike">
                <a:solidFill>
                  <a:srgbClr val="14407e"/>
                </a:solidFill>
                <a:latin typeface="Arial"/>
              </a:rPr>
              <a:t>projekt</a:t>
            </a:r>
            <a:r>
              <a:rPr b="0" lang="en-US" sz="2800" spc="-1" strike="noStrike">
                <a:solidFill>
                  <a:srgbClr val="14407e"/>
                </a:solidFill>
                <a:latin typeface="Arial"/>
              </a:rPr>
              <a:t>: </a:t>
            </a:r>
            <a:r>
              <a:rPr b="0" lang="cs-CZ" sz="2800" spc="-1" strike="noStrike">
                <a:solidFill>
                  <a:srgbClr val="14407e"/>
                </a:solidFill>
                <a:latin typeface="Arial"/>
              </a:rPr>
              <a:t>    </a:t>
            </a:r>
            <a:r>
              <a:rPr b="0" lang="cs-CZ" sz="2800" spc="-1" strike="noStrike">
                <a:solidFill>
                  <a:srgbClr val="d1131c"/>
                </a:solidFill>
                <a:latin typeface="Arial"/>
                <a:ea typeface="Times New Roman"/>
              </a:rPr>
              <a:t>1,5 mil. K</a:t>
            </a: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č</a:t>
            </a:r>
            <a:r>
              <a:rPr b="1" lang="cs-CZ" sz="2800" spc="-1" strike="noStrike">
                <a:solidFill>
                  <a:srgbClr val="14407e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1131c"/>
                </a:solidFill>
                <a:latin typeface="Arial"/>
              </a:rPr>
              <a:t>Max</a:t>
            </a: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14407e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14407e"/>
                </a:solidFill>
                <a:latin typeface="Arial"/>
              </a:rPr>
              <a:t>výše podpory</a:t>
            </a:r>
            <a:r>
              <a:rPr b="0" lang="en-US" sz="2800" spc="-1" strike="noStrike">
                <a:solidFill>
                  <a:srgbClr val="14407e"/>
                </a:solidFill>
                <a:latin typeface="Arial"/>
              </a:rPr>
              <a:t>/</a:t>
            </a:r>
            <a:r>
              <a:rPr b="0" lang="cs-CZ" sz="2800" spc="-1" strike="noStrike">
                <a:solidFill>
                  <a:srgbClr val="14407e"/>
                </a:solidFill>
                <a:latin typeface="Arial"/>
              </a:rPr>
              <a:t>projekt</a:t>
            </a:r>
            <a:r>
              <a:rPr b="0" lang="en-US" sz="2800" spc="-1" strike="noStrike">
                <a:solidFill>
                  <a:srgbClr val="14407e"/>
                </a:solidFill>
                <a:latin typeface="Arial"/>
              </a:rPr>
              <a:t> : </a:t>
            </a:r>
            <a:r>
              <a:rPr b="0" lang="cs-CZ" sz="2800" spc="-1" strike="noStrike">
                <a:solidFill>
                  <a:srgbClr val="14407e"/>
                </a:solidFill>
                <a:latin typeface="Arial"/>
              </a:rPr>
              <a:t>  </a:t>
            </a:r>
            <a:r>
              <a:rPr b="0" lang="cs-CZ" sz="2800" spc="-1" strike="noStrike">
                <a:solidFill>
                  <a:srgbClr val="d1131c"/>
                </a:solidFill>
                <a:latin typeface="Arial"/>
                <a:ea typeface="Times New Roman"/>
              </a:rPr>
              <a:t>8 mil. K</a:t>
            </a: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č</a:t>
            </a:r>
            <a:r>
              <a:rPr b="1" lang="cs-CZ" sz="2800" spc="-1" strike="noStrike">
                <a:solidFill>
                  <a:srgbClr val="14407e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Max délka trvání projektu</a:t>
            </a:r>
            <a:r>
              <a:rPr b="0" lang="en-GB" sz="2800" spc="-1" strike="noStrike">
                <a:solidFill>
                  <a:srgbClr val="d1131c"/>
                </a:solidFill>
                <a:latin typeface="Arial"/>
                <a:ea typeface="Times New Roman"/>
              </a:rPr>
              <a:t>:</a:t>
            </a:r>
            <a:r>
              <a:rPr b="0" lang="cs-CZ" sz="2800" spc="-1" strike="noStrike">
                <a:solidFill>
                  <a:srgbClr val="14407e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14407e"/>
                </a:solidFill>
                <a:latin typeface="Arial"/>
                <a:ea typeface="Times New Roman"/>
              </a:rPr>
              <a:t>3 </a:t>
            </a:r>
            <a:r>
              <a:rPr b="0" lang="cs-CZ" sz="2800" spc="-1" strike="noStrike">
                <a:solidFill>
                  <a:srgbClr val="14407e"/>
                </a:solidFill>
                <a:latin typeface="Arial"/>
              </a:rPr>
              <a:t>ro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143f7e"/>
                </a:solidFill>
                <a:latin typeface="Arial"/>
              </a:rPr>
              <a:t>Realizace musí být ukončena nejpozději</a:t>
            </a:r>
            <a:br>
              <a:rPr sz="2800"/>
            </a:br>
            <a:r>
              <a:rPr b="0" lang="cs-CZ" sz="2800" spc="-1" strike="noStrike">
                <a:solidFill>
                  <a:srgbClr val="143f7e"/>
                </a:solidFill>
                <a:latin typeface="Arial"/>
              </a:rPr>
              <a:t>do </a:t>
            </a:r>
            <a:r>
              <a:rPr b="1" lang="cs-CZ" sz="2800" spc="-1" strike="noStrike">
                <a:solidFill>
                  <a:srgbClr val="143f7e"/>
                </a:solidFill>
                <a:latin typeface="Arial"/>
              </a:rPr>
              <a:t>30. 6. 2015</a:t>
            </a:r>
            <a:r>
              <a:rPr b="0" lang="cs-CZ" sz="28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Kritéria Přijatelnosti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-44316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6. Požadovaný objem finanční podpory je v rozmezí daném výzvou, tj. min. 1,5 mil – max. 8 mil K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7. Plánované aktivity jsou v souladu s výzvou, jsou splněny specifické podmínky dané výzvou (samostatná aktivita publicity, zařazení experta do realizačního týmu a projekt není zaměřen jen na školení a neobsahuje volnočasové aktivit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8. Vyčíslení nepřímých nákladů odpovídá podílu stanovenému výzvo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9. Rozpočet projektu respektuje stanovené limity pro jednotlivé kapitoly/skupiny výdajů stanovené obecnými pravidly OPLZZ a výzvo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10.Požadovaná veřejná podpora a podpora de minimis respektuje stanovené limity (obecně se VP nepředpokládá, výjimku tvoří projekty, jejichž součástí jsou služby péče o děti, podpora podnikatelských aktivit cílové skupiny a poskytování mzdových příspěvků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Nedostatky žádostí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Formální hodnocen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Opravitelné jsou 2 chyby ve formálních kritériích. Pokud žadatel udělá v žádosti o finanční podporu 3 a více chyb, které jsou hodnocené ve formálních kritériích, je jeho žádost z dalšího hodnocení vyřaze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Hodnocení přijatelnost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Kritéria přijatelnosti jsou </a:t>
            </a: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neopravitelná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. Pokud žadatel udělá v žádosti o finanční podporu chybu </a:t>
            </a:r>
            <a:br>
              <a:rPr sz="2400"/>
            </a:b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v náležitostech, které jsou hodnocené v kritériích přijatelnosti, je jeho žádost z dalšího hodnocení vyřaze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Další informace o věcném hodnoc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Věcné hodnocení se skládá ze 2 individuálních hodnocení              (v případě velkého bodového rozdílu 3 hodnotitelé) a následného hodnocení prostřednictvím výběrové komi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Každý projekt hodnotí alespoň 2 hodnotitelé, individuální hodnocení je podkladem pro jednání výběrové komi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Na zasedání výběrové komise jsou projednávány projekty, které ve věcném hodnocení získaly v průměru minimálně 65 bod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Výběrová komise může projekt doporučit k financování za podmínek např. krácení rozpočtu, úpravy či doplnění klíčové aktivity, apo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Podmínky, za kterých je projekt doporučen k financování jsou závazné!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Nejčastější chyby v žádostech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Rozpoč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7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Nadhodnocené výdaje, zejména osobní nákla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7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Nesoulad klíčových aktivit – rozpočtu – harmonogram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7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Chybně vyplněné údaje (zařazení položek rozpočtu – viz. D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7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Cílová skup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7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Nejasné vymezení cílové skupiny, není kvantifiková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7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Nedostatečně popsaná práce s cílovou skupino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7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Nejasné dopady projektu na cílovou skupin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7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Monitorovací indikátory (ukazate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7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Nesoulad mezi deklarovanými výsledky – hodnotami ukazatel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7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Nejasný způsob naplňování ukazatelů, chybné vyplnění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7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Neúplné vyplnění ukazatelů (některé chybí úplně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Nejčastější chyby v žádostech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Klíčové akti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Stručný a obecný pop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Klíčové aktivity nejsou provázány s položkami v rozpočtu, nejsou uvedeny výstupy z 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Celková úroveň zpracování projekt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143f7e"/>
                </a:solidFill>
                <a:latin typeface="Arial"/>
              </a:rPr>
              <a:t>Monitoring a financování projekt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Monitorovací zprávy </a:t>
            </a:r>
            <a:br>
              <a:rPr sz="3200"/>
            </a:b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a Žádosti o platbu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Financování projekt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d1131c"/>
                </a:solidFill>
                <a:latin typeface="Arial"/>
              </a:rPr>
              <a:t>První zálohová platba 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je příjemci poskytnuta do 30ti pracovních dnů od podpisu Rozhodnutí (obvykle ve výši 20% celkových způsobilých výdajů projektu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d1131c"/>
                </a:solidFill>
                <a:latin typeface="Arial"/>
              </a:rPr>
              <a:t>Druhá zálohová platba  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je příjemci poskytnuta do 30ti pracovních dnů od schválení předložené Zprávy o zahájení realizace projektu (obvykle ve výši 20% celkových způsobilých výdajů projektu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d1131c"/>
                </a:solidFill>
                <a:latin typeface="Arial"/>
              </a:rPr>
              <a:t>Průběžné a závěrečná platb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     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další  části dotace budou příjemci propláceny na základě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schválených Žádostí o platbu 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(vyúčtování poskytnutých záloh) předložených v termínech uvedených v příručce pro příjemce a ve výši stanovené Rozhodnutím, přičemž budou vždy sníženy </a:t>
            </a:r>
            <a:br>
              <a:rPr sz="2000"/>
            </a:b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o nevyčerpanou část již poskytnuté dota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Monitorování projek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  <a:ea typeface="Arial"/>
              </a:rPr>
              <a:t>Hlavní cí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43f7e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  <a:ea typeface="Arial"/>
              </a:rPr>
              <a:t>Průběžné sledování, sběr dat a informací o projektech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43f7e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  <a:ea typeface="Arial"/>
              </a:rPr>
              <a:t>Dohled nad finančními prostředky a jejich efektivním využitím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43f7e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  <a:ea typeface="Arial"/>
              </a:rPr>
              <a:t>Průběh realizace projektů, identifikace možných rizi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  <a:ea typeface="Arial"/>
              </a:rPr>
              <a:t>Povinnost příjemců informovat </a:t>
            </a:r>
            <a:r>
              <a:rPr b="0" lang="pl-PL" sz="2400" spc="-1" strike="noStrike">
                <a:solidFill>
                  <a:srgbClr val="143f7e"/>
                </a:solidFill>
                <a:latin typeface="Arial"/>
                <a:ea typeface="Arial"/>
              </a:rPr>
              <a:t>o průběhu celého projektu tzv. </a:t>
            </a:r>
            <a:r>
              <a:rPr b="1" lang="pl-PL" sz="2400" spc="-1" strike="noStrike">
                <a:solidFill>
                  <a:srgbClr val="143f7e"/>
                </a:solidFill>
                <a:latin typeface="Arial"/>
                <a:ea typeface="Arial"/>
              </a:rPr>
              <a:t>Monitorovacími zprávami</a:t>
            </a:r>
            <a:r>
              <a:rPr b="0" lang="pl-PL" sz="2400" spc="-1" strike="noStrike">
                <a:solidFill>
                  <a:srgbClr val="143f7e"/>
                </a:solidFill>
                <a:latin typeface="Arial"/>
                <a:ea typeface="Arial"/>
              </a:rPr>
              <a:t> (nejdůležitější ukazatel je naplňování</a:t>
            </a:r>
            <a:r>
              <a:rPr b="1" lang="pl-PL" sz="2400" spc="-1" strike="noStrike">
                <a:solidFill>
                  <a:srgbClr val="143f7e"/>
                </a:solidFill>
                <a:latin typeface="Arial"/>
                <a:ea typeface="Arial"/>
              </a:rPr>
              <a:t> monitorovacích indikátorů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ředkládání Monitorovacích zpráv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Zpráva o zahájení realizace projek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1199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bez ŽoP (bez </a:t>
            </a:r>
            <a:r>
              <a:rPr b="0" lang="pl-PL" sz="2000" spc="-1" strike="noStrike">
                <a:solidFill>
                  <a:srgbClr val="143f7e"/>
                </a:solidFill>
                <a:latin typeface="Arial"/>
              </a:rPr>
              <a:t>žádosti o platbu)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, 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zpráva se předkládá za první dva měsíce realizace projektu v termínu do 15 dnů třetího měsíce realizace projek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1199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Zpracovává se ve formátu .doc (vzor je dán příručkou D10 Desatera), příjemce je k opravě/doplnění nedostatků zpravidla vyzýván pouze jedno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1199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V případě, že zpráva nebude schválena (příjemce ji neopraví </a:t>
            </a:r>
            <a:br>
              <a:rPr sz="2000"/>
            </a:b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v požadovaném termínu), nebude vyplacena druhá zálohová platba a příjemce pak předkládá až průběžnou MZ s Ž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1199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Kontrola ZZRP je provedena zpravidla do 40 pracovních dnů od jejího přijetí a příjemce je o jejím výsledku vyrozumě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ředkládání Monitorovacích zpráv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2999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Průběžná monitorovací zpráva (MZ)</a:t>
            </a:r>
            <a:r>
              <a:rPr b="0" lang="pl-PL" sz="2400" spc="-1" strike="noStrike">
                <a:solidFill>
                  <a:srgbClr val="d1131c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s Ž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1199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MZ bez ŽoP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, pokud nebyly realizovány žádné výda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1199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zpráva se předkládá do 30ti dnů od skončení monitorovacího období (standardně za každých 6 měsíců realizace projektu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1199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Harmonogram předkládání MZ lze případně upravit </a:t>
            </a:r>
            <a:br>
              <a:rPr sz="2000"/>
            </a:b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v Rozhodnut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1199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rvní část MZ se předkládá prostřednictvím aplikace Benefit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1199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Druhá část MZ je předkládána ve formátu .doc (vzor je dán přílohou D10 Desater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1199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V případě nedostatků jak v MZ tak v ŽoP je příjemce vyzván </a:t>
            </a:r>
            <a:br>
              <a:rPr sz="2000"/>
            </a:b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k opravě/doplnění. Opět zpravidla jedenkrát. V případě nedostatečného doplnění, nebo marného uplynutí lhůty ze strany příjemce jsou případně adekvátně kráceny dotčené výdaje předložené v Ž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Finanční lim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1131c"/>
                </a:solidFill>
                <a:latin typeface="Arial"/>
              </a:rPr>
              <a:t>Zařízení a vybavení: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 max. 20% z přímých způsobilých výdaj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1131c"/>
                </a:solidFill>
                <a:latin typeface="Arial"/>
              </a:rPr>
              <a:t>Nákup služeb: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 max. 60% z přímých způsobilých výdaj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1131c"/>
                </a:solidFill>
                <a:latin typeface="Arial"/>
              </a:rPr>
              <a:t>Přímá podpora: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 max. 20% z přímých způsobilých výdajů (bez mzdových příspěvků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143f7e"/>
                </a:solidFill>
                <a:uFillTx/>
                <a:latin typeface="Arial"/>
              </a:rPr>
              <a:t>Mzdové příspěvky v rámci přímé podpory</a:t>
            </a:r>
            <a:r>
              <a:rPr b="0" lang="cs-CZ" sz="2000" spc="-1" strike="noStrike" u="sng">
                <a:solidFill>
                  <a:srgbClr val="143f7e"/>
                </a:solidFill>
                <a:uFillTx/>
                <a:latin typeface="Arial"/>
              </a:rPr>
              <a:t>: v projektu lze nárokovat až 100% mzdových nákladů na pracovní místo, nejvýše však trojnásobek minimální mzdy, tj. 24 000 Kč + povinné odv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1131c"/>
                </a:solidFill>
                <a:latin typeface="Arial"/>
              </a:rPr>
              <a:t>Omezení jednotkových cen v kapitole osobní náklady </a:t>
            </a:r>
            <a:br>
              <a:rPr sz="2400"/>
            </a:br>
            <a:r>
              <a:rPr b="0" lang="cs-CZ" sz="2400" spc="-1" strike="noStrike">
                <a:solidFill>
                  <a:srgbClr val="d1131c"/>
                </a:solidFill>
                <a:latin typeface="Arial"/>
              </a:rPr>
              <a:t>a zařízení a vybavení: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 příloha č. 4 výzvy „Obvyklé ceny osobních nákladů“ a příloha č.5 výzvy „Obvyklé ceny zařízení a vybavení 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ředkládání Monitorovacích zpráv (3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9528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2999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d1131c"/>
                </a:solidFill>
                <a:latin typeface="Arial"/>
              </a:rPr>
              <a:t>Mimořádná monitorovací zpráva (MMZ) s Ž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143f7e"/>
                </a:solidFill>
                <a:latin typeface="Arial"/>
              </a:rPr>
              <a:t>  </a:t>
            </a:r>
            <a:r>
              <a:rPr b="0" lang="pl-PL" sz="2400" spc="-1" strike="noStrike">
                <a:solidFill>
                  <a:srgbClr val="143f7e"/>
                </a:solidFill>
                <a:latin typeface="Arial"/>
              </a:rPr>
              <a:t>- </a:t>
            </a:r>
            <a:r>
              <a:rPr b="0" lang="pl-PL" sz="2000" spc="-1" strike="noStrike">
                <a:solidFill>
                  <a:srgbClr val="143f7e"/>
                </a:solidFill>
                <a:latin typeface="Arial"/>
              </a:rPr>
              <a:t>Mimořádnou MZ se ŽoP příjemce předkládá zpravidla v případě, kdy ví, že poskytnutá dotace nevystačí na realizaci projektu do dalšího předpokládaného termínu vyplacení další části dot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143f7e"/>
                </a:solidFill>
                <a:latin typeface="Arial"/>
              </a:rPr>
              <a:t>  </a:t>
            </a:r>
            <a:r>
              <a:rPr b="0" lang="pl-PL" sz="2000" spc="-1" strike="noStrike">
                <a:solidFill>
                  <a:srgbClr val="143f7e"/>
                </a:solidFill>
                <a:latin typeface="Arial"/>
              </a:rPr>
              <a:t>- O úmyslu předložit MMZ musí příjemce informovat v dostatečné časovém předstuhu poskytovatele dotace z důvodu nutných úprav harmonogramů a finančních plánů v IS MONIT7+ a Benefit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2999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Závěrečná monitorovací zpráva s Ž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  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-  Závěrečná MZ se předkládá nejpozději do 2 měsíců od ukončení realizace projek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    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Kontrola MZ, MMZ a závěrečné MZ je zpravidla do 40 pracovních dnů a příjemce je o jejím výsledku vyrozumě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143f7e"/>
                </a:solidFill>
                <a:latin typeface="Arial"/>
              </a:rPr>
              <a:t>Děkuji za pozorno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407e"/>
                </a:solidFill>
                <a:latin typeface="Arial"/>
              </a:rPr>
              <a:t>Další informac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d1131c"/>
                </a:solidFill>
                <a:latin typeface="Arial"/>
              </a:rPr>
              <a:t>www.esfcr.c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d1131c"/>
                </a:solidFill>
                <a:uFillTx/>
                <a:latin typeface="Arial"/>
              </a:rPr>
              <a:t>http://forum.esfcr.cz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Křížové financová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1131c"/>
                </a:solidFill>
                <a:latin typeface="Arial"/>
              </a:rPr>
              <a:t>Maximální objem prostředků v rámci výzvy: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 9% alokace výzvy, tj. 40 500 000 K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1131c"/>
                </a:solidFill>
                <a:latin typeface="Arial"/>
              </a:rPr>
              <a:t>Garantovaný minimální podíl: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 max. 3% z přímých způsobilých výdajů projek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1131c"/>
                </a:solidFill>
                <a:latin typeface="Arial"/>
              </a:rPr>
              <a:t>Maximální podíl : 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max. 40% přímých způsobilých výdajů s tím, že v souhrnu nesmí prostředky křížového financování překročit 9% alokace výzv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Tři podporované okruhy aktivit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143f7e"/>
                </a:solidFill>
                <a:latin typeface="Arial"/>
              </a:rPr>
              <a:t>Motivace zaměstnavatelů v uplatňování rovných příležitostí žen a mužů a slaďování pracovního a rodinného živo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143f7e"/>
                </a:solidFill>
                <a:latin typeface="Arial"/>
              </a:rPr>
              <a:t>Tvorba a realizace komplexních programů na podporu zahájení a rozvoj samostatně výdělečné činn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143f7e"/>
                </a:solidFill>
                <a:latin typeface="Arial"/>
              </a:rPr>
              <a:t>Místní partnerství a tematické sít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Služby péče o děti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143f7e"/>
                </a:solidFill>
                <a:uFillTx/>
                <a:latin typeface="Arial"/>
              </a:rPr>
              <a:t>Služby péče o děti </a:t>
            </a:r>
            <a:r>
              <a:rPr b="0" lang="cs-CZ" sz="2800" spc="-1" strike="noStrike" u="sng">
                <a:solidFill>
                  <a:srgbClr val="143f7e"/>
                </a:solidFill>
                <a:uFillTx/>
                <a:latin typeface="Arial"/>
              </a:rPr>
              <a:t>jsou podporovány v rámci všech tří okruhů aktivit </a:t>
            </a:r>
            <a:r>
              <a:rPr b="1" lang="cs-CZ" sz="2800" spc="-1" strike="noStrike" u="sng">
                <a:solidFill>
                  <a:srgbClr val="143f7e"/>
                </a:solidFill>
                <a:uFillTx/>
                <a:latin typeface="Arial"/>
              </a:rPr>
              <a:t>pouze jako součást komplexního řešení problematiky </a:t>
            </a:r>
            <a:r>
              <a:rPr b="0" lang="cs-CZ" sz="2800" spc="-1" strike="noStrike" u="sng">
                <a:solidFill>
                  <a:srgbClr val="143f7e"/>
                </a:solidFill>
                <a:uFillTx/>
                <a:latin typeface="Arial"/>
              </a:rPr>
              <a:t>(doplňková aktivita!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143f7e"/>
                </a:solidFill>
                <a:uFillTx/>
                <a:latin typeface="Arial"/>
              </a:rPr>
              <a:t>Služby lze provozovat na základě </a:t>
            </a:r>
            <a:r>
              <a:rPr b="1" lang="cs-CZ" sz="2800" spc="-1" strike="noStrike" u="sng">
                <a:solidFill>
                  <a:srgbClr val="143f7e"/>
                </a:solidFill>
                <a:uFillTx/>
                <a:latin typeface="Arial"/>
              </a:rPr>
              <a:t>platné </a:t>
            </a:r>
            <a:r>
              <a:rPr b="0" lang="cs-CZ" sz="2800" spc="-1" strike="noStrike" u="sng">
                <a:solidFill>
                  <a:srgbClr val="143f7e"/>
                </a:solidFill>
                <a:uFillTx/>
                <a:latin typeface="Arial"/>
              </a:rPr>
              <a:t>legislativy</a:t>
            </a:r>
            <a:r>
              <a:rPr b="1" lang="cs-CZ" sz="2800" spc="-1" strike="noStrike" u="sng">
                <a:solidFill>
                  <a:srgbClr val="143f7e"/>
                </a:solidFill>
                <a:uFillTx/>
                <a:latin typeface="Arial"/>
              </a:rPr>
              <a:t> v době realizace projektu </a:t>
            </a:r>
            <a:r>
              <a:rPr b="0" lang="cs-CZ" sz="2400" spc="-1" strike="noStrike" u="sng">
                <a:solidFill>
                  <a:srgbClr val="143f7e"/>
                </a:solidFill>
                <a:uFillTx/>
                <a:latin typeface="Arial"/>
              </a:rPr>
              <a:t>(např. v případě schválení návrhu zákona o službách péče o děti bude pak možno tyto služby provozovat podlé této právní úprav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říklady aktivit pro jednotlivé okruhy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1131c"/>
                </a:solidFill>
                <a:latin typeface="Arial"/>
              </a:rPr>
              <a:t>Motivace zaměstnavatel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143f7e"/>
                </a:solidFill>
                <a:latin typeface="Arial"/>
              </a:rPr>
              <a:t>Politika přátelská k rodině a gendrově příznivá politika v  podnicích (audity, soutěže atp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143f7e"/>
                </a:solidFill>
                <a:latin typeface="Arial"/>
              </a:rPr>
              <a:t>Flexibilní forma organizace prá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143f7e"/>
                </a:solidFill>
                <a:latin typeface="Arial"/>
              </a:rPr>
              <a:t>Vývoj a ověření inovativních programů </a:t>
            </a:r>
            <a:br>
              <a:rPr sz="2800"/>
            </a:br>
            <a:r>
              <a:rPr b="0" lang="cs-CZ" sz="2800" spc="-1" strike="noStrike">
                <a:solidFill>
                  <a:srgbClr val="143f7e"/>
                </a:solidFill>
                <a:latin typeface="Arial"/>
              </a:rPr>
              <a:t>a opatření k dané problemat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143f7e"/>
                </a:solidFill>
                <a:latin typeface="Arial"/>
              </a:rPr>
              <a:t>Tvorba pracovním míst včetně mzdových příspěvků (v rámci přímé podpor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říklady aktivit pro jednotlivé okruhy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1131c"/>
                </a:solidFill>
                <a:latin typeface="Arial"/>
              </a:rPr>
              <a:t>Podpora a rozvoj samostatné výdělečné čin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143f7e"/>
                </a:solidFill>
                <a:latin typeface="Arial"/>
              </a:rPr>
              <a:t>využití inovativních metod, zapojení doprovodných opatření a nástrojů slaďování pracovního a rodinného života pro ženy začínající podnikat a vykonávající samostatně výdělečnou čin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3T14:53:55Z</dcterms:created>
  <dc:creator>Slavek Hamadak</dc:creator>
  <dc:description/>
  <dc:language>en-US</dc:language>
  <cp:lastModifiedBy>Darth Vader</cp:lastModifiedBy>
  <dcterms:modified xsi:type="dcterms:W3CDTF">2011-06-20T09:44:14Z</dcterms:modified>
  <cp:revision>391</cp:revision>
  <dc:subject/>
  <dc:title>Snímek 1</dc:title>
</cp:coreProperties>
</file>