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39920" y="547200"/>
            <a:ext cx="4116240" cy="308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C2A5-5139-40CF-B9BA-7AA3CAAB68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B1CA-68E4-45A6-B8D9-FEDE3ADFE6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E273-631C-4D03-858F-34B7A3584A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A3D2-8D07-4CCE-8CC2-0F35D9186F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4C9C-0274-4A87-B234-AB4277ACDE4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F538-3027-46FB-8710-34A94543BD2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40C1-8B1E-49F2-8B02-7766E3E1A4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3C24-57B5-43BC-B6D3-E6B5C1D960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ECD6-E2CB-423A-9C02-AF54369358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25C6-4FFF-4439-A36B-70543273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29C-F80C-4B8A-92A9-6940C8AC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881D-B425-4D88-AC11-F37E8531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B1C-0016-4969-A8C8-84CC8529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418-9732-4F35-955A-C70ADF19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586B-BBCC-4509-A3CE-7F370709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F84-0909-4759-A63C-AC091F61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8B4-2495-4B4A-BA12-00B20E87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051-6FCA-4CAF-8D7A-44CF7F8A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DCA-A128-4A12-8C9A-7C6E1FF8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BADE-8F59-4455-B3D3-017663B2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5C2-2247-4081-B6AF-CE0582B1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0.6.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B3E9-6373-4F6E-B259-99BF4D292E9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Jak vyplnit žádost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o finanční podporu z OP LZZ?</a:t>
            </a:r>
            <a:br>
              <a:rPr sz="3600"/>
            </a:br>
            <a:br>
              <a:rPr sz="1600"/>
            </a:br>
            <a:r>
              <a:rPr b="1" lang="cs-CZ" sz="2500" spc="-1" strike="noStrike">
                <a:solidFill>
                  <a:srgbClr val="14407e"/>
                </a:solidFill>
                <a:latin typeface="Arial"/>
              </a:rPr>
              <a:t>Seminář pro žadatele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600" spc="-1" strike="noStrike">
              <a:solidFill>
                <a:srgbClr val="d113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32000" y="1125360"/>
            <a:ext cx="489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kladní informace o programu, příslušném globálním grantu a výzvě  se uložením žádosti automaticky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Zkontrolujte si, zda-li jste založili žádost ve správné výzvě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ioritní os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Oblasti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účetní jednot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 Zkrácený název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Název musí vystihovat stručně a jasně základní podstatu připravovaných aktiv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nglick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název projektu v AJ.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Je nepřípustné, aby žadatel v tomto poli uvedl pomlčku nebo jiný zástupný zna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358920" y="1197000"/>
            <a:ext cx="3673440" cy="4321080"/>
          </a:xfrm>
          <a:prstGeom prst="rect">
            <a:avLst/>
          </a:prstGeom>
          <a:ln w="0">
            <a:noFill/>
          </a:ln>
        </p:spPr>
      </p:pic>
      <p:sp>
        <p:nvSpPr>
          <p:cNvPr id="94" name="Obdélník 1"/>
          <p:cNvSpPr/>
          <p:nvPr/>
        </p:nvSpPr>
        <p:spPr>
          <a:xfrm>
            <a:off x="395280" y="2384280"/>
            <a:ext cx="3456000" cy="324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5640" y="1160280"/>
            <a:ext cx="48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pokládané datum zahájení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ředpokládané datum ukončení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ý obsah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j.  význam projektu, cíle, přínosy projektu a smyslupln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zaškrtnete příslušný checkbox, který je pro váš projekt relevantní. Ponecháte-li checkbox prázdný, znamená to 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zatržení checkbox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vychází z IPRM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e automaticky zpovinní (zažlutí)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aktivity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viz předchozí stra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Všechna žlutá pole jsou povinná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44720" cy="363708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1"/>
          <p:cNvSpPr/>
          <p:nvPr/>
        </p:nvSpPr>
        <p:spPr>
          <a:xfrm>
            <a:off x="431640" y="3537000"/>
            <a:ext cx="3492720" cy="134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334040" y="4535640"/>
            <a:ext cx="3095640" cy="68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640" y="29664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Žadatel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47640" y="1160280"/>
            <a:ext cx="44643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vním krokem k zadání organizace žadatele je vyplně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Kliknutím na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e ARES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zahájen proces validace organizace, jehož výsledkem je načtení základních informací z IS MF ČR 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číselníku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mezení je stanoveno výzvo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ňte stručnou charakteristiku organizace do textového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á charakteristika organizace a zkušenosti v oblasti zaměření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áznam uložte (tlačítko Uložit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následující 2 záložky, vážící se k žadateli, tj.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dresa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soby žadate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tretch/>
        </p:blipFill>
        <p:spPr>
          <a:xfrm>
            <a:off x="295200" y="1160640"/>
            <a:ext cx="39276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2"/>
          <p:cNvGrpSpPr/>
          <p:nvPr/>
        </p:nvGrpSpPr>
        <p:grpSpPr>
          <a:xfrm>
            <a:off x="449280" y="2241720"/>
            <a:ext cx="2475000" cy="358560"/>
            <a:chOff x="449280" y="2241720"/>
            <a:chExt cx="2475000" cy="358560"/>
          </a:xfrm>
        </p:grpSpPr>
        <p:sp>
          <p:nvSpPr>
            <p:cNvPr id="104" name="Rectangle 23"/>
            <p:cNvSpPr/>
            <p:nvPr/>
          </p:nvSpPr>
          <p:spPr>
            <a:xfrm>
              <a:off x="449280" y="2241720"/>
              <a:ext cx="719280" cy="35856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4"/>
            <p:cNvSpPr/>
            <p:nvPr/>
          </p:nvSpPr>
          <p:spPr>
            <a:xfrm>
              <a:off x="1178280" y="2414520"/>
              <a:ext cx="900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2060640" y="2325600"/>
              <a:ext cx="863640" cy="2520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5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artner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48000" y="1015920"/>
            <a:ext cx="46800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aktivní pouze v případě, že žadatel zatrhl na záložce Projekt checkbox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stup je obdobný jako na zál. Žadatale projektu. Vy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odešl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i ARES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údaje o organizaci partnera projektu se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máte do projektu zapojen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ahraničního partner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je možné na žádost žadatele tuto validaci na ARES a UIR-ADR vypnout. V tomto případě je postup následujíc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žadatel požádá o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ypnutí validace na hotline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adres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, kde uved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IČ zahr. partnera, Název organizace a Stát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Ze strany ŘO dojde k vypnutí validace d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zapojení partnerů do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Stručná charakteristika organizace a zkušenosti v oblasti zaměř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"/>
          <p:cNvPicPr/>
          <p:nvPr/>
        </p:nvPicPr>
        <p:blipFill>
          <a:blip r:embed="rId1"/>
          <a:stretch/>
        </p:blipFill>
        <p:spPr>
          <a:xfrm>
            <a:off x="4708440" y="1557360"/>
            <a:ext cx="1400400" cy="190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4130640" cy="49464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3"/>
          <p:cNvSpPr/>
          <p:nvPr/>
        </p:nvSpPr>
        <p:spPr>
          <a:xfrm>
            <a:off x="395280" y="2457360"/>
            <a:ext cx="77004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2071800" y="2494080"/>
            <a:ext cx="874440" cy="285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1195560" y="2644920"/>
            <a:ext cx="874440" cy="14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88000" y="1088640"/>
            <a:ext cx="4068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realizačním týmu, jak žadatele tak partnera projektu, který se bude na projektu podíl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e seznam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ových pozic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zici manažerskou a administrativní nebo pozici odbor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piš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ozi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doporučujeme bez jména) a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sub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žadatel/partner).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tručně popište zapojení konkrétního člena RT v rámc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lice důležitá 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orm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racovní smlouva, DPP, DPČ a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dnotka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hodina, měsí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počet měsíční/hodinové sazby, Úvazek a Délku působení v R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u jednotky „měsíc“). U jednotky „hodina“ se vyplní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42920" y="1305000"/>
            <a:ext cx="4699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opis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24000" y="1376280"/>
            <a:ext cx="386244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odrobnému popisu projektu, charakteristice hlavních cílů, potřebnosti, inovativnosti projektu a definování případných rizik ohrožujících realizaci projektu a návrh řešení odstranění či eliminace případných riz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le jsou povin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927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Klíčové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7280" y="4508280"/>
            <a:ext cx="803916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stručně popíše realizaci klíčové aktivity (kroky při naplňování cílů projektu, metody realizace včetně zdůvodnění zvolených metod) v rámci činností spojených s realizac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ktivity projektu by měly být logicky strukturovány a provázány a jejich realizace by měla vést k naplnění stanovených cíl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59036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Cílové skup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cílových skupinách, na které se žadatel v projektu zaměří. Cílovou skupinou jsou míněni jednotlivci příp. organizace, pro které je projekt určen (tedy ti, kteří budou profitovat z výstupů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Cílovou skupin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 ze sezna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zba aktivit projektu na cílové skupi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uvést vazbu mezi KA projektu a potřebami cílové skupiny. Aktivity projektu musí odrážet potřeby cílových skupin, na které je zamě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 a způsob zapojení cílové skupin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nutné popsat důvody pro výběr cílové skupiny vzhledem k potřebám, zjištěných u těchto skupin. Dále zde popište, jak projekt překonává problémy a zlepšuje postavení CS, způsob zapojení a motivace CS, způsob práce s CS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04840" y="1305000"/>
            <a:ext cx="4387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6360" y="1052280"/>
            <a:ext cx="392436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postupně zatrhněte rozvrh trvání klíčových aktivit (KA) do měsíců a roků realizace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časování aktivit by mělo být vzájemně a logicky provázáno. Rozmyslete si dobu trvání dané aktivity, tak, abyste měli jistotu, že budete mít dostatek času ji zrealiz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e všechny KA projektu musí být realizovány po celou dobu trván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verzní naplně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můžete jednoduše, rychle a hlavně najednou vyplnit všechny měsíce u příslušné KA. Pokud se daná aktivita nebude například realizovat v létě, stačí, když žadatel zruší zatržení daného měsí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16000" y="1233360"/>
            <a:ext cx="4932360" cy="3276720"/>
          </a:xfrm>
          <a:prstGeom prst="rect">
            <a:avLst/>
          </a:prstGeom>
          <a:ln w="0">
            <a:noFill/>
          </a:ln>
        </p:spPr>
      </p:pic>
      <p:sp>
        <p:nvSpPr>
          <p:cNvPr id="129" name="Obdélník 1"/>
          <p:cNvSpPr/>
          <p:nvPr/>
        </p:nvSpPr>
        <p:spPr>
          <a:xfrm>
            <a:off x="216000" y="3789360"/>
            <a:ext cx="1619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50920" y="1142640"/>
            <a:ext cx="414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ípravě rozpočtu je třeba věnovat maximální pozornost. Náklady musí být skutečně vynaloženy ve prospěch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veřejných prostředků je možné financovat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jenom způsobilé výdaj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ozpočet projektu aktivujete dvojklikem na jakýkoliv řádek (např. 03.03.01) v tabulce rozpočtu. Do rozpočtu lze přidávat řád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alší pokyny naleznete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ručce způsobilých výdajů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5) a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růvodci vyplněním projektové žádosti z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ZOR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Je důležité v rozpočtu projektu </a:t>
            </a:r>
            <a:r>
              <a:rPr b="1" lang="cs-CZ" sz="1600" spc="-1" strike="noStrike" u="sng">
                <a:solidFill>
                  <a:srgbClr val="d1131c"/>
                </a:solidFill>
                <a:uFillTx/>
                <a:latin typeface="Arial"/>
              </a:rPr>
              <a:t>rozlišit náklady žadatele a partnera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 zapojeného do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"/>
          <p:cNvPicPr/>
          <p:nvPr/>
        </p:nvPicPr>
        <p:blipFill>
          <a:blip r:embed="rId1"/>
          <a:stretch/>
        </p:blipFill>
        <p:spPr>
          <a:xfrm>
            <a:off x="351000" y="1089000"/>
            <a:ext cx="4370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0" lang="cs-CZ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7080" y="1125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- webová aplikace sloužící pro předkládání žádostí o finanční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 OP LZZ žadatelem, předkládání monitorovacích zpráv a žádostí o plat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jemc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e formulář pro vyplnění žádosti o finanční podporu z OP LZZ nalezne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u-zadost.cz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bo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www.eu-zadost.e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lší důležité informace 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zva pro předkládání GP 3.4 – Rovné příležitosti žen a mužů na tr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ráce a slaďování pracovního a rodinného života (č. 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ýzvu naleznete na internetových stránkách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sfcr.cz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 aplikaci Benefit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 odkaz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503280" y="5189400"/>
            <a:ext cx="781380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rozpočtu projektu se načítají i osoby z Realizačního týmu (kap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01. Osobní náklad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Stačí zmáčknout tlačítk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 tabulkou rozpoč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důležité u každ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nenul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kladu vybra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ežim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Číselník je pro výzvu č. 76 složen ze dvou možno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nepřímé náklady stačí vyplni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% nepřímých nákla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automaticky se vypočítá částka ve sloupci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řádku 10 z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še podílu nepřímých nákladů je vždy stanovena vyhlašovatelem výzvy, nikdy však nebude vyšší než 20% přímých způsobilých náklad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250920" y="944640"/>
            <a:ext cx="4105080" cy="56149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6"/>
          <p:cNvSpPr/>
          <p:nvPr/>
        </p:nvSpPr>
        <p:spPr>
          <a:xfrm>
            <a:off x="3166920" y="6127920"/>
            <a:ext cx="104472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258840" y="3787920"/>
            <a:ext cx="3852720" cy="433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2"/>
          <p:cNvSpPr/>
          <p:nvPr/>
        </p:nvSpPr>
        <p:spPr>
          <a:xfrm flipV="1">
            <a:off x="4102200" y="3409920"/>
            <a:ext cx="1225440" cy="4334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2"/>
          <a:stretch/>
        </p:blipFill>
        <p:spPr>
          <a:xfrm>
            <a:off x="5327640" y="3209760"/>
            <a:ext cx="2533680" cy="4003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6"/>
          <p:cNvSpPr/>
          <p:nvPr/>
        </p:nvSpPr>
        <p:spPr>
          <a:xfrm>
            <a:off x="250920" y="1835280"/>
            <a:ext cx="1512720" cy="234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3"/>
          <a:stretch/>
        </p:blipFill>
        <p:spPr>
          <a:xfrm>
            <a:off x="4929120" y="1951200"/>
            <a:ext cx="1476360" cy="16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Zdroje financ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76720" y="1341000"/>
            <a:ext cx="45100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lož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droje financová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aktivuje po vyplnění záložky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povinné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oukromé prostřed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Je možné vyplnit i nulovou hodno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se všechny podbarvené pole šedivou barvou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generování záznam uložte (pomocí tlačítka Uloži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íl finančních prostředků EU a SR je stanoven n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85 : 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7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960720" cy="49672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9"/>
          <p:cNvSpPr/>
          <p:nvPr/>
        </p:nvSpPr>
        <p:spPr>
          <a:xfrm>
            <a:off x="2519280" y="3065400"/>
            <a:ext cx="129564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7280" y="1780920"/>
            <a:ext cx="425916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rovných příležit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30" descr=""/>
          <p:cNvPicPr/>
          <p:nvPr/>
        </p:nvPicPr>
        <p:blipFill>
          <a:blip r:embed="rId1"/>
          <a:stretch/>
        </p:blipFill>
        <p:spPr>
          <a:xfrm>
            <a:off x="395280" y="1447920"/>
            <a:ext cx="3924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udržitelný roz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9280" y="1704600"/>
            <a:ext cx="436716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udržitelného rozvo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30" descr=""/>
          <p:cNvPicPr/>
          <p:nvPr/>
        </p:nvPicPr>
        <p:blipFill>
          <a:blip r:embed="rId1"/>
          <a:stretch/>
        </p:blipFill>
        <p:spPr>
          <a:xfrm>
            <a:off x="324000" y="1371600"/>
            <a:ext cx="392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287280" y="1219320"/>
          <a:ext cx="392436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219320"/>
                    <a:ext cx="392436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48000" y="1268280"/>
            <a:ext cx="4608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áložka je složena ze tří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1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sahuje osm textových polí (7 povinných a 1 nepovinné) s dotazy směřovanými jak na žadatele, tak na partnera (partnery)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vinná pole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musí žadatel vyplnit i v případě, že projekt nezakládá veřejnou podpor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povědu k jednotlivým polím naleznete v příručce D6 nebo v „Pokynech řídícího orgánu“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tlačítko na levé straně ovládacího panelu)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římo v Benefitu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5"/>
          <p:cNvGraphicFramePr/>
          <p:nvPr/>
        </p:nvGraphicFramePr>
        <p:xfrm>
          <a:off x="287280" y="4186080"/>
          <a:ext cx="3924360" cy="241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280" y="4186080"/>
                    <a:ext cx="392436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0" y="1197000"/>
            <a:ext cx="43927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2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záložky se generuje po vyplněn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tu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Generování částek podpory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není rozpočet vyplněn, tabulka se vygeneruje s nulovými hodnot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bulka je needitovatel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žádané VP/podpoře de minimis.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uvede požadovaný režim podpory, rozdělení VP/podpory de minimis mezi žadatele a partnera/-y projektu, případně třetí osoby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se pole žadatelů netýká, napište „NERELEVANTNÍ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 vyplněná data ulož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"/>
          <p:cNvPicPr/>
          <p:nvPr/>
        </p:nvPicPr>
        <p:blipFill>
          <a:blip r:embed="rId1"/>
          <a:stretch/>
        </p:blipFill>
        <p:spPr>
          <a:xfrm>
            <a:off x="179280" y="1665360"/>
            <a:ext cx="4511880" cy="3543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5"/>
          <p:cNvSpPr/>
          <p:nvPr/>
        </p:nvSpPr>
        <p:spPr>
          <a:xfrm>
            <a:off x="237960" y="3249720"/>
            <a:ext cx="1403640" cy="323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216000" y="4365720"/>
          <a:ext cx="4500360" cy="19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365720"/>
                    <a:ext cx="450036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3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je aktivní pouze v případě, že žadatel zatrhl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Byl jste příjemcem podpory de minimis za poslední 3 účetní období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ípadě, že pole žadatel nezatrhl, je tato část záložky neaktivní a nelze do ní zapis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é informace o VP naleznete v příručce V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eřejná podpora a podpora de minimis (D7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příruč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Průvodce vyplněním projektové žádosti z OP LZZ (D6)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250920" y="1015920"/>
          <a:ext cx="4392360" cy="324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015920"/>
                    <a:ext cx="439236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6"/>
          <p:cNvSpPr/>
          <p:nvPr/>
        </p:nvSpPr>
        <p:spPr>
          <a:xfrm>
            <a:off x="3166920" y="2565360"/>
            <a:ext cx="12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d1131c"/>
                </a:solidFill>
                <a:latin typeface="Arial"/>
              </a:rPr>
              <a:t>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024360" y="512136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9999"/>
                </a:solidFill>
                <a:latin typeface="Arial"/>
              </a:rPr>
              <a:t>Ne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 flipH="1">
            <a:off x="3634920" y="4257720"/>
            <a:ext cx="1513080" cy="900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 flipH="1">
            <a:off x="4427640" y="2565360"/>
            <a:ext cx="720720" cy="34920"/>
          </a:xfrm>
          <a:prstGeom prst="line">
            <a:avLst/>
          </a:prstGeom>
          <a:ln w="19080">
            <a:solidFill>
              <a:srgbClr val="d113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216000" y="4365720"/>
            <a:ext cx="4500360" cy="1871640"/>
          </a:xfrm>
          <a:prstGeom prst="rect">
            <a:avLst/>
          </a:prstGeom>
          <a:noFill/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216000" y="1052640"/>
            <a:ext cx="4427280" cy="3205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08000" y="1341000"/>
            <a:ext cx="4248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 výzvě č.76 je uveden seznam povinných příloh, které musí být součástí předložené žádosti o finanční podpor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vinná příloh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ro výzvu č.76 je pouze jed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001) Doklad o právní subjektivitě žada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Maximální velikost jedné příloh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řiložené k žádosti o finanční podporu v aplikaci Benefit7 v elektronické podobě 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3MB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Přílohy větší než 3MB doporučuje uložit na CD-ROM, který přiložíte jako přílohu 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aximální velikost celé žádosti je 20MB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tretch/>
        </p:blipFill>
        <p:spPr>
          <a:xfrm>
            <a:off x="395280" y="1015920"/>
            <a:ext cx="4175280" cy="50770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431640" y="1449360"/>
            <a:ext cx="281304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Kontrola žád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2920" y="1591920"/>
            <a:ext cx="4141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tiskové sestavě žádosti o finanční podporu je zapracovaná kapitola -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ontrola žád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dná se o kritéria pro formální hodnocení a hodnocení přijatelnos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MUS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 finalizaci žádosti provést kontrolu, kde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ručně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aškrtá jednotlivá kritéria hodnoc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bude některé kritérium pro něj nerelevantní, zatrhne žadatel pole N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0" y="1233360"/>
            <a:ext cx="4608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estné prohlášení a podpisová tabu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1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916520" cy="511308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4967280" y="2205000"/>
            <a:ext cx="3925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pisová tabulka se žadateli ukáže až v tiskové sestavě žádosti na poslední straně žádosti o finanční podporu (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Podpis musí být umístěn do samostatného pole, v žádném případě nesmí být přetištěn razítkem nebo být přepsán přes otisk razít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Důležité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327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www.esfcr.cz, odkaz na V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a rovněž na titulní straně aplikace Benefit7 www.eu-zadost.cz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 Následující odstávka aplikací bude 1.7.2011!!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žádosti na poslední chvíli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růvodce vyplněním projektové žádosti z OP LZZ (D6), revize 1.6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Dokument naleznete na www.eu-zadost.cz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tlačítko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Nová žádos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OP LZ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odkaz výzvy pro žadate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tlačítko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Pokyny řídícího orgán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 aplikací Benefit7 se obracejte na hotline adres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ŘO: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, do předmětu e-mailu napište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Hash projekt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Kód žádosti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16436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Finalizace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8320" y="1375920"/>
            <a:ext cx="403848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í uzavření žádosti je posledním krokem žadatele před odesláním žádosti do 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žádosti provedet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žádosti a na 1. straně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Unikátní 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0-ti místní kód), který je složen ze  dvou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1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3mkWP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2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verz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001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orno finaliza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ůžete žádost znovu otevřít, provést změny a opět finalizovat. Při tomto kroku se zvýší klíč verze o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6"/>
          <p:cNvGraphicFramePr/>
          <p:nvPr/>
        </p:nvGraphicFramePr>
        <p:xfrm>
          <a:off x="287280" y="3357720"/>
          <a:ext cx="442764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3357720"/>
                    <a:ext cx="442764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8"/>
          <p:cNvSpPr/>
          <p:nvPr/>
        </p:nvSpPr>
        <p:spPr>
          <a:xfrm>
            <a:off x="3132000" y="4005360"/>
            <a:ext cx="757440" cy="32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9"/>
          <p:cNvGraphicFramePr/>
          <p:nvPr/>
        </p:nvGraphicFramePr>
        <p:xfrm>
          <a:off x="611280" y="5270400"/>
          <a:ext cx="42480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270400"/>
                    <a:ext cx="4248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18"/>
          <p:cNvSpPr/>
          <p:nvPr/>
        </p:nvSpPr>
        <p:spPr>
          <a:xfrm>
            <a:off x="2592360" y="5468760"/>
            <a:ext cx="1008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 flipH="1">
            <a:off x="3276360" y="4113360"/>
            <a:ext cx="1655640" cy="136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3"/>
          <p:cNvSpPr/>
          <p:nvPr/>
        </p:nvSpPr>
        <p:spPr>
          <a:xfrm>
            <a:off x="4896000" y="3789360"/>
            <a:ext cx="288720" cy="576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7" descr=""/>
          <p:cNvPicPr/>
          <p:nvPr/>
        </p:nvPicPr>
        <p:blipFill>
          <a:blip r:embed="rId5"/>
          <a:stretch/>
        </p:blipFill>
        <p:spPr>
          <a:xfrm>
            <a:off x="544680" y="1197000"/>
            <a:ext cx="2295360" cy="17812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20"/>
          <p:cNvSpPr/>
          <p:nvPr/>
        </p:nvSpPr>
        <p:spPr>
          <a:xfrm>
            <a:off x="538200" y="2313000"/>
            <a:ext cx="1727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1"/>
          <p:cNvSpPr/>
          <p:nvPr/>
        </p:nvSpPr>
        <p:spPr>
          <a:xfrm>
            <a:off x="1711440" y="2529000"/>
            <a:ext cx="1439640" cy="14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sk a předložení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392720" y="1449360"/>
            <a:ext cx="429408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musí být podepsaná osobou oprávněnou jednat jménem žadate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v listinné podobě musí být předložena v požadovaném počtu vyhotovení (1 originá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y výtisku je třeba pevně spojit (sešít, přelepit a opatřit podpisem a razítk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 osobně, doporučenou poštou nebo expresní zásilkou vyhlašovateli výzvy (adresa vyhlašovatele a kontaktní místo jsou uvedeny v textu výzv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3" descr=""/>
          <p:cNvPicPr/>
          <p:nvPr/>
        </p:nvPicPr>
        <p:blipFill>
          <a:blip r:embed="rId1"/>
          <a:stretch/>
        </p:blipFill>
        <p:spPr>
          <a:xfrm>
            <a:off x="250920" y="1015920"/>
            <a:ext cx="4056120" cy="55450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4"/>
          <p:cNvSpPr/>
          <p:nvPr/>
        </p:nvSpPr>
        <p:spPr>
          <a:xfrm>
            <a:off x="1650960" y="1149480"/>
            <a:ext cx="1258920" cy="179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0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benefit7@mpsv.cz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sad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Benefit7 umožňu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stý text (případné obrázky, tabulky, grafy do příl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lternativní strukturu textu (číslování, odráž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ůběžné ukládání a t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utomatické načítání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V Benefit7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úplnosti a správnosti vyplněných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pravopi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8"/>
          <p:cNvGraphicFramePr/>
          <p:nvPr/>
        </p:nvGraphicFramePr>
        <p:xfrm>
          <a:off x="324000" y="981000"/>
          <a:ext cx="7524720" cy="512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981000"/>
                    <a:ext cx="752472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Obdélník 1"/>
          <p:cNvSpPr/>
          <p:nvPr/>
        </p:nvSpPr>
        <p:spPr>
          <a:xfrm>
            <a:off x="2195640" y="3287880"/>
            <a:ext cx="4140000" cy="900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2"/>
          <p:cNvSpPr/>
          <p:nvPr/>
        </p:nvSpPr>
        <p:spPr>
          <a:xfrm>
            <a:off x="6408720" y="3933720"/>
            <a:ext cx="24843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gistrace do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36280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obdrží potvrzení registrace d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vé e-mailové schrán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, která obsahu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ní klí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Kliknutím na tento klíč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uje svůj účet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 Tuto aktivaci je nutné provést v den registrace, jelikož je klíč platný pouze do 6:00:00 následujícího d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428760" y="1268280"/>
            <a:ext cx="2774880" cy="2556000"/>
          </a:xfrm>
          <a:prstGeom prst="rect">
            <a:avLst/>
          </a:prstGeom>
          <a:ln w="0">
            <a:noFill/>
          </a:ln>
        </p:spPr>
      </p:pic>
      <p:sp>
        <p:nvSpPr>
          <p:cNvPr id="68" name="Line 10"/>
          <p:cNvSpPr/>
          <p:nvPr/>
        </p:nvSpPr>
        <p:spPr>
          <a:xfrm>
            <a:off x="108000" y="2705040"/>
            <a:ext cx="304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60440" y="2593800"/>
            <a:ext cx="1411200" cy="222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2411280" y="966960"/>
            <a:ext cx="6066000" cy="4146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3"/>
          <p:cNvSpPr/>
          <p:nvPr/>
        </p:nvSpPr>
        <p:spPr>
          <a:xfrm>
            <a:off x="4067280" y="4041720"/>
            <a:ext cx="1655640" cy="252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aložení žádosti o finanční podp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4"/>
          <p:cNvGraphicFramePr/>
          <p:nvPr/>
        </p:nvGraphicFramePr>
        <p:xfrm>
          <a:off x="609480" y="1219320"/>
          <a:ext cx="1694160" cy="11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16941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6"/>
          <p:cNvSpPr/>
          <p:nvPr/>
        </p:nvSpPr>
        <p:spPr>
          <a:xfrm>
            <a:off x="152280" y="18781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533520" y="1752480"/>
            <a:ext cx="1590480" cy="23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395280" y="504972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Po levé straně ovládacího panelu naleznete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Nová žádos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Otevře se přehled OP. Po výběru operačního program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P LZZ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e zobrazí nabídka všech aktuálně vyhlášených výzev pro předkládání žádostí o finanční podporu (grantových, individuálních, projektů technické pomoci) a globálních grantů v rámci OP LZ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3"/>
          <a:stretch/>
        </p:blipFill>
        <p:spPr>
          <a:xfrm>
            <a:off x="2600280" y="907920"/>
            <a:ext cx="5257800" cy="3321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4643280" y="2889360"/>
            <a:ext cx="289584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5651640" y="3135240"/>
            <a:ext cx="180720" cy="1289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4"/>
          <a:stretch/>
        </p:blipFill>
        <p:spPr>
          <a:xfrm>
            <a:off x="1233360" y="4464000"/>
            <a:ext cx="6820200" cy="333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2"/>
          <p:cNvSpPr/>
          <p:nvPr/>
        </p:nvSpPr>
        <p:spPr>
          <a:xfrm>
            <a:off x="1150920" y="4424400"/>
            <a:ext cx="6902640" cy="372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Ovládací prvk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68240" y="1160640"/>
            <a:ext cx="63961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o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lačítko slouží pro rychlý návrat do seznamu žádostí uživatel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ápověd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pro každou jednotlivou stránku (záložku) projektové žádosti  se zobrazí okno, které podrobněji popisuje význam datových polí nacházejících se na dané stránce. ŘO tuto nápovědu neaktualizuj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kyny řídícího orgánu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 na této záložce nalezne uživatel potřebné a aktuální pokyny k vyplnění žádosti, dokumenty ke změnám v aplikaci a odkaz na hotline adresu ŘO benefit7@mpsv.cz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ístup k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na této záložce je možné nastavit přístupová práva dalším osobá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pírovat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ímto tlačítkem můžete zkopírovat již založenou/finalizovanou/předloženou žádo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rušit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– tímto tlačítkem vymaže uživatel celou žádost včetně všech dat v záložkách a příloh. DB obnova odstraněné žádosti není možná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spuštění tohoto tlačítka dojde ke zkontrolování správného vyplnění všech povinných pol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k finálnímu uzavření (uložení) projektové žádosti a přidělení „Klíče verze“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práv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pro komunikaci mezi vyhlašovatelem výzvy/poskytovatelem podpory a žadatelem/příjemc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ímto tlačítkem se finalizovaná žádost zobrazí v sestavě pro tisk ve formátu *.pdf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87280" y="1332000"/>
            <a:ext cx="2281320" cy="27003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1"/>
          <p:cNvSpPr/>
          <p:nvPr/>
        </p:nvSpPr>
        <p:spPr>
          <a:xfrm>
            <a:off x="358920" y="1952640"/>
            <a:ext cx="17287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ehled záložek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35280" y="1447920"/>
            <a:ext cx="595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nutné vzhledem k provázanosti záložek, vyplňovat záložky v takovém pořadí, v jakém jsou řazeny v aplikaci Benefit7 (nabídková modrá lišta v levé části obrazovky). V opačném případě může dojít k nenačtení číselníků indikátorů, cílových skupin, typů žadatele, rozpočtu, příloh,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i průběžném vyplňování jednotlivých polí a záložek, je nutné změny průběžně ukládat (tlačítko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ý postup pro vyplnění žádosti o finanční podporu je uveden v příručce Desatera OP LZZ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6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d 1. 3. 2011 došlo ke změně zál.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Výběrová říze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etaily k VŘ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kument naleznete v Pokynech řídícího orgánu. Změna není popsána v D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68360" y="1015920"/>
            <a:ext cx="2124000" cy="517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1:06:39Z</dcterms:created>
  <dc:creator>Ing. Janka Gáplovská</dc:creator>
  <dc:description/>
  <dc:language>en-US</dc:language>
  <cp:lastModifiedBy>Kopečná Janka, Ing. (MPSV)</cp:lastModifiedBy>
  <cp:lastPrinted>2008-07-08T14:49:10Z</cp:lastPrinted>
  <dcterms:modified xsi:type="dcterms:W3CDTF">2011-06-06T10:21:44Z</dcterms:modified>
  <cp:revision>714</cp:revision>
  <dc:subject/>
  <dc:title>Projektový manažer OP LZZ v M7+</dc:title>
</cp:coreProperties>
</file>