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0C7D-42C0-4BAC-B248-053797BB55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BFE-EACC-4756-87A9-E59252BF87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F67C-AB2B-4F6B-89E3-5B024DF60F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A640-D9BA-4057-9410-6F64D896A4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A1B4-C581-4C2A-8C9A-20B0CB6B9E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E99-E740-4794-9A3A-436248DF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91E-29E1-409C-BECC-0CB75C2D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E05-D572-4288-8000-81A180A6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89A-4A04-4A91-AE11-A898DD08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16E-E4ED-400C-B3AD-77E5AE70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156-3921-4640-9F9E-69BA5E9D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8C6-D223-49C9-AF73-0CA00421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165-0CDA-44D4-AD64-D37142A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BC4-6C3E-4253-8CB6-5B207756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F4B-D13D-479B-940C-AB6D4C1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92D-FDBA-4991-A22B-8683AE25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823-33C2-41CF-B750-D46AA6B3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76E2-0F4F-453D-B095-500DA47E5BC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_a_cb"/>
          <p:cNvPicPr/>
          <p:nvPr/>
        </p:nvPicPr>
        <p:blipFill>
          <a:blip r:embed="rId1"/>
          <a:stretch/>
        </p:blipFill>
        <p:spPr>
          <a:xfrm>
            <a:off x="7308720" y="19044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1. srpen 2011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. led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-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Únor/březen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- předpokládaný začátek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nestátní neziskové organiz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se základním vzdělá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ublicita – samostatná klíčová aktivit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rojektové žádosti, nebo příloze 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sm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07-13/oplzz/desatero-op-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ypořádání připomínek k výz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.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3. výzva pro předkládání grantových projektů                     v oblasti podpory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6. května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50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1. srpna 2011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náleží partnerovi, musí být označeny názvem partnera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Úspěšní žadatelé dolož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bezdlužnosti a bezúhon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partne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velikosti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estné prohlášení o tom, že na schválený projekt žadatel nečerpá jiné veřejn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závažných změ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ankou potvrzený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ormulář finanční ide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ňovány na stránkách www.esfcr,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ZOR: Žádost musí být založena ve správné výzv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2 výzvy (A,B nebo C 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e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vinné přílohy, resp. pro výzvu 76 je relevantní pouze doklad o právní subjektivi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3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Realizace musí být ukončena nejpozději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do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30. 6. 2015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splněny specifické podmínky dané výzvou (samostatná aktivita publicity, zařazení experta do realizačního týmu a projekt není zaměřen jen na školení a neobsahuje volnočasové ak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3 hodnotitelé) a následného hodnocení prostřednictvím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v průměru minimálně 65 bo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zařazení položek rozpočtu – viz. D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není kvantifik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ě popsaná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zdové příspěvky v rámci přímé podpory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: v projektu lze nárokovat až 100% mzdových nákladů na pracovní místo, nejvýše však trojnásobek minimální mzdy, tj. 24 000 Kč + povinné od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příloha č. 4 výzvy „Obvyklé ceny osobních nákladů“ a příloha č.5 výzvy „Obvyklé ceny zařízení a vybavení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40 pracovních dnů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40 5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otivace zaměstnavatelů v uplatňování rovných příležitostí žen a mužů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jsou podporovány v rámci všech tří okruhů aktivit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uze jako součást komplexního řešení problematiky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lze provozovat na základě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latné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legislativy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 v době realizace projektu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otivace zaměstna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litika přátelská k rodině a gendrově příznivá politika v  podnicích (audity, soutěže at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lexibilní forma organizac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voj a ověření inovativních programů 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a opatření k dané problema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Tvorba pracovním míst včetně mzdových příspěvků (v rámci přímé podp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Podpora a rozvoj samostatné výdělečné čin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pro ženy začínající podnikat a vykonávající samostatně výděleč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Darth Vader</cp:lastModifiedBy>
  <dcterms:modified xsi:type="dcterms:W3CDTF">2011-06-20T09:44:14Z</dcterms:modified>
  <cp:revision>391</cp:revision>
  <dc:subject/>
  <dc:title>Snímek 1</dc:title>
</cp:coreProperties>
</file>