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A6F-F618-406E-A672-5AEEBAFE6A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3714-3B64-410F-8D8B-A00994C974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5209-F6CA-40CC-907D-7685ED74DC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AE7-FACB-4FBE-B8BE-A6D3718DA2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FCF1-06FE-41AA-815E-235A296347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BC7-E037-4909-96C1-7652028D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C2F-ED8A-4108-A45D-6039FF21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160-305F-447E-AF18-F3725D54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89B-D42D-42A9-81B3-9101485F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3E2-E846-4016-BEC5-C9FDA21C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6C0-B42E-48FC-A87C-48C7779F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2F9-3B5A-4989-B237-27283E5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999-CC7E-441A-A202-E5C3906D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5ED-39A5-4893-AB18-2EF42D7D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A6A-8480-4635-A1A4-07564508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5D9-8768-452A-AF79-77DA8AE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CE7-203E-4DA3-A2D7-F258806A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0724-D651-4145-B113-B404D948B1A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_a_cb"/>
          <p:cNvPicPr/>
          <p:nvPr/>
        </p:nvPicPr>
        <p:blipFill>
          <a:blip r:embed="rId1"/>
          <a:stretch/>
        </p:blipFill>
        <p:spPr>
          <a:xfrm>
            <a:off x="7308720" y="19044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1. srpen 2011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. led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-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Únor/březen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- předpokládaný začátek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nestátní neziskové organiz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se základním vzdě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ublicita – samostatná klíčová aktivit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rojektové žádosti, nebo příloze 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sm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07-13/oplzz/desatero-op-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ypořádání připomínek k výz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.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3. výzva pro předkládání grantových projektů                     v oblasti podpory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6. květ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50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1. srpna 2011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náleží partnerovi, musí být označeny názvem partnera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Úspěšní žadatelé dolož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bezdlužnosti a bezúho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velik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estné prohlášení o tom, že na schválený projekt žadatel nečerpá jiné veřejn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závažn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ankou potvrzený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ormulář finanční ide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ňovány na stránkách www.esfcr,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ZOR: Žádost musí být založena ve správné výz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2 výzvy (A,B nebo C 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e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vinné přílohy, resp. pro výzvu 76 je relevantní pouze doklad o právní subjektiv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3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Realizace musí být ukončena nejpozději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do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30. 6. 2015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splněny specifické podmínky dané výzvou (samostatná aktivita publicity, zařazení experta do realizačního týmu a projekt není zaměřen jen na školení a neobsahuje volnočasové ak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3 hodnotitelé) a následného hodnocení prostřednictvím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v průměru minimálně 65 bo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zařazení položek rozpočtu – viz. D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není kvantifik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ě popsaná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zdové příspěvky v rámci přímé podpory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: v projektu lze nárokovat až 100% mzdových nákladů na pracovní místo, nejvýše však trojnásobek minimální mzdy, tj. 24 000 Kč + povinné od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příloha č. 4 výzvy „Obvyklé ceny osobních nákladů“ a příloha č.5 výzvy „Obvyklé ceny zařízení a vybavení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40 pracovních dnů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40 5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otivace zaměstnavatelů v uplatňování rovných příležitostí žen a mužů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jsou podporovány v rámci všech tří okruhů aktivit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uze jako součást komplexního řešení problematiky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lze provozovat na základě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latné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legislativy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 v době realizace projektu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otivace zaměstn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litika přátelská k rodině a gendrově příznivá politika v  podnicích (audity, soutěže at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lexibilní forma organizac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voj a ověření inovativních programů 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a opatření k dané proble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Tvorba pracovním míst včetně mzdových příspěvků (v rámci přímé podp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Podpora a rozvoj samostatné výdělečné 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pro ženy začínající podnikat a vykonávající samostatně výděleč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arth Vader</cp:lastModifiedBy>
  <dcterms:modified xsi:type="dcterms:W3CDTF">2011-06-20T09:44:14Z</dcterms:modified>
  <cp:revision>391</cp:revision>
  <dc:subject/>
  <dc:title>Snímek 1</dc:title>
</cp:coreProperties>
</file>