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E8B1-AC53-413B-B390-FEBF387A2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1312-515E-4322-9B08-5A36F3B9A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70C5-BD08-4D9F-ACA8-8DCDDFBF5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1E55-C76D-488F-98F8-F4B292D9C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0760B-5D4E-4440-A555-B3140D5B1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00C07-A551-4B39-BEC0-CFC1F5CD4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BAC50-D21B-4F2C-BBD6-5F6A97BA5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F8F39-0898-48E0-AD2B-181B2A079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BE4A0-372C-4DA7-B32C-BDB9C3F57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C41B0-9F8C-42F2-858F-D15A8F4AF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F023F-AFF6-43C2-B4D5-73E7D115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E0EC-5B86-4C2D-8577-EDAC58098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0A559-A698-43E4-95AC-5A1F14AA3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9BB04-C42C-4C73-B16D-1D632C1C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3D523-F178-4AA2-8382-423FFF0C6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0F3DE-7A6A-406C-BECB-0AA599A1A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2C248-4A20-4344-93DA-2C9F9EB89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A2FE-7229-43CE-88FB-DC7ABACFB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7D03-C25E-4F1F-B788-B75AB8E48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7BFD-BCA2-4366-933B-874B9A9AD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C10A-2DB4-490F-B262-1543C6014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E050-FBE6-4E66-905C-6D9D9A000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5547-C5DF-40E4-8868-1D7D1CEF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A8BE-D7EA-425F-B759-3631D9D95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E7A9B-010E-4212-B910-8629F5FF6CB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029AD-F371-45FE-89BA-9F694092707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</a:rPr>
              <a:t>Proč podporovat rovné příležitosti žen a muž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1844280"/>
            <a:ext cx="640080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Seminář pro žadatele</a:t>
            </a:r>
            <a:br>
              <a:rPr sz="2400"/>
            </a:b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OP LZZ – výzva č. 76 Rovné příležitosti žen a mužů na trhu práce a slaďování pracovního a rodinného živ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raha/Brno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Obrázek 3" descr="http://www.naseantikoncepce.cz/pohlavni-choroby/sablona/znak_muz_zena.gif"/>
          <p:cNvPicPr/>
          <p:nvPr/>
        </p:nvPicPr>
        <p:blipFill>
          <a:blip r:embed="rId1"/>
          <a:stretch/>
        </p:blipFill>
        <p:spPr>
          <a:xfrm>
            <a:off x="3780000" y="3781440"/>
            <a:ext cx="146016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Proč podporovat rovné příležitosti žen a muž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Rovné příležitosti na trhu práce se vyplat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Žená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– více možností k seberealizaci, kariérní postup, posílení ekonomické situace, společenská presti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Zaměstnavatelů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– d</a:t>
            </a:r>
            <a:r>
              <a:rPr b="0" lang="pt-BR" sz="1800" spc="-1" strike="noStrike">
                <a:solidFill>
                  <a:srgbClr val="143f7e"/>
                </a:solidFill>
                <a:latin typeface="Arial"/>
              </a:rPr>
              <a:t>obré postavení podniku pokud jde o právní povinnosti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(rovnost vyžaduje zákon nebo existuje tlak zaměstnanců), výhody pro podnik plynoucí z různých přístupů, zkušeností a priorit, dobrá praxe. Snížení důrazu na pohlaví zaměstnanců znamená zvýšení důrazu na skutečné kvality, kompetence a schopnost vykonávat danou pracovní pozici co nejlép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Státu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– zvýšení zaměstnanosti, rozvoj statků a služeb, snížení nákladů na sociální dávky, podporu v nezaměstnanosti a výdaje na rekvalifikac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Proč podporovat rovné příležitosti žen a muž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Než začnete psát projekt, položte si otázku, zda svými aktivitami skutečně přispěje ke zlepšení situace </a:t>
            </a:r>
            <a:br>
              <a:rPr sz="2400"/>
            </a:b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v těchto oblastech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Horizontální a vertikální rozdělení trhu práce podle pohlav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Míra platové nerovnosti žen a muž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řístup zaměstnavatelů ke slaďování pracovního </a:t>
            </a:r>
            <a:br>
              <a:rPr sz="2400"/>
            </a:b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a rodinného živo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Odbourávání genderových stereotypů na trhu prá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… </a:t>
            </a: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pokud ano, pak směle do toho!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X:\We_Can_Do_It!.jpg"/>
          <p:cNvPicPr/>
          <p:nvPr/>
        </p:nvPicPr>
        <p:blipFill>
          <a:blip r:embed="rId1"/>
          <a:stretch/>
        </p:blipFill>
        <p:spPr>
          <a:xfrm>
            <a:off x="2733840" y="1484280"/>
            <a:ext cx="349380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8088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4407e"/>
                </a:solidFill>
                <a:latin typeface="Arial"/>
              </a:rPr>
              <a:t>Děkuji Vám za pozorno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Proč podporovat rovné příležitosti žen a muž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třeba přistupovat ke každému člověku stejným způsobem nehledě na rasu, sexuální orientaci, pohlaví, fyzický vzhled nebo další odlišnosti, patří </a:t>
            </a:r>
            <a:br>
              <a:rPr sz="1600"/>
            </a:b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současnosti mezi jednu z hlavních zásad života ve společnost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rincip rovných příležitostí znamená potírání diskriminace a předcházení diskriminaci na základě pohlaví, rasy, etnického původu, náboženského vyznání, víry, zdravotního postižení, věku či sexuální orient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erovnost na základě pohlaví lze identifikovat i v rámci jednotlivých sociálně ohrožených skupin, jedná se pak o kombinaci několika znevýhodňujících faktor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R</a:t>
            </a:r>
            <a:r>
              <a:rPr b="0" lang="en-GB" sz="1600" spc="-1" strike="noStrike">
                <a:solidFill>
                  <a:srgbClr val="143f7e"/>
                </a:solidFill>
                <a:latin typeface="Arial"/>
              </a:rPr>
              <a:t>ovné příležitosti pro muže a žen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= </a:t>
            </a:r>
            <a:r>
              <a:rPr b="0" lang="en-GB" sz="1600" spc="-1" strike="noStrike">
                <a:solidFill>
                  <a:srgbClr val="143f7e"/>
                </a:solidFill>
                <a:latin typeface="Arial"/>
              </a:rPr>
              <a:t>absenc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e</a:t>
            </a:r>
            <a:r>
              <a:rPr b="0" lang="en-GB" sz="1600" spc="-1" strike="noStrike">
                <a:solidFill>
                  <a:srgbClr val="143f7e"/>
                </a:solidFill>
                <a:latin typeface="Arial"/>
              </a:rPr>
              <a:t> překážek bránících občanům na základě jejich příslušnosti k pohlaví v účasti na ekonomice, politice a v sociální oblasti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Cílem politiky rovnosti žen a mužů je zajistit, aby ženy i muži měli stejná práva, povinnosti a příležitosti ve všech sférách živo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Formální rovnost (de jure) je pouze první krok k skutečné rovnosti (de facto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Proč podporovat rovné příležitosti žen a muž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43f7e"/>
                </a:solidFill>
                <a:latin typeface="Arial"/>
              </a:rPr>
              <a:t>Otázka rovnosti žen a mužů jako jeden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e základních cílů Evropského společenstv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1131c"/>
                </a:solidFill>
                <a:latin typeface="Arial"/>
              </a:rPr>
              <a:t>Římská smlouva (1957)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 obsahovala ustanovení zavádějící princip rovného odměňování pro ženy a muž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1131c"/>
                </a:solidFill>
                <a:latin typeface="Arial"/>
              </a:rPr>
              <a:t>Plán Komise pro dosažení rovného postavení žen a mužů 2006 - 2010 (Roadmap)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: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tejná ekonomická nezávislost pro ženy i muže; sladění soukromého a profesního života; stejné zastoupení žen a mužů </a:t>
            </a:r>
            <a:br>
              <a:rPr sz="1800"/>
            </a:b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v rozhodovacích procesech; odstraňování všech forem násilí založeného na pohlaví; odstraňování stereotypů o roli žen a mužů ve společnosti ; podpora rovného postavení žen a mužů v zahraniční a rozvojové politice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Proč podporovat rovné příležitosti žen a muž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en-GB" sz="1800" spc="-1" strike="noStrike">
                <a:solidFill>
                  <a:srgbClr val="c00000"/>
                </a:solidFill>
                <a:latin typeface="Arial"/>
              </a:rPr>
              <a:t>Evropský pakt pro rovnost žen a mužů</a:t>
            </a: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: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řijat na zasedání Evropské rady </a:t>
            </a:r>
            <a:br>
              <a:rPr sz="1800"/>
            </a:b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v březnu 2006, deklaruje politickou vůli vrcholných představitelů členských států EU zajistit rovné postavení žen a mužů na trhu práce a potírání stereotypních předsudků o roli žen a mužů v zaměstnání,  zlepšení podmínek pro sladění pracovního a rodinného života žen a mužů a posílení hlediska rovnosti žen a mužů ve všech plánovacích a rozhodovacích procesech (gender mainstreaming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Rovné příležitosti žen a mužů také tvoří významnou součást aktivit Evropského sociálního fondu. Povinnost dodržovat 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  <a:ea typeface="Arial"/>
              </a:rPr>
              <a:t>rovné p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ř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  <a:ea typeface="Arial"/>
              </a:rPr>
              <a:t>íležitosti 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vyplývá pro 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  <a:ea typeface="Arial"/>
              </a:rPr>
              <a:t>Č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eskou republiku z </a:t>
            </a:r>
            <a:r>
              <a:rPr b="0" lang="en-GB" sz="1800" spc="-1" strike="noStrike">
                <a:solidFill>
                  <a:srgbClr val="c00000"/>
                </a:solidFill>
                <a:latin typeface="Arial"/>
              </a:rPr>
              <a:t>na</a:t>
            </a:r>
            <a:r>
              <a:rPr b="0" lang="en-GB" sz="1800" spc="-1" strike="noStrike">
                <a:solidFill>
                  <a:srgbClr val="c00000"/>
                </a:solidFill>
                <a:latin typeface="Arial"/>
                <a:ea typeface="Arial"/>
              </a:rPr>
              <a:t>ř</a:t>
            </a:r>
            <a:r>
              <a:rPr b="0" lang="en-GB" sz="1800" spc="-1" strike="noStrike">
                <a:solidFill>
                  <a:srgbClr val="c00000"/>
                </a:solidFill>
                <a:latin typeface="Arial"/>
              </a:rPr>
              <a:t>ízení Rady (ES) </a:t>
            </a:r>
            <a:r>
              <a:rPr b="0" lang="en-GB" sz="1800" spc="-1" strike="noStrike">
                <a:solidFill>
                  <a:srgbClr val="c00000"/>
                </a:solidFill>
                <a:latin typeface="Arial"/>
                <a:ea typeface="Arial"/>
              </a:rPr>
              <a:t>č</a:t>
            </a:r>
            <a:r>
              <a:rPr b="0" lang="en-GB" sz="1800" spc="-1" strike="noStrike">
                <a:solidFill>
                  <a:srgbClr val="c00000"/>
                </a:solidFill>
                <a:latin typeface="Arial"/>
              </a:rPr>
              <a:t>. 1083 / 2006 / </a:t>
            </a:r>
            <a:r>
              <a:rPr b="0" lang="en-GB" sz="1800" spc="-1" strike="noStrike">
                <a:solidFill>
                  <a:srgbClr val="c00000"/>
                </a:solidFill>
                <a:latin typeface="Arial"/>
                <a:ea typeface="Arial"/>
              </a:rPr>
              <a:t>č</a:t>
            </a:r>
            <a:r>
              <a:rPr b="0" lang="en-GB" sz="1800" spc="-1" strike="noStrike">
                <a:solidFill>
                  <a:srgbClr val="c00000"/>
                </a:solidFill>
                <a:latin typeface="Arial"/>
              </a:rPr>
              <a:t>l. 16 / Rovné p</a:t>
            </a:r>
            <a:r>
              <a:rPr b="0" lang="en-GB" sz="1800" spc="-1" strike="noStrike">
                <a:solidFill>
                  <a:srgbClr val="c00000"/>
                </a:solidFill>
                <a:latin typeface="Arial"/>
                <a:ea typeface="Arial"/>
              </a:rPr>
              <a:t>ř</a:t>
            </a:r>
            <a:r>
              <a:rPr b="0" lang="en-GB" sz="1800" spc="-1" strike="noStrike">
                <a:solidFill>
                  <a:srgbClr val="c00000"/>
                </a:solidFill>
                <a:latin typeface="Arial"/>
              </a:rPr>
              <a:t>íležitosti žen a muž</a:t>
            </a:r>
            <a:r>
              <a:rPr b="0" lang="en-GB" sz="1800" spc="-1" strike="noStrike">
                <a:solidFill>
                  <a:srgbClr val="c00000"/>
                </a:solidFill>
                <a:latin typeface="Arial"/>
                <a:ea typeface="Arial"/>
              </a:rPr>
              <a:t>ů </a:t>
            </a:r>
            <a:r>
              <a:rPr b="0" lang="en-GB" sz="1800" spc="-1" strike="noStrike">
                <a:solidFill>
                  <a:srgbClr val="c00000"/>
                </a:solidFill>
                <a:latin typeface="Arial"/>
              </a:rPr>
              <a:t>a zákaz diskriminace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: 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  <a:ea typeface="Arial"/>
              </a:rPr>
              <a:t>„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Č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  <a:ea typeface="Arial"/>
              </a:rPr>
              <a:t>lenské státy a Komise zajistí podporu rovnosti žen a muž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ů 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  <a:ea typeface="Arial"/>
              </a:rPr>
              <a:t>a za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č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  <a:ea typeface="Arial"/>
              </a:rPr>
              <a:t>len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ě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  <a:ea typeface="Arial"/>
              </a:rPr>
              <a:t>ní hlediska rovnosti pohlaví b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ě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  <a:ea typeface="Arial"/>
              </a:rPr>
              <a:t>hem jednotlivých fází provád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ě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  <a:ea typeface="Arial"/>
              </a:rPr>
              <a:t>ní pomoci z fond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ů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Proč podporovat rovné příležitosti žen a muž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erovnost žen a mužů v České republi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egregace pracovního trhu podle pohlav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ižší výdělky žen a jejich mzdové znevýhodňová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Obtížnějším dosahování řídících a rozhodovacích pozic ženami jak </a:t>
            </a:r>
            <a:br>
              <a:rPr sz="1800"/>
            </a:br>
            <a:r>
              <a:rPr b="0" lang="pl-PL" sz="1800" spc="-1" strike="noStrike">
                <a:solidFill>
                  <a:srgbClr val="143f7e"/>
                </a:solidFill>
                <a:latin typeface="Arial"/>
              </a:rPr>
              <a:t>v podnikatelské, tak veřejné sféř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iskriminace osob pečujících o děti (vesměs však žen) na trhu prá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Tendence při snižování počtu zaměstnanců propouštět že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tereotypy o nižší schopnosti žen v důsledku jejich sociálních rolí (matky, pečovatelky a hospodyně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Tradiční model rodiny – muž živitel x žena hospodyně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éče žen o rodinu a domácnost x nutnost dvojího příjmu do domácnost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„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vojí břemeno“ žen (ovlivňuje výši mzdy a přístup k zaměstnání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Proč podporovat rovné příležitosti žen a muž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Horizontální segregace: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Orientace na tzv. ”ženské” a ”mužské” profese reprodukovaná již v průběhu socializace ve výchovném a vzdělávacím procesu             platová nerovnost (finanční podhodnocení ženských oborů), vyšší nezaměstnanost jednoho pohlaví podle poptávky po mužských nebo ženských oborech           potřeba podporovat individuální schopnosti </a:t>
            </a:r>
            <a:br>
              <a:rPr sz="1800"/>
            </a:b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 zájmy žen a mužů v těch oborech, které jsou z hlediska jejich pohlaví považovány za netypick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Vertikální segregace: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Čím vyšší stupeň řízení, tím méně žen. Příčinou jsou zejména stereotypy o nekompetentnosti k zastávání řídící pozice + péče žen o děti a domácnost (vyšší nároky na čas strávený v zaměstnání, zpomalení kariérního růstu a kvalifikace v důsledku péče o děti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Platové rozdíly mezi ženami a muži vykonávajícími stejnou práci nebo práci stejné hodnoty: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 posouzení požadavků na práci a její povahy vyplývá, že má stejnou hodnotu jako srovnávaná práce (znalosti, dovednosti, odpovědnost a namáhavost, pracovní podmínky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Šipka doprava se zářezem 3"/>
          <p:cNvSpPr/>
          <p:nvPr/>
        </p:nvSpPr>
        <p:spPr>
          <a:xfrm>
            <a:off x="1835280" y="2243160"/>
            <a:ext cx="647640" cy="216000"/>
          </a:xfrm>
          <a:custGeom>
            <a:avLst/>
            <a:gdLst>
              <a:gd name="textAreaLeft" fmla="*/ 54000 w 647640"/>
              <a:gd name="textAreaRight" fmla="*/ 594000 w 647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000" y="5400"/>
                </a:lnTo>
                <a:lnTo>
                  <a:pt x="18000" y="0"/>
                </a:lnTo>
                <a:lnTo>
                  <a:pt x="21600" y="10800"/>
                </a:lnTo>
                <a:lnTo>
                  <a:pt x="18000" y="21600"/>
                </a:lnTo>
                <a:lnTo>
                  <a:pt x="18000" y="16200"/>
                </a:lnTo>
                <a:lnTo>
                  <a:pt x="0" y="16200"/>
                </a:lnTo>
                <a:lnTo>
                  <a:pt x="18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Šipka doprava se zářezem 4"/>
          <p:cNvSpPr/>
          <p:nvPr/>
        </p:nvSpPr>
        <p:spPr>
          <a:xfrm>
            <a:off x="3059280" y="2781360"/>
            <a:ext cx="647640" cy="216000"/>
          </a:xfrm>
          <a:custGeom>
            <a:avLst/>
            <a:gdLst>
              <a:gd name="textAreaLeft" fmla="*/ 54000 w 647640"/>
              <a:gd name="textAreaRight" fmla="*/ 594000 w 647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000" y="5400"/>
                </a:lnTo>
                <a:lnTo>
                  <a:pt x="18000" y="0"/>
                </a:lnTo>
                <a:lnTo>
                  <a:pt x="21600" y="10800"/>
                </a:lnTo>
                <a:lnTo>
                  <a:pt x="18000" y="21600"/>
                </a:lnTo>
                <a:lnTo>
                  <a:pt x="18000" y="16200"/>
                </a:lnTo>
                <a:lnTo>
                  <a:pt x="0" y="16200"/>
                </a:lnTo>
                <a:lnTo>
                  <a:pt x="18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Proč podporovat rovné příležitosti žen a muž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Gender: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polečensky sdílená a modelované pohlavní identita. Týká se sociálních rozdílů mezi ženami a muži, které jsou naučené a mohou se </a:t>
            </a:r>
            <a:br>
              <a:rPr sz="1800"/>
            </a:b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 průběhu času měnit. Pohlavní role nejsou stabilní, ale udržované společností a rozhodnutími, která v každodenním životě přijímá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Genderové stereotypy: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polečenské představy o typicky mužských </a:t>
            </a:r>
            <a:br>
              <a:rPr sz="1800"/>
            </a:b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 ženských vlastnostech, rolích a pozicích mužů a žen ve společnosti.  Společnost 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„ví“, co je dobré pro muže a co pro ženy, co mohu muži nebo ženy dělat a co naopak dělat nesmí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o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dráží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se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 na dělbě práce, sociální, ekonomické a politické situaci obou pohlav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Např. stereotyp žena pečovatelka – muž živitel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spcBef>
                <a:spcPts val="451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ovlivňuje ženy (záměrně volí méně časově náročné a hůře placené zaměstnání než muži, zkrácené úvazky atd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spcBef>
                <a:spcPts val="451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ovlivňuje zaměstnavatele (tendence lépe odměňovat muže jako živitele a umožňovat jim větší kariérní růst než ženám)          zpětně vliv na ženy (pro domácnost finančně výhodnější, když doma s dětmi zůstane žen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Šipka doprava se zářezem 5"/>
          <p:cNvSpPr/>
          <p:nvPr/>
        </p:nvSpPr>
        <p:spPr>
          <a:xfrm>
            <a:off x="5003640" y="3645000"/>
            <a:ext cx="648000" cy="215640"/>
          </a:xfrm>
          <a:custGeom>
            <a:avLst/>
            <a:gdLst>
              <a:gd name="textAreaLeft" fmla="*/ 54000 w 648000"/>
              <a:gd name="textAreaRight" fmla="*/ 594000 w 648000"/>
              <a:gd name="textAreaTop" fmla="*/ 54000 h 215640"/>
              <a:gd name="textAreaBottom" fmla="*/ 162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000" y="5400"/>
                </a:lnTo>
                <a:lnTo>
                  <a:pt x="18000" y="0"/>
                </a:lnTo>
                <a:lnTo>
                  <a:pt x="21600" y="10800"/>
                </a:lnTo>
                <a:lnTo>
                  <a:pt x="18000" y="21600"/>
                </a:lnTo>
                <a:lnTo>
                  <a:pt x="18000" y="16200"/>
                </a:lnTo>
                <a:lnTo>
                  <a:pt x="0" y="16200"/>
                </a:lnTo>
                <a:lnTo>
                  <a:pt x="18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Šipka doprava se zářezem 6"/>
          <p:cNvSpPr/>
          <p:nvPr/>
        </p:nvSpPr>
        <p:spPr>
          <a:xfrm>
            <a:off x="6372360" y="5516640"/>
            <a:ext cx="647640" cy="216000"/>
          </a:xfrm>
          <a:custGeom>
            <a:avLst/>
            <a:gdLst>
              <a:gd name="textAreaLeft" fmla="*/ 54000 w 647640"/>
              <a:gd name="textAreaRight" fmla="*/ 594000 w 647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000" y="5400"/>
                </a:lnTo>
                <a:lnTo>
                  <a:pt x="18000" y="0"/>
                </a:lnTo>
                <a:lnTo>
                  <a:pt x="21600" y="10800"/>
                </a:lnTo>
                <a:lnTo>
                  <a:pt x="18000" y="21600"/>
                </a:lnTo>
                <a:lnTo>
                  <a:pt x="18000" y="16200"/>
                </a:lnTo>
                <a:lnTo>
                  <a:pt x="0" y="16200"/>
                </a:lnTo>
                <a:lnTo>
                  <a:pt x="18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Proč podporovat rovné příležitosti žen a muž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Slaďování pracovního a rodinného života: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Ohled zaměstnavatelů na další sociální role svých zaměstnanců             nástroje (pracovní doba, organizace práce, místo výkonu práce, poskytované služby atd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Týká se žen i mužů, rodičů i bezdětných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(potřeba umožnit slaďování pracovního a soukromého života obecně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Důležitost zapojení mužů do péče o děti a domácnost: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Žádné z pohlaví nesmí být při výkonu péče o děti a domácnost diskriminováno, opatření tlumící nepříznivé sociální dopady výkonu této péče nemají být určena pouze ženám              potřeba posílení prestiže žen ve společnosti, stejně jako v posílení úlohy muže v rodině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Šipka doprava se zářezem 3"/>
          <p:cNvSpPr/>
          <p:nvPr/>
        </p:nvSpPr>
        <p:spPr>
          <a:xfrm>
            <a:off x="4932360" y="1989000"/>
            <a:ext cx="647640" cy="216000"/>
          </a:xfrm>
          <a:custGeom>
            <a:avLst/>
            <a:gdLst>
              <a:gd name="textAreaLeft" fmla="*/ 54000 w 647640"/>
              <a:gd name="textAreaRight" fmla="*/ 594000 w 647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000" y="5400"/>
                </a:lnTo>
                <a:lnTo>
                  <a:pt x="18000" y="0"/>
                </a:lnTo>
                <a:lnTo>
                  <a:pt x="21600" y="10800"/>
                </a:lnTo>
                <a:lnTo>
                  <a:pt x="18000" y="21600"/>
                </a:lnTo>
                <a:lnTo>
                  <a:pt x="18000" y="16200"/>
                </a:lnTo>
                <a:lnTo>
                  <a:pt x="0" y="16200"/>
                </a:lnTo>
                <a:lnTo>
                  <a:pt x="18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Šipka doprava se zářezem 4"/>
          <p:cNvSpPr/>
          <p:nvPr/>
        </p:nvSpPr>
        <p:spPr>
          <a:xfrm>
            <a:off x="2987640" y="4653000"/>
            <a:ext cx="647640" cy="216000"/>
          </a:xfrm>
          <a:custGeom>
            <a:avLst/>
            <a:gdLst>
              <a:gd name="textAreaLeft" fmla="*/ 54000 w 647640"/>
              <a:gd name="textAreaRight" fmla="*/ 594000 w 647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000" y="5400"/>
                </a:lnTo>
                <a:lnTo>
                  <a:pt x="18000" y="0"/>
                </a:lnTo>
                <a:lnTo>
                  <a:pt x="21600" y="10800"/>
                </a:lnTo>
                <a:lnTo>
                  <a:pt x="18000" y="21600"/>
                </a:lnTo>
                <a:lnTo>
                  <a:pt x="18000" y="16200"/>
                </a:lnTo>
                <a:lnTo>
                  <a:pt x="0" y="16200"/>
                </a:lnTo>
                <a:lnTo>
                  <a:pt x="18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Proč podporovat rovné příležitosti žen a muž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Afirmativní (též pozitivní) akce ve prospěch žen: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naha o zvýhodnění určitých znevýhodněných skupin s cílem poskytnout jim rovné příležitosti </a:t>
            </a:r>
            <a:br>
              <a:rPr sz="1800"/>
            </a:b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 kompenzovat znevýhodnění způsobené různými formami diskriminace                    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v oblasti podpory 3. 4 převažuje cílová skupina žen. Stejné zacházení s muži a ženami nutně nevede ve výsledcích k rovnosti, protože ženy a muži mají rozdílné životní podmínky a jsou konfrontováni s různými postoji a různým očekávání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Genderová statistika: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šechny statistické údaje mapující potřebnost projektu je třeba sbírat zvlášť pro obě pohlaví. Všechny proměnné veličiny musí být analyzovány tak, aby pohlaví bylo hlavním klasifikačním rozlišení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eexistuje genderově neutrální problé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„</a:t>
            </a: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Gender mainstreaming“: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ohledňování a zapracování hlediska rovnosti žen a mužů ve všech koncepčních, plánovacích, hodnotících a rozhodovacích procesech. Doporučeno aplikovat i v jednotlivých fázích grantového projekt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Šipka doprava se zářezem 3"/>
          <p:cNvSpPr/>
          <p:nvPr/>
        </p:nvSpPr>
        <p:spPr>
          <a:xfrm>
            <a:off x="909720" y="4581360"/>
            <a:ext cx="647640" cy="216000"/>
          </a:xfrm>
          <a:custGeom>
            <a:avLst/>
            <a:gdLst>
              <a:gd name="textAreaLeft" fmla="*/ 54000 w 647640"/>
              <a:gd name="textAreaRight" fmla="*/ 594000 w 647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000" y="5400"/>
                </a:lnTo>
                <a:lnTo>
                  <a:pt x="18000" y="0"/>
                </a:lnTo>
                <a:lnTo>
                  <a:pt x="21600" y="10800"/>
                </a:lnTo>
                <a:lnTo>
                  <a:pt x="18000" y="21600"/>
                </a:lnTo>
                <a:lnTo>
                  <a:pt x="18000" y="16200"/>
                </a:lnTo>
                <a:lnTo>
                  <a:pt x="0" y="16200"/>
                </a:lnTo>
                <a:lnTo>
                  <a:pt x="18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Šipka doprava se zářezem 3"/>
          <p:cNvSpPr/>
          <p:nvPr/>
        </p:nvSpPr>
        <p:spPr>
          <a:xfrm>
            <a:off x="933480" y="2557440"/>
            <a:ext cx="647640" cy="216000"/>
          </a:xfrm>
          <a:custGeom>
            <a:avLst/>
            <a:gdLst>
              <a:gd name="textAreaLeft" fmla="*/ 54000 w 647640"/>
              <a:gd name="textAreaRight" fmla="*/ 594000 w 647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000" y="5400"/>
                </a:lnTo>
                <a:lnTo>
                  <a:pt x="18000" y="0"/>
                </a:lnTo>
                <a:lnTo>
                  <a:pt x="21600" y="10800"/>
                </a:lnTo>
                <a:lnTo>
                  <a:pt x="18000" y="21600"/>
                </a:lnTo>
                <a:lnTo>
                  <a:pt x="18000" y="16200"/>
                </a:lnTo>
                <a:lnTo>
                  <a:pt x="0" y="16200"/>
                </a:lnTo>
                <a:lnTo>
                  <a:pt x="18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Šeredová Purschová Adéla, PhDr. (MPSV)</cp:lastModifiedBy>
  <dcterms:modified xsi:type="dcterms:W3CDTF">2011-06-14T05:55:54Z</dcterms:modified>
  <cp:revision>566</cp:revision>
  <dc:subject/>
  <dc:title>Snímek 1</dc:title>
</cp:coreProperties>
</file>