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0A1-4EEE-408E-B723-74E05FDD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ABD-7EC7-4124-B4A6-A2260F82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6F3-4427-4591-A7DE-83D51730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941-EB20-4AEA-94F9-18B4A244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8FF9-3F1F-4209-BFEA-E55B14B5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B50A-EF35-453B-ACBA-58E917B1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A470-662C-4C32-BCA0-8B0E09FC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38A9-5CB4-4AF0-8CA8-2FCA0510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2E08-4B39-4B41-B84D-1AF3AAAE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86D3-0C1D-49F4-B0D7-1D88F7E4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708A-2946-46B0-9AA2-81BC347C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29D-252C-44A6-AB2E-98B11EA2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A3B-B2BA-4A3D-82AE-784D1EAC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75A6-20B3-489E-AD72-A17DE511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3B7E-4964-494D-896D-82CABDF7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C7F4-FB96-4D9A-9ACD-A9178FDC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6903-67F1-44E9-A88A-A2989459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15F-7953-475D-9840-F4A8BEB4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B2C-45B4-48BB-9D1C-B05A98BB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D92-6E10-4FAB-AD92-C66AE735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EA3-2C3C-4088-8694-41884D1C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2EE-E798-4064-AD57-A8FB93D0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141-DC75-42AC-888A-FE55C39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74D-3FB0-416C-94F3-B0C9DB3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1E42-EE83-4AFC-A79B-7969AC35C8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0E94-550C-4669-A3EF-3DCA029F3C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4008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400"/>
            </a:b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3" descr="http://www.naseantikoncepce.cz/pohlavni-choroby/sablona/znak_muz_zena.gif"/>
          <p:cNvPicPr/>
          <p:nvPr/>
        </p:nvPicPr>
        <p:blipFill>
          <a:blip r:embed="rId1"/>
          <a:stretch/>
        </p:blipFill>
        <p:spPr>
          <a:xfrm>
            <a:off x="3780000" y="3781440"/>
            <a:ext cx="1460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Rovné příležitosti na trhu práce se vy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Žená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íce možností k seberealizaci, kariérní postup, posílení ekonomické situace, společenská presti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aměstnavatelů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obré postavení podniku pokud jde o právní povinnosti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rovnost vyžaduje zákon nebo existuje tlak zaměstnanců), výhody pro podnik plynoucí z různých přístupů, zkušeností a priorit, dobrá praxe. Snížení důrazu na pohlaví zaměstnanců znamená zvýšení důrazu na skutečné kvality, kompetence a schopnost vykonávat danou pracovní pozici co nejlé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át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zvýšení zaměstnanosti, rozvoj statků a služeb, snížení nákladů na sociální dávky, podporu v nezaměstnanosti a výdaje na rekvalifika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Než začnete psát projekt, položte si otázku, zda svými aktivitami skutečně přispěje ke zlepšení situace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v těchto oblaste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Horizontální a vertikální rozdělení trhu práce podle pohla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ra platové nerovnosti žen a muž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ístup zaměstnavatelů ke slaďování pracovního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 rodinného živ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urávání genderových stereotypů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…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kud ano, pak směle do toho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X:\We_Can_Do_It!.jpg"/>
          <p:cNvPicPr/>
          <p:nvPr/>
        </p:nvPicPr>
        <p:blipFill>
          <a:blip r:embed="rId1"/>
          <a:stretch/>
        </p:blipFill>
        <p:spPr>
          <a:xfrm>
            <a:off x="2733840" y="1484280"/>
            <a:ext cx="34938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Povinnost dodržova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rovné 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íležitosti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yplývá pro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eskou republiku z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na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zení Rady (ES)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. 1083 / 2006 /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l. 16 / Rovné p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ležitosti žen a muž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ů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a zákaz diskriminac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„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ské státy a Komise zajistí podporu rovnosti žen a muž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a za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hlediska rovnosti pohlaví b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hem jednotlivých fází prová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pomoci z fon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rovnost žen a mužů v České republ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gregace pracovního trhu podle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ižší výdělky žen a jejich mzdové znevýhodň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btížnějším dosahování řídících a rozhodovacích pozic ženami jak </a:t>
            </a:r>
            <a:br>
              <a:rPr sz="1800"/>
            </a:b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v podnikatelské, tak veřejné sfé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riminace osob pečujících o děti (vesměs však žen) na trhu prá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endence při snižování počtu zaměstnanců propouštět ž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ereotypy o nižší schopnosti žen v důsledku jejich sociálních rolí (matky, pečovatelky a hospody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radiční model rodiny – muž živitel x žena hospody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éče žen o rodinu a domácnost x nutnost dvojího příjmu do domácnost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„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vojí břemeno“ žen (ovlivňuje výši mzdy a přístup k zaměstn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Horizont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rientace na tzv. ”ženské” a ”mužské” profese reprodukovaná již v průběhu socializace ve výchovném a vzdělávacím procesu             platová nerovnost (finanční podhodnocení ženských oborů), vyšší nezaměstnanost jednoho pohlaví podle poptávky po mužských nebo ženských oborech           potřeba podporovat individuální schopn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zájmy žen a mužů v těch oborech, které jsou z hlediska jejich pohlaví považovány za netypick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Vertik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Čím vyšší stupeň řízení, tím méně žen. Příčinou jsou zejména stereotypy o nekompetentnosti k zastávání řídící pozice + péče žen o děti a domácnost (vyšší nároky na čas strávený v zaměstnání, zpomalení kariérního růstu a kvalifikace v důsledku péče o dět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latové rozdíly mezi ženami a muži vykonávajícími stejnou práci nebo práci stejné hodnot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posouzení požadavků na práci a její povahy vyplývá, že má stejnou hodnotu jako srovnávaná práce (znalosti, dovednosti, odpovědnost a namáhavost, pracovní podmín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Šipka doprava se zářezem 3"/>
          <p:cNvSpPr/>
          <p:nvPr/>
        </p:nvSpPr>
        <p:spPr>
          <a:xfrm>
            <a:off x="1835280" y="22431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Šipka doprava se zářezem 4"/>
          <p:cNvSpPr/>
          <p:nvPr/>
        </p:nvSpPr>
        <p:spPr>
          <a:xfrm>
            <a:off x="3059280" y="27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y sdílená a modelované pohlavní identita. Týká se sociálních rozdílů mezi ženami a muži, které jsou naučené a mohou se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růběhu času měnit. Pohlavní role nejsou stabilní, ale udržované společností a rozhodnutími, která v každodenním životě přijím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é stereotyp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é představy o typicky mužských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ženských vlastnostech, rolích a pozicích mužů a žen ve společnosti.  Společnos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„ví“, co je dobré pro muže a co pro ženy, co mohu muži nebo ženy dělat a co naopak dělat nesm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o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dráž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na dělbě práce, sociální, ekonomické a politické situaci obou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př. stereotyp žena pečovatelka – muž živi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ženy (záměrně volí méně časově náročné a hůře placené zaměstnání než muži, zkrácené úvazky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zaměstnavatele (tendence lépe odměňovat muže jako živitele a umožňovat jim větší kariérní růst než ženám)          zpětně vliv na ženy (pro domácnost finančně výhodnější, když doma s dětmi zůstane že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se zářezem 5"/>
          <p:cNvSpPr/>
          <p:nvPr/>
        </p:nvSpPr>
        <p:spPr>
          <a:xfrm>
            <a:off x="5003640" y="3645000"/>
            <a:ext cx="648000" cy="215640"/>
          </a:xfrm>
          <a:custGeom>
            <a:avLst/>
            <a:gdLst>
              <a:gd name="textAreaLeft" fmla="*/ 54000 w 648000"/>
              <a:gd name="textAreaRight" fmla="*/ 594000 w 648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Šipka doprava se zářezem 6"/>
          <p:cNvSpPr/>
          <p:nvPr/>
        </p:nvSpPr>
        <p:spPr>
          <a:xfrm>
            <a:off x="6372360" y="55166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laďování pracovního a rodinného život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hled zaměstnavatelů na další sociální role svých zaměstnanců             nástroje (pracovní doba, organizace práce, místo výkonu práce, poskytované služby atd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Týká se žen i mužů, rodičů i bezdětný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otřeba umožnit slaďování pracovního a soukromého života obec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Důležitost zapojení mužů do péče o děti a domácnost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ádné z pohlaví nesmí být při výkonu péče o děti a domácnost diskriminováno, opatření tlumící nepříznivé sociální dopady výkonu této péče nemají být určena pouze ženám              potřeba posílení prestiže žen ve společnosti, stejně jako v posílení úlohy muže v rodi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Šipka doprava se zářezem 3"/>
          <p:cNvSpPr/>
          <p:nvPr/>
        </p:nvSpPr>
        <p:spPr>
          <a:xfrm>
            <a:off x="4932360" y="1989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Šipka doprava se zářezem 4"/>
          <p:cNvSpPr/>
          <p:nvPr/>
        </p:nvSpPr>
        <p:spPr>
          <a:xfrm>
            <a:off x="2987640" y="4653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firmativní (též pozitivní) akce ve prospěch žen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o zvýhodnění určitých znevýhodněných skupin s cílem poskytnout jim rovné příležit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kompenzovat znevýhodnění způsobené různými formami diskriminace             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v oblasti podpory 3. 4 převažuje cílová skupina žen. Stejné zacházení s muži a ženami nutně nevede ve výsledcích k rovnosti, protože ženy a muži mají rozdílné životní podmínky a jsou konfrontováni s různými postoji a různým očekává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á statistik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šechny statistické údaje mapující potřebnost projektu je třeba sbírat zvlášť pro obě pohlaví. Všechny proměnné veličiny musí být analyzovány tak, aby pohlaví bylo hlavním klasifikačním rozliš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existuje genderově neutrální problé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 mainstreaming“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ohledňování a zapracování hlediska rovnosti žen a mužů ve všech koncepčních, plánovacích, hodnotících a rozhodovacích procesech. Doporučeno aplikovat i v jednotlivých fázích grantov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Šipka doprava se zářezem 3"/>
          <p:cNvSpPr/>
          <p:nvPr/>
        </p:nvSpPr>
        <p:spPr>
          <a:xfrm>
            <a:off x="909720" y="45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Šipka doprava se zářezem 3"/>
          <p:cNvSpPr/>
          <p:nvPr/>
        </p:nvSpPr>
        <p:spPr>
          <a:xfrm>
            <a:off x="933480" y="25574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14T05:55:54Z</dcterms:modified>
  <cp:revision>566</cp:revision>
  <dc:subject/>
  <dc:title>Snímek 1</dc:title>
</cp:coreProperties>
</file>