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79A4D-F38C-4B95-943A-DFF8DC761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0FD8B-9B98-465F-AE50-1FA7F1AC5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57525-A1AD-4085-8A29-6170A32C0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EBA3D-D3E5-45CA-833D-C181100CC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6CF52-4697-45BD-9C53-65B51F0B9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C46DE-735B-4707-A842-D7F7CA6FA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26AB8-1AC1-47FB-9466-A922A7828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2126F-998F-4A96-8B68-BF5FE8BD3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AF655-EF78-47D1-BACE-739ECD634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BED2-4CA6-4568-83A1-764E23E3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53A7-259C-44F0-B9EE-7FFE9861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67B1-01F8-453B-8CF5-21B81A575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4AB9-A71C-4DB7-B479-28A3BFC1A921}"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76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3690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0"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72"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114800"/>
        </p:xfrm>
        <a:graphic>
          <a:graphicData uri="http://schemas.openxmlformats.org/drawingml/2006/table">
            <a:tbl>
              <a:tblPr/>
              <a:tblGrid>
                <a:gridCol w="2743200"/>
                <a:gridCol w="274320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Druh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Kód národního číselník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Název indikátoru</a:t>
                      </a:r>
                      <a:r>
                        <a:rPr b="0" lang="cs-CZ" sz="2000" spc="-1" strike="noStrike">
                          <a:solidFill>
                            <a:srgbClr val="000000"/>
                          </a:solidFill>
                          <a:latin typeface="Arial"/>
                        </a:rPr>
                        <a:t>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tup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1.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sob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5.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podpořených organizací -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57.00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nových/inovovaných produktů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sledky </a:t>
                      </a:r>
                      <a:endParaRPr b="0" lang="en-US" sz="20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07.46.13 </a:t>
                      </a:r>
                      <a:endParaRPr b="0" lang="en-US" sz="20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et úspěšných absolventů kurzů celkem </a:t>
                      </a:r>
                      <a:endParaRPr b="0" lang="en-US" sz="20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3942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32104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která dostala např. leták (co když ho jeden a ten samý člověk dostal třikrát?).</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95280" y="1658880"/>
            <a:ext cx="8229600" cy="2266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pouze) předkladatel </a:t>
            </a:r>
            <a:br>
              <a:rPr sz="2400"/>
            </a:br>
            <a:r>
              <a:rPr b="1" lang="cs-CZ" sz="2400" spc="-1" strike="noStrike">
                <a:solidFill>
                  <a:srgbClr val="143f7e"/>
                </a:solidFill>
                <a:latin typeface="Arial"/>
              </a:rPr>
              <a:t>a jeho partneři uvedení v žádosti o finanční podporu (Př.: Pokud má žadatel dva partnery bude hodnota tohoto ukazatele 3.)</a:t>
            </a:r>
            <a:r>
              <a:rPr b="0" lang="cs-CZ" sz="2800" spc="-1" strike="noStrike">
                <a:solidFill>
                  <a:srgbClr val="14407e"/>
                </a:solidFill>
                <a:latin typeface="Arial"/>
              </a:rPr>
              <a:t> </a:t>
            </a:r>
            <a:endParaRPr b="0" lang="en-US" sz="28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Labajová Zuzana, Mgr. (MPSV)</cp:lastModifiedBy>
  <dcterms:modified xsi:type="dcterms:W3CDTF">2011-06-08T08:22:52Z</dcterms:modified>
  <cp:revision>161</cp:revision>
  <dc:subject/>
  <dc:title>Snímek 1</dc:title>
</cp:coreProperties>
</file>