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01D2-20D7-4B4E-9AD2-CE95FD79EA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6C61-6324-4D89-863B-3937DDFC71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BAF-94B8-4475-96D0-4D32851C5F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521C-6BEB-4B8E-A94C-A34DB4A272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F4B-3816-4E58-8A38-316E19114F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EA5-10D6-4F31-97D2-353E98EE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8E0-CF55-489D-B1CB-04107A2D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84D-DF54-477B-B2F0-C6BC5EB6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B01-AE7B-4836-AEC6-E4E72958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C91-E371-42BC-B3DE-D3EE22A2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8FB-1421-469D-86E2-4CBCE48E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F24-CDB2-4917-A54F-010DB9BE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6591-F465-4C83-B68C-C5FA0EF6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E02-06B0-4C0C-B317-7185064B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9DC-917E-4AD2-85F3-31E15565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1FE-789D-4055-A239-FD29389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EED-7970-43F9-8C50-62C2B550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02CE-ED6E-4B4F-92D2-F24CA41200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_a_cb"/>
          <p:cNvPicPr/>
          <p:nvPr/>
        </p:nvPicPr>
        <p:blipFill>
          <a:blip r:embed="rId1"/>
          <a:stretch/>
        </p:blipFill>
        <p:spPr>
          <a:xfrm>
            <a:off x="7308720" y="19044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1. srpen 2011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. led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-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Únor/březen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- předpokládaný začátek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nestátní neziskové organiz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se základním vzdělá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ublicita – samostatná klíčová aktivit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rojektové žádosti, nebo příloze 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sm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://www.esfcr.cz/vyzvu-c-76-k-predkladani-grantovych-projektu-ro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07-13/oplzz/desatero-op-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ypořádání připomínek k výzv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.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3. výzva pro předkládání grantových projektů                     v oblasti podpory 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6. května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50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1. srpna 2011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náleží partnerovi, musí být označeny názvem partnera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Úspěšní žadatelé dolož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bezdlužnosti a bezúhon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125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velikosti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estné prohlášení o tom, že na schválený projekt žadatel nečerpá jiné veřejn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hlášení o závažných změn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ankou potvrzený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ormulář finanční ide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ňovány na stránkách www.esfcr,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ZOR: Žádost musí být založena ve správné výzv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2 výzvy (A,B nebo C 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e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vinné přílohy, resp. pro výzvu 76 je relevantní pouze doklad o právní subjektivi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76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3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Realizace musí být ukončena nejpozději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do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30. 6. 2015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splněny specifické podmínky dané výzvou (samostatná aktivita publicity, zařazení experta do realizačního týmu a projekt není zaměřen jen na školení a neobsahuje volnočasové ak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3 hodnotitelé) a následného hodnocení prostřednictvím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v průměru minimálně 65 bo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zařazení položek rozpočtu – viz. D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není kvantifik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ě popsaná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zdové příspěvky v rámci přímé podpory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: v projektu lze nárokovat až 100% mzdových nákladů na pracovní místo, nejvýše však trojnásobek minimální mzdy, tj. 24 000 Kč + povinné odv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příloha č. 4 výzvy „Obvyklé ceny osobních nákladů“ a příloha č.5 výzvy „Obvyklé ceny zařízení a vybavení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40 pracovních dnů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40 5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otivace zaměstnavatelů v uplatňování rovných příležitostí žen a mužů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jsou podporovány v rámci všech tří okruhů aktivit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ouze jako součást komplexního řešení problematiky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Služby lze provozovat na základě 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platné </a:t>
            </a:r>
            <a:r>
              <a:rPr b="0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legislativy</a:t>
            </a:r>
            <a:r>
              <a:rPr b="1" lang="cs-CZ" sz="2800" spc="-1" strike="noStrike" u="sng">
                <a:solidFill>
                  <a:srgbClr val="143f7e"/>
                </a:solidFill>
                <a:uFillTx/>
                <a:latin typeface="Arial"/>
              </a:rPr>
              <a:t> v době realizace projektu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Motivace zaměstna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litika přátelská k rodině a gendrově příznivá politika v  podnicích (audity, soutěže at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lexibilní forma organizac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voj a ověření inovativních programů </a:t>
            </a:r>
            <a:br>
              <a:rPr sz="2800"/>
            </a:b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a opatření k dané problema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Tvorba pracovním míst včetně mzdových příspěvků (v rámci přímé podp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Podpora a rozvoj samostatné výdělečné čin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pro ženy začínající podnikat a vykonávající samostatně výdělečn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Darth Vader</cp:lastModifiedBy>
  <dcterms:modified xsi:type="dcterms:W3CDTF">2011-06-20T09:44:14Z</dcterms:modified>
  <cp:revision>391</cp:revision>
  <dc:subject/>
  <dc:title>Snímek 1</dc:title>
</cp:coreProperties>
</file>