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05A-E5FE-4E2E-BC9B-5B81C46C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8B4-F7F3-4889-BDF3-F616E28D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0E7-BCAD-4EFB-AD93-C3C786E9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D93-1ADB-4908-91A8-9BC80003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602E-0FC3-4224-886B-20AB5E80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BE7C-E373-4D4D-A7FF-C47B017B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E9A5-5C03-4ED9-8C16-014B60E9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3246-5F80-448A-A441-009E0C05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C04B-A1EC-4619-9F35-55DEDCF2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3EF7-895B-4C7A-8CB8-65D04F6D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1150-B08C-460B-85B0-DC56FBE6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58A-9889-4FBE-BF12-7D198B00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C5AC-B034-4B5E-B56E-E565F56D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369F-F182-49E2-80A9-D4874F3D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C2D9-4296-491F-8C77-DC042977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1AF9-C1E6-4777-ACCE-3CB4D4BE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EA61-8348-460E-A4FB-7D245009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F9C-0582-4101-B76C-27BFDA54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0E7-4BBB-4D28-9C79-E71154BB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EE7-0F66-4226-8A96-6B75BFBB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AB3-FB28-4BB5-BF46-1BA9292A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69A-8D1E-4995-9C03-0068EFBB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58D-C004-4011-89D0-80FCE7E1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C2E-C604-4802-988D-0B9CA485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FC8F-E211-4D2A-B24E-AD527B99999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BBF6-8015-4BD6-8D55-34A8BED0B0E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844280"/>
            <a:ext cx="64008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400"/>
            </a:b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3" descr="http://www.naseantikoncepce.cz/pohlavni-choroby/sablona/znak_muz_zena.gif"/>
          <p:cNvPicPr/>
          <p:nvPr/>
        </p:nvPicPr>
        <p:blipFill>
          <a:blip r:embed="rId1"/>
          <a:stretch/>
        </p:blipFill>
        <p:spPr>
          <a:xfrm>
            <a:off x="3780000" y="3781440"/>
            <a:ext cx="1460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Rovné příležitosti na trhu práce se vy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Žená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více možností k seberealizaci, kariérní postup, posílení ekonomické situace, společenská presti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aměstnavatelů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d</a:t>
            </a:r>
            <a:r>
              <a:rPr b="0" lang="pt-BR" sz="1800" spc="-1" strike="noStrike">
                <a:solidFill>
                  <a:srgbClr val="143f7e"/>
                </a:solidFill>
                <a:latin typeface="Arial"/>
              </a:rPr>
              <a:t>obré postavení podniku pokud jde o právní povinnosti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rovnost vyžaduje zákon nebo existuje tlak zaměstnanců), výhody pro podnik plynoucí z různých přístupů, zkušeností a priorit, dobrá praxe. Snížení důrazu na pohlaví zaměstnanců znamená zvýšení důrazu na skutečné kvality, kompetence a schopnost vykonávat danou pracovní pozici co nejlé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tát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zvýšení zaměstnanosti, rozvoj statků a služeb, snížení nákladů na sociální dávky, podporu v nezaměstnanosti a výdaje na rekvalifika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Než začnete psát projekt, položte si otázku, zda svými aktivitami skutečně přispěje ke zlepšení situace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v těchto oblaste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Horizontální a vertikální rozdělení trhu práce podle pohlav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ra platové nerovnosti žen a muž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ístup zaměstnavatelů ke slaďování pracovního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 rodinného živo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urávání genderových stereotypů na trhu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…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kud ano, pak směle do toho!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X:\We_Can_Do_It!.jpg"/>
          <p:cNvPicPr/>
          <p:nvPr/>
        </p:nvPicPr>
        <p:blipFill>
          <a:blip r:embed="rId1"/>
          <a:stretch/>
        </p:blipFill>
        <p:spPr>
          <a:xfrm>
            <a:off x="2733840" y="1484280"/>
            <a:ext cx="34938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třeba přistupovat ke každému člověku stejným způsobem nehledě na rasu, sexuální orientaci, pohlaví, fyzický vzhled nebo další odlišnosti, patří </a:t>
            </a:r>
            <a:br>
              <a:rPr sz="1600"/>
            </a:b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současnosti mezi jednu z hlavních zásad života ve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incip rovných příležitostí znamená potírání diskriminace a předcházení diskriminaci na základě pohlaví, rasy, etnického původu, náboženského vyznání, víry, zdravotního postižení, věku či sexuální ori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rovnost na základě pohlaví lze identifikovat i v rámci jednotlivých sociálně ohrožených skupin, jedná se pak o kombinaci několika znevýhodňujících fakt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ovné příležitosti pro muže a žen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= 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absenc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 překážek bránících občanům na základě jejich příslušnosti k pohlaví v účasti na ekonomice, politice a v sociální oblasti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ílem politiky rovnosti žen a mužů je zajistit, aby ženy i muži měli stejná práva, povinnosti a příležitosti ve všech sférách živ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ormální rovnost (de jure) je pouze první krok k skutečné rovnosti (de fac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Otázka rovnosti žen a mužů jako jeden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e základních cílů Evropského společen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Římská smlouva (1957)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obsahovala ustanovení zavádějící princip rovného odměňování pro ženy a mu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Plán Komise pro dosažení rovného postavení žen a mužů 2006 - 2010 (Roadmap)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tejná ekonomická nezávislost pro ženy i muže; sladění soukromého a profesního života; stejné zastoupení žen a mužů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rozhodovacích procesech; odstraňování všech forem násilí založeného na pohlaví; odstraňování stereotypů o roli žen a mužů ve společnosti ; podpora rovného postavení žen a mužů v zahraniční a rozvojové politi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Evropský pakt pro rovnost žen a mužů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ijat na zasedání Evropské rady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březnu 2006, deklaruje politickou vůli vrcholných představitelů členských států EU zajistit rovné postavení žen a mužů na trhu práce a potírání stereotypních předsudků o roli žen a mužů v zaměstnání,  zlepšení podmínek pro sladění pracovního a rodinného života žen a mužů a posílení hlediska rovnosti žen a mužů ve všech plánovacích a rozhodovacích procesech (gender mainstream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Rovné příležitosti žen a mužů také tvoří významnou součást aktivit Evropského sociálního fondu. Povinnost dodržovat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rovné 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íležitosti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yplývá pro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eskou republiku z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na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ř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ízení Rady (ES)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. 1083 / 2006 /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č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l. 16 / Rovné p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ř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íležitosti žen a muž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  <a:ea typeface="Arial"/>
              </a:rPr>
              <a:t>ů </a:t>
            </a: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a zákaz diskriminace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„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lenské státy a Komise zajistí podporu rovnosti žen a muž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ů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a za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č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len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ní hlediska rovnosti pohlaví b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hem jednotlivých fází provád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ě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ní pomoci z fond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ů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rovnost žen a mužů v České republ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gregace pracovního trhu podle pohla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ižší výdělky žen a jejich mzdové znevýhodň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btížnějším dosahování řídících a rozhodovacích pozic ženami jak </a:t>
            </a:r>
            <a:br>
              <a:rPr sz="1800"/>
            </a:b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v podnikatelské, tak veřejné sfé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riminace osob pečujících o děti (vesměs však žen) na trhu prá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endence při snižování počtu zaměstnanců propouštět ž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ereotypy o nižší schopnosti žen v důsledku jejich sociálních rolí (matky, pečovatelky a hospody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radiční model rodiny – muž živitel x žena hospody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éče žen o rodinu a domácnost x nutnost dvojího příjmu do domácnost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„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vojí břemeno“ žen (ovlivňuje výši mzdy a přístup k zaměstná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Horizontální segregace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rientace na tzv. ”ženské” a ”mužské” profese reprodukovaná již v průběhu socializace ve výchovném a vzdělávacím procesu             platová nerovnost (finanční podhodnocení ženských oborů), vyšší nezaměstnanost jednoho pohlaví podle poptávky po mužských nebo ženských oborech           potřeba podporovat individuální schopn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zájmy žen a mužů v těch oborech, které jsou z hlediska jejich pohlaví považovány za netypick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Vertikální segregace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Čím vyšší stupeň řízení, tím méně žen. Příčinou jsou zejména stereotypy o nekompetentnosti k zastávání řídící pozice + péče žen o děti a domácnost (vyšší nároky na čas strávený v zaměstnání, zpomalení kariérního růstu a kvalifikace v důsledku péče o dět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latové rozdíly mezi ženami a muži vykonávajícími stejnou práci nebo práci stejné hodnoty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posouzení požadavků na práci a její povahy vyplývá, že má stejnou hodnotu jako srovnávaná práce (znalosti, dovednosti, odpovědnost a namáhavost, pracovní podmínk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Šipka doprava se zářezem 3"/>
          <p:cNvSpPr/>
          <p:nvPr/>
        </p:nvSpPr>
        <p:spPr>
          <a:xfrm>
            <a:off x="1835280" y="22431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Šipka doprava se zářezem 4"/>
          <p:cNvSpPr/>
          <p:nvPr/>
        </p:nvSpPr>
        <p:spPr>
          <a:xfrm>
            <a:off x="3059280" y="27813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ečensky sdílená a modelované pohlavní identita. Týká se sociálních rozdílů mezi ženami a muži, které jsou naučené a mohou se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růběhu času měnit. Pohlavní role nejsou stabilní, ale udržované společností a rozhodnutími, která v každodenním životě přijímá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ové stereotypy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ečenské představy o typicky mužských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ženských vlastnostech, rolích a pozicích mužů a žen ve společnosti.  Společnost 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„ví“, co je dobré pro muže a co pro ženy, co mohu muži nebo ženy dělat a co naopak dělat nesm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o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dráž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e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na dělbě práce, sociální, ekonomické a politické situaci obou pohla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Např. stereotyp žena pečovatelka – muž živite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vlivňuje ženy (záměrně volí méně časově náročné a hůře placené zaměstnání než muži, zkrácené úvazky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vlivňuje zaměstnavatele (tendence lépe odměňovat muže jako živitele a umožňovat jim větší kariérní růst než ženám)          zpětně vliv na ženy (pro domácnost finančně výhodnější, když doma s dětmi zůstane že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se zářezem 5"/>
          <p:cNvSpPr/>
          <p:nvPr/>
        </p:nvSpPr>
        <p:spPr>
          <a:xfrm>
            <a:off x="5003640" y="3645000"/>
            <a:ext cx="648000" cy="215640"/>
          </a:xfrm>
          <a:custGeom>
            <a:avLst/>
            <a:gdLst>
              <a:gd name="textAreaLeft" fmla="*/ 54000 w 648000"/>
              <a:gd name="textAreaRight" fmla="*/ 594000 w 648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Šipka doprava se zářezem 6"/>
          <p:cNvSpPr/>
          <p:nvPr/>
        </p:nvSpPr>
        <p:spPr>
          <a:xfrm>
            <a:off x="6372360" y="551664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laďování pracovního a rodinného života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hled zaměstnavatelů na další sociální role svých zaměstnanců             nástroje (pracovní doba, organizace práce, místo výkonu práce, poskytované služby atd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Týká se žen i mužů, rodičů i bezdětných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otřeba umožnit slaďování pracovního a soukromého života obec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Důležitost zapojení mužů do péče o děti a domácnost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ádné z pohlaví nesmí být při výkonu péče o děti a domácnost diskriminováno, opatření tlumící nepříznivé sociální dopady výkonu této péče nemají být určena pouze ženám              potřeba posílení prestiže žen ve společnosti, stejně jako v posílení úlohy muže v rodi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Šipka doprava se zářezem 3"/>
          <p:cNvSpPr/>
          <p:nvPr/>
        </p:nvSpPr>
        <p:spPr>
          <a:xfrm>
            <a:off x="4932360" y="198900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Šipka doprava se zářezem 4"/>
          <p:cNvSpPr/>
          <p:nvPr/>
        </p:nvSpPr>
        <p:spPr>
          <a:xfrm>
            <a:off x="2987640" y="465300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oč podporovat 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Afirmativní (též pozitivní) akce ve prospěch žen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naha o zvýhodnění určitých znevýhodněných skupin s cílem poskytnout jim rovné příležit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kompenzovat znevýhodnění způsobené různými formami diskriminace                  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v oblasti podpory 3. 4 převažuje cílová skupina žen. Stejné zacházení s muži a ženami nutně nevede ve výsledcích k rovnosti, protože ženy a muži mají rozdílné životní podmínky a jsou konfrontováni s různými postoji a různým očekáván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ová statistika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šechny statistické údaje mapující potřebnost projektu je třeba sbírat zvlášť pro obě pohlaví. Všechny proměnné veličiny musí být analyzovány tak, aby pohlaví bylo hlavním klasifikačním rozliš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existuje genderově neutrální problé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Gender mainstreaming“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ohledňování a zapracování hlediska rovnosti žen a mužů ve všech koncepčních, plánovacích, hodnotících a rozhodovacích procesech. Doporučeno aplikovat i v jednotlivých fázích grantov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Šipka doprava se zářezem 3"/>
          <p:cNvSpPr/>
          <p:nvPr/>
        </p:nvSpPr>
        <p:spPr>
          <a:xfrm>
            <a:off x="909720" y="458136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Šipka doprava se zářezem 3"/>
          <p:cNvSpPr/>
          <p:nvPr/>
        </p:nvSpPr>
        <p:spPr>
          <a:xfrm>
            <a:off x="933480" y="2557440"/>
            <a:ext cx="647640" cy="216000"/>
          </a:xfrm>
          <a:custGeom>
            <a:avLst/>
            <a:gdLst>
              <a:gd name="textAreaLeft" fmla="*/ 54000 w 647640"/>
              <a:gd name="textAreaRight" fmla="*/ 594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1-06-14T05:55:54Z</dcterms:modified>
  <cp:revision>566</cp:revision>
  <dc:subject/>
  <dc:title>Snímek 1</dc:title>
</cp:coreProperties>
</file>