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691813" cy="7559675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FDF-00A9-4CA8-8E32-0BF85E3F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6C7-CDF3-4062-B949-245B5959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0C0-2048-4926-8241-FAA4D11A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57C-B163-49B8-B227-C1B0E4F9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860-1538-430E-A0F0-0506C266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C7E-23F2-4D74-AA9E-3EAB8AA1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26E-D181-49EB-99AC-44C4A974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26A-D862-4B70-B2C3-835F45BE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323-F30E-4693-9097-697B534B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53C-85DE-4735-BB1F-AB072B4B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767-D396-4C17-92CE-0359F708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412-00BB-4CF6-BC3E-5986BA9C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1DAD7B29-4505-4218-9626-2CDF24B9734E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ba trvání projektu: 09/2009 – 08/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ování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ropský sociální fond v ČR a státní rozpočet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e proškole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120 ž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řádáme: semináře, odborné konzultace, worksh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kupi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- ženy se záměrem podnik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2 - začínající podnikatelky první 3 roky podni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 - začínající podnikatelky: oblast služeb péče o děti do 15 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artner projek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avská asociace podnikatelek a manažerek, o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ionální klub B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59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57880" y="303120"/>
            <a:ext cx="1776240" cy="126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8000" y="1405080"/>
            <a:ext cx="4248000" cy="1749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418000" y="3060720"/>
            <a:ext cx="4969080" cy="199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6360" y="4807080"/>
            <a:ext cx="4464000" cy="170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62720" y="1981080"/>
            <a:ext cx="397800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1- zapojeno 168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2360" y="3852720"/>
            <a:ext cx="44085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2- zapojeno 79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869080"/>
            <a:ext cx="491328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3- zapojeno 19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475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Nabídka pro klien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– cykly seminář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adenská čin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stupní konzul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konzultace ( účetní, daňové, marketing, reklama, PR, stres a časový management, koučink, ochrana loga, moderní technologie, web-stránky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práv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tkání s podnikatelkami – business kluby, kulatý stůl – předávání zkuše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8600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23555" r="0" b="37688"/>
          <a:stretch/>
        </p:blipFill>
        <p:spPr>
          <a:xfrm>
            <a:off x="233280" y="1981080"/>
            <a:ext cx="10082160" cy="525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402000" y="687708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Těšíme se na shledanou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na dalším ze seminářů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podnikanizen@rhkbrno.cz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www.rhkbrno.cz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70000" y="29718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dnikanizen@rhkbrno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ww.rhkbrno.c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75080" y="673272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3:15:21Z</dcterms:created>
  <dc:creator>Věra</dc:creator>
  <dc:description/>
  <dc:language>en-US</dc:language>
  <cp:lastModifiedBy>-</cp:lastModifiedBy>
  <dcterms:modified xsi:type="dcterms:W3CDTF">2011-06-15T08:24:43Z</dcterms:modified>
  <cp:revision>67</cp:revision>
  <dc:subject/>
  <dc:title>První kroky pro vstup do podnikání Ing. Dagmar Jelínková ECONOMY RATING</dc:title>
</cp:coreProperties>
</file>