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600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3240" y="739440"/>
            <a:ext cx="4934160" cy="3701880"/>
          </a:xfrm>
          <a:prstGeom prst="rect">
            <a:avLst/>
          </a:prstGeom>
          <a:noFill/>
          <a:ln w="9360">
            <a:solidFill>
              <a:srgbClr val="000000"/>
            </a:solidFill>
            <a:miter/>
          </a:ln>
        </p:spPr>
        <p:txBody>
          <a:bodyPr lIns="89640" rIns="8964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3680"/>
            <a:ext cx="291924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6000" y="9373680"/>
            <a:ext cx="2919240" cy="49212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cs-CZ" sz="1200" spc="-1" strike="noStrike">
                <a:solidFill>
                  <a:srgbClr val="000000"/>
                </a:solidFill>
                <a:latin typeface="Arial"/>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44B57C6-8D17-47B0-BA8D-D9805471D2E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3240" y="739800"/>
            <a:ext cx="4934160" cy="3701880"/>
          </a:xfrm>
          <a:prstGeom prst="rect">
            <a:avLst/>
          </a:prstGeom>
          <a:ln w="0">
            <a:noFill/>
          </a:ln>
        </p:spPr>
      </p:sp>
      <p:sp>
        <p:nvSpPr>
          <p:cNvPr id="149"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445F2B0-1547-4BDF-A0CE-A74C14378F5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3240" y="739800"/>
            <a:ext cx="4934160" cy="3701880"/>
          </a:xfrm>
          <a:prstGeom prst="rect">
            <a:avLst/>
          </a:prstGeom>
          <a:ln w="0">
            <a:noFill/>
          </a:ln>
        </p:spPr>
      </p:sp>
      <p:sp>
        <p:nvSpPr>
          <p:cNvPr id="15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1D22C4B-B5B6-470F-87EB-A98E8F70FFD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03240" y="739800"/>
            <a:ext cx="4934160" cy="3701880"/>
          </a:xfrm>
          <a:prstGeom prst="rect">
            <a:avLst/>
          </a:prstGeom>
          <a:ln w="0">
            <a:noFill/>
          </a:ln>
        </p:spPr>
      </p:sp>
      <p:sp>
        <p:nvSpPr>
          <p:cNvPr id="158"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7823311-BAFA-4A4D-B6A7-9BAAF5DC1F1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3240" y="739800"/>
            <a:ext cx="4934160" cy="3701880"/>
          </a:xfrm>
          <a:prstGeom prst="rect">
            <a:avLst/>
          </a:prstGeom>
          <a:ln w="0">
            <a:noFill/>
          </a:ln>
        </p:spPr>
      </p:sp>
      <p:sp>
        <p:nvSpPr>
          <p:cNvPr id="161"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79D4387-A13E-4E64-8F6B-79561A5684E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03240" y="739800"/>
            <a:ext cx="4934160" cy="3701880"/>
          </a:xfrm>
          <a:prstGeom prst="rect">
            <a:avLst/>
          </a:prstGeom>
          <a:ln w="0">
            <a:noFill/>
          </a:ln>
        </p:spPr>
      </p:sp>
      <p:sp>
        <p:nvSpPr>
          <p:cNvPr id="164"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D641DD4-6133-4DAB-9C53-52431B65DC5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3240" y="739800"/>
            <a:ext cx="4934160" cy="3701880"/>
          </a:xfrm>
          <a:prstGeom prst="rect">
            <a:avLst/>
          </a:prstGeom>
          <a:ln w="0">
            <a:noFill/>
          </a:ln>
        </p:spPr>
      </p:sp>
      <p:sp>
        <p:nvSpPr>
          <p:cNvPr id="16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493AA84-E37D-494A-8671-73D00196C66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03240" y="739800"/>
            <a:ext cx="4934160" cy="3701880"/>
          </a:xfrm>
          <a:prstGeom prst="rect">
            <a:avLst/>
          </a:prstGeom>
          <a:ln w="0">
            <a:noFill/>
          </a:ln>
        </p:spPr>
      </p:sp>
      <p:sp>
        <p:nvSpPr>
          <p:cNvPr id="170"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D7D82A2-234D-477D-9845-4931AA22309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3240" y="739800"/>
            <a:ext cx="4934160" cy="3701880"/>
          </a:xfrm>
          <a:prstGeom prst="rect">
            <a:avLst/>
          </a:prstGeom>
          <a:ln w="0">
            <a:noFill/>
          </a:ln>
        </p:spPr>
      </p:sp>
      <p:sp>
        <p:nvSpPr>
          <p:cNvPr id="173"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2D48915-C0D3-456D-B059-C67739F2BDE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03240" y="739800"/>
            <a:ext cx="4934160" cy="3701880"/>
          </a:xfrm>
          <a:prstGeom prst="rect">
            <a:avLst/>
          </a:prstGeom>
          <a:ln w="0">
            <a:noFill/>
          </a:ln>
        </p:spPr>
      </p:sp>
      <p:sp>
        <p:nvSpPr>
          <p:cNvPr id="176"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0256CD4-BBD2-45F2-9E70-353D267CD12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03240" y="739800"/>
            <a:ext cx="4934160" cy="3701880"/>
          </a:xfrm>
          <a:prstGeom prst="rect">
            <a:avLst/>
          </a:prstGeom>
          <a:ln w="0">
            <a:noFill/>
          </a:ln>
        </p:spPr>
      </p:sp>
      <p:sp>
        <p:nvSpPr>
          <p:cNvPr id="179"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FF64636-6D14-4408-B28B-729DE99B5AA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03240" y="739800"/>
            <a:ext cx="4934160" cy="3701880"/>
          </a:xfrm>
          <a:prstGeom prst="rect">
            <a:avLst/>
          </a:prstGeom>
          <a:ln w="0">
            <a:noFill/>
          </a:ln>
        </p:spPr>
      </p:sp>
      <p:sp>
        <p:nvSpPr>
          <p:cNvPr id="18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29E45E9-0D9A-4A81-8234-B8BD0FE88F7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3240" y="739800"/>
            <a:ext cx="4934160" cy="3701880"/>
          </a:xfrm>
          <a:prstGeom prst="rect">
            <a:avLst/>
          </a:prstGeom>
          <a:ln w="0">
            <a:noFill/>
          </a:ln>
        </p:spPr>
      </p:sp>
      <p:sp>
        <p:nvSpPr>
          <p:cNvPr id="18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F67F7B6-2B58-40E2-8345-E1C0A060E0A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3240" y="739800"/>
            <a:ext cx="4934160" cy="3701880"/>
          </a:xfrm>
          <a:prstGeom prst="rect">
            <a:avLst/>
          </a:prstGeom>
          <a:ln w="0">
            <a:noFill/>
          </a:ln>
        </p:spPr>
      </p:sp>
      <p:sp>
        <p:nvSpPr>
          <p:cNvPr id="188"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2676D47-B6EA-4A57-A192-2A881E99630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3240" y="739800"/>
            <a:ext cx="4934160" cy="3701880"/>
          </a:xfrm>
          <a:prstGeom prst="rect">
            <a:avLst/>
          </a:prstGeom>
          <a:ln w="0">
            <a:noFill/>
          </a:ln>
        </p:spPr>
      </p:sp>
      <p:sp>
        <p:nvSpPr>
          <p:cNvPr id="191"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4DC8DE2-1749-48F6-8D98-FFE0D4FDE66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2FBE07E-0AAE-49D1-98F8-962F3630D01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03240" y="739800"/>
            <a:ext cx="4934160" cy="3701880"/>
          </a:xfrm>
          <a:prstGeom prst="rect">
            <a:avLst/>
          </a:prstGeom>
          <a:ln w="0">
            <a:noFill/>
          </a:ln>
        </p:spPr>
      </p:sp>
      <p:sp>
        <p:nvSpPr>
          <p:cNvPr id="19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3240" y="739800"/>
            <a:ext cx="4934160" cy="3701880"/>
          </a:xfrm>
          <a:prstGeom prst="rect">
            <a:avLst/>
          </a:prstGeom>
          <a:ln w="0">
            <a:noFill/>
          </a:ln>
        </p:spPr>
      </p:sp>
      <p:sp>
        <p:nvSpPr>
          <p:cNvPr id="19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14 e zákona, sankce dle metodického pokynu kapitoly 4 se v případě, kdy Rozhodnutí stanoví jinak, se uplatní Rozhodnutí. U OSS u nových rozhodnutí procenta a odkaz na D9, ale kde odkaz není, budeme uplatňovat D 9 s argumentem na aktuální platnost příruček. </a:t>
            </a:r>
            <a:endParaRPr b="0" lang="en-US" sz="1200" spc="-1" strike="noStrike">
              <a:solidFill>
                <a:srgbClr val="000000"/>
              </a:solidFill>
              <a:latin typeface="Arial"/>
            </a:endParaRPr>
          </a:p>
        </p:txBody>
      </p:sp>
      <p:sp>
        <p:nvSpPr>
          <p:cNvPr id="19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31353B2-DCF6-40F8-9F7B-EB517D0B119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03240" y="739800"/>
            <a:ext cx="4934160" cy="3701880"/>
          </a:xfrm>
          <a:prstGeom prst="rect">
            <a:avLst/>
          </a:prstGeom>
          <a:ln w="0">
            <a:noFill/>
          </a:ln>
        </p:spPr>
      </p:sp>
      <p:sp>
        <p:nvSpPr>
          <p:cNvPr id="15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D8383BF-7805-465D-8CA4-BA3448CB1F7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96160-0CC2-4E2B-8DA1-7B086CBEC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08AFA-D478-4271-923A-73BCC1509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AD946-40FE-4C83-A012-21FA3B844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75BD6-71CC-4EB4-8E01-66C17D13F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8297F-316F-47F2-815D-7102F024B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C5D37-122A-41B5-BB2A-D261929BB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C3D33-6582-43D4-A960-6DD18D4F9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64F0B-A086-4A7B-B964-F5A18F64C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76E8A-6001-4A1E-9039-1B48370AF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7AF90-C028-4D40-9D70-0A3C00F22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3CE0B-A0B2-4F88-8931-A6038E28C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06931-6D7C-4D8B-AD41-5D64440D0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0757-2E7C-4F2C-B666-D6AC1E3A52A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0"/>
            <a:ext cx="9144000" cy="6845400"/>
          </a:xfrm>
          <a:prstGeom prst="rect">
            <a:avLst/>
          </a:prstGeom>
          <a:ln w="0">
            <a:noFill/>
          </a:ln>
        </p:spPr>
      </p:pic>
      <p:sp>
        <p:nvSpPr>
          <p:cNvPr id="50" name="Obdélník 1"/>
          <p:cNvSpPr/>
          <p:nvPr/>
        </p:nvSpPr>
        <p:spPr>
          <a:xfrm>
            <a:off x="1763640" y="1916280"/>
            <a:ext cx="561672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D265-19A6-475F-86B4-5C8026072F6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D840-E9CB-48CB-9408-B4B5DE63F82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C4F9-A769-4114-8279-219A0D042AE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9BE4-1A59-4030-9E8F-54EB6D09207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F5CD-8746-4565-A6DA-65304C88A58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6AB9-6FFA-449B-9C54-2AF626B48AC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6</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8</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662F-396C-4FA5-BF79-B85FD6E8811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1.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Eliška</cp:lastModifiedBy>
  <cp:lastPrinted>2012-06-21T11:05:10Z</cp:lastPrinted>
  <dcterms:modified xsi:type="dcterms:W3CDTF">2012-12-07T09:16:52Z</dcterms:modified>
  <cp:revision>463</cp:revision>
  <dc:subject/>
  <dc:title>Snímek 1</dc:title>
</cp:coreProperties>
</file>