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ED64-0809-4686-957C-72B9BD6AAE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FDD9-CFC2-41A0-8129-16C3C3762E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D3E8-09CA-4559-8BD4-A9EEC218BD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3F0A-6823-45B2-B750-FB67E43367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A30E-A3C0-4A16-8533-0FAD2A1DFA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D6D1-B343-4F42-BE90-A940DC5519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3673440"/>
            <a:ext cx="54356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A7E6-1E50-4FC1-BA82-2945FE41FA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020-24C2-42A3-B2AF-986DFAA6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935-3028-43A9-93D2-57947043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191-2B49-46DB-9221-FA5B2078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5F5-9BB9-4078-984A-6FEAC0CE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B86-4471-4AF6-8716-64761096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1A2-E5D8-42BE-8E12-7A812940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D54-60B8-4C61-9668-09897F48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164-8C71-43C8-963F-67961F0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839-5286-4F4C-95CF-1D443CD8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1E8-BB6A-437B-85FA-92BD45CB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5DB-E09F-4D3F-9622-0D17F6D0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060-0730-4268-B387-F6C996E3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0824-6887-4BCA-A96F-B26A7F3393D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85" name="Přímá spojnice se šipkou 4"/>
          <p:cNvCxnSpPr>
            <a:stCxn id="86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 v posledním monitorovacím (sledovaném)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8"/>
          <p:cNvSpPr/>
          <p:nvPr/>
        </p:nvSpPr>
        <p:spPr>
          <a:xfrm>
            <a:off x="3419640" y="4797360"/>
            <a:ext cx="7207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nice se šipkou 11"/>
          <p:cNvCxnSpPr/>
          <p:nvPr/>
        </p:nvCxnSpPr>
        <p:spPr>
          <a:xfrm flipH="1" flipV="1">
            <a:off x="3419280" y="3789360"/>
            <a:ext cx="1584720" cy="1440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0" y="692280"/>
            <a:ext cx="4182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, pokud bude u VŘ pouze jeden dodavatel. Pokud bude více dodavatelů, příjemce bude vyplňovat pole na záložce Detaily k VŘ ručně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824360" cy="496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Přímá spojnice se šipkou 5"/>
          <p:cNvCxnSpPr>
            <a:stCxn id="114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Nová záložka od 2. 7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&gt;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dvojitých šip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43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77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6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tretch/>
        </p:blipFill>
        <p:spPr>
          <a:xfrm>
            <a:off x="6443640" y="2354400"/>
            <a:ext cx="762120" cy="333360"/>
          </a:xfrm>
          <a:prstGeom prst="rect">
            <a:avLst/>
          </a:prstGeom>
          <a:ln w="0">
            <a:noFill/>
          </a:ln>
        </p:spPr>
      </p:pic>
      <p:cxnSp>
        <p:nvCxnSpPr>
          <p:cNvPr id="169" name="Přímá spojnice se šipkou 3"/>
          <p:cNvCxnSpPr>
            <a:stCxn id="168" idx="1"/>
          </p:cNvCxnSpPr>
          <p:nvPr/>
        </p:nvCxnSpPr>
        <p:spPr>
          <a:xfrm flipH="1">
            <a:off x="2245680" y="2521080"/>
            <a:ext cx="4197960" cy="2853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Přímá spojnice se šipkou 3"/>
          <p:cNvCxnSpPr>
            <a:stCxn id="174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194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96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Přímá spojnice se šipkou 7"/>
          <p:cNvCxnSpPr>
            <a:endCxn id="196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12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4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7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lizac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33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34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nice se šipkou 5"/>
          <p:cNvCxnSpPr>
            <a:stCxn id="238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0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48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54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197000"/>
          <a:ext cx="676260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604880"/>
                <a:gridCol w="173664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9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1"/>
          <p:cNvSpPr/>
          <p:nvPr/>
        </p:nvSpPr>
        <p:spPr>
          <a:xfrm>
            <a:off x="250920" y="1916280"/>
            <a:ext cx="1152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ukovská Jiřina (MPSV)</cp:lastModifiedBy>
  <cp:lastPrinted>2012-04-23T10:38:10Z</cp:lastPrinted>
  <dcterms:modified xsi:type="dcterms:W3CDTF">2012-12-11T06:49:25Z</dcterms:modified>
  <cp:revision>441</cp:revision>
  <dc:subject/>
  <dc:title>Snímek 1</dc:title>
</cp:coreProperties>
</file>