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0E22-F777-49AA-B819-FE8A8AAD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30C5-88A5-4A09-B960-0BC7A308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0267-A9BB-4AEF-9E42-95CBC54E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16B0-B765-479D-ACE3-8F053D58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AFA3-911C-4966-9E82-E389F8C1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EEBE-3347-459D-A962-85521300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3A8F-4214-4D28-96A3-43022347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CC02-748E-41C2-A175-CCED5C9A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6E6E-DE5A-4A21-A7AA-B3CFC862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5662-E9B3-409B-8E00-3A247FB8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6B3C-40AA-46EC-8552-37E3D099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7D2C-B674-493C-87AB-257926F4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40E1-65C2-49E3-AE1C-DA000DE98D7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polufinancovaných 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SF/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7931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Označení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školících místností a certifikátů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ovinnými log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NO: 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urz pořádaný konkrétně pro příjem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: 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urz pro veřejnost, kterého se příjemce pouze účastní.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Vlaječky ČR a EU není třeba použí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ro označení místnosti není třeba tisknout plakáty či bannery, stačí dostatečně velká a viditelná cedule (čtvrtka) s řadou lo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Shrnu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2 manuá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Manuál pro publicitu OP L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Manuál vizuální identity OP L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3 základní povinnosti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(závazný balíč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á lo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označení školící místnosti a vybav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rezentace na 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droje informací a konta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rogramové období 2007-13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OP LZZ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manuály, šablony, loga, prez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Doporučujeme odebírat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ovinky e-mailem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, kde se dozvíte o aktuálních výzvách, seminářích, realizovaných projektech, zadávacích řízeních a podob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kládání informací na we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Registrace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na stránkách www.esfcr.c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Realizované projekty 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Vložit projekt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, kde naleznete návod i on-line formulá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Zadávací řízení 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Vložit zadávací řízení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, kde naleznete návod i on-line formulá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O webu ESFCR – všechny náv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Děkuji Vám za pozornos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Odbor řízení pomoci z E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Ministerstvo práce a sociálních věcí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ovinná 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součást všech projektů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spolufinancovaných z fondů E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je předmětem k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Nařízení Komise č. 1828/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d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dává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informování příjemců i široké veřejnosti, že projekt je spolufinancován z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d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dostává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uvedení příjemců na veřejně přístupném sezn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Manuál pro publicitu OP LZZ  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stanovuje základní pravidla týkající se publicity v 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Manuál vizuální identity OP LZZ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ur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uje zásady správného pou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ívání povinných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pro publici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Závazný balíček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k provádění propagačních a informačních aktiv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ovinné minimum publicity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  <a:ea typeface="Arial"/>
              </a:rPr>
              <a:t>~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lo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označení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školící místnosti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(+ vybave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ložení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prezentace projektu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na 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pro publici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é minimum public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a)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 logo fondu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b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ázev „Evropský sociální fond v ČR“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c)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logo EU včetně náz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d)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logo operačního programu včetně náz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e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otto „Podporujeme vaši budoucnost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f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odkaz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ompletní řady i samostatná loga jsou ke stažení na webu (formát JPG, A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vizuální id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69992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elikost, řazení, rozestupy povinných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bare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typy pís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elké množství příkladů</a:t>
            </a:r>
            <a:r>
              <a:rPr b="0" lang="cs-CZ" sz="36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Lze použít i logo příjemce, případně logo projek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é minimum publicity × publicitní ak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inimum publicity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= povinná loga, uvádí všichni příjemci; propagace programu, fondu, EU (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kdo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 dává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publicitní aktivity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= aktivity specifikované v projektové žádosti; zejména propagace projektu (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a co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se peníze dávají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Log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PSV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říjemci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emusí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ouží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Loga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ení třeba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uvádět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pouze v řadě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Barevná a černobílá varianta lo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6"/>
          <p:cNvGraphicFramePr/>
          <p:nvPr/>
        </p:nvGraphicFramePr>
        <p:xfrm>
          <a:off x="1692360" y="4221000"/>
          <a:ext cx="158436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4221000"/>
                    <a:ext cx="158436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4" descr=""/>
          <p:cNvPicPr/>
          <p:nvPr/>
        </p:nvPicPr>
        <p:blipFill>
          <a:blip r:embed="rId4"/>
          <a:stretch/>
        </p:blipFill>
        <p:spPr>
          <a:xfrm>
            <a:off x="1116000" y="1989000"/>
            <a:ext cx="2664000" cy="816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5"/>
          <a:stretch/>
        </p:blipFill>
        <p:spPr>
          <a:xfrm>
            <a:off x="1116000" y="3068640"/>
            <a:ext cx="2664000" cy="844560"/>
          </a:xfrm>
          <a:prstGeom prst="rect">
            <a:avLst/>
          </a:prstGeom>
          <a:ln w="0">
            <a:noFill/>
          </a:ln>
        </p:spPr>
      </p:pic>
      <p:sp>
        <p:nvSpPr>
          <p:cNvPr id="60" name="Line 8"/>
          <p:cNvSpPr/>
          <p:nvPr/>
        </p:nvSpPr>
        <p:spPr>
          <a:xfrm>
            <a:off x="1403280" y="4076640"/>
            <a:ext cx="1944720" cy="136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 flipH="1">
            <a:off x="1547640" y="4149720"/>
            <a:ext cx="194472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6"/>
          <a:stretch/>
        </p:blipFill>
        <p:spPr>
          <a:xfrm>
            <a:off x="4356000" y="1989000"/>
            <a:ext cx="1328760" cy="1281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"/>
          <p:cNvPicPr/>
          <p:nvPr/>
        </p:nvPicPr>
        <p:blipFill>
          <a:blip r:embed="rId7"/>
          <a:stretch/>
        </p:blipFill>
        <p:spPr>
          <a:xfrm>
            <a:off x="6516720" y="1989000"/>
            <a:ext cx="1441440" cy="1398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8"/>
          <a:stretch/>
        </p:blipFill>
        <p:spPr>
          <a:xfrm>
            <a:off x="5292720" y="3860640"/>
            <a:ext cx="1871640" cy="1206720"/>
          </a:xfrm>
          <a:prstGeom prst="rect">
            <a:avLst/>
          </a:prstGeom>
          <a:ln w="0">
            <a:noFill/>
          </a:ln>
        </p:spPr>
      </p:pic>
      <p:sp>
        <p:nvSpPr>
          <p:cNvPr id="65" name="Line 16"/>
          <p:cNvSpPr/>
          <p:nvPr/>
        </p:nvSpPr>
        <p:spPr>
          <a:xfrm flipH="1">
            <a:off x="4932360" y="3573360"/>
            <a:ext cx="2735280" cy="182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7"/>
          <p:cNvSpPr/>
          <p:nvPr/>
        </p:nvSpPr>
        <p:spPr>
          <a:xfrm>
            <a:off x="5003640" y="3716280"/>
            <a:ext cx="2735280" cy="1677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Loga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je třeba používat na dokumentech spojených s projektem a na materiálech/předmětech hrazených z projektu, nemusí být ale úplně všu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ANO</a:t>
            </a: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: smlouvy, zadávací dokumentace, letáky, brožury, propagační předměty, prezenční listiny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NE</a:t>
            </a: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: kancelářské potřeby pro běžnou administrativu, faktury a objednávky (generované strojov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Lze použít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amolepku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nebo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azítko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Větu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„Tento projekt je financován z ESF prostřednictvím OP LZZ a ze státního rozpočtu ČR.“ není třeba v tištěné podobě použí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Accenture</cp:lastModifiedBy>
  <dcterms:modified xsi:type="dcterms:W3CDTF">2012-04-23T08:38:51Z</dcterms:modified>
  <cp:revision>32</cp:revision>
  <dc:subject/>
  <dc:title>Snímek 1</dc:title>
</cp:coreProperties>
</file>