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7801-56CE-4824-B701-EB7DE05554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412F-619D-448A-95EB-E8BC0B4A64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A3F5-C8F4-48FB-A85E-FFD614F6EB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4E22-51AB-4AA3-9F0A-81D4C69EFE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1247-4F08-4760-9BE6-E65650B2CA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5C9F-D338-4D19-B95A-F9E9AA9C1A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B8B0-4A3D-4869-A2C6-1AF2FD9D60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E71C-A3E8-49F6-9AB2-E189D06CC2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8AAC-38EC-4EEE-BF67-8406B8EED3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0BB3-C578-4D7D-BD3C-238A462F12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652A-783C-4881-B026-E7F223AAAB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0F56-3C8A-4D46-96C7-F1AA36AE546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0BA9-6B4D-4E98-9C41-565668C70B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3ECE-01C5-4E45-8625-693A595663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5230-0E53-4180-8DFA-50AEE74083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E505-12B2-48BD-9CFA-4B82DF408FF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3594-5AD4-46E4-B766-4C88084455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0C11-66BD-48E3-AF07-689B573720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0789-1EAC-47D1-81C5-807A5B3680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ED16-DAF1-4AE6-B251-29C8CA2E79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2F4D-8871-42C9-88DD-7371C6D44E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B378-4D0F-4E63-AE34-86DE0F24EB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2696-FD1F-4745-B004-DDC9D2B22C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2908-32D2-4A6A-8FD7-79DD725555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4259-6B37-4914-B7A4-0AE9336FF75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6D6C-7217-4282-A7F7-5B88AD84B7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2F87-E443-4EB9-AA2D-91AAF7BE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693-10FB-4A9A-A28E-CDC04F58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E94-A32E-4762-8D5A-33CC8801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57C-A68F-4981-A221-3D874015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478-00BF-4F8D-AFDE-C841E806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AC6-7322-4860-B923-EFFB7BE8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87A-6539-4D09-8FE8-3AA4CEDC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E55-2FF8-48D8-A439-3B082B61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774-8319-4B1E-BE1A-E1307AEB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66C-2036-42C5-929D-9E7E6A62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CD6-8CC0-4196-A9D8-A264C115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7F9-1126-4162-B6B8-978D984C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0B7D-87EA-43D8-A569-138E678B000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77 a 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11. 12. 2012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6.   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projektu podle bodu 15 části II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Změny ve způsobu provádění klíčových aktivit a klíčových pozic realizačního týmu – v případě, že bod 15 části II Rozhodnutí se odkazuje na klíčové aktivity a realizační tý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197000"/>
          <a:ext cx="8207280" cy="507528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uditorská zpráva </a:t>
                      </a:r>
                      <a:r>
                        <a:rPr b="1" lang="cs-CZ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pouze pokud je povinnost provést audit stanovená v Rozhodnutí o poskytnutí dota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datem podpisu oprávněné osoby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auditora (v případě povinnosti provést au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, čase a odvětví obvyklých (dostupné na www.esfcr.cz, součástí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12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1:  (9:05 – 10:00 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(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2: (cca 10:10 – 12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 náklady, partnerst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ovací indiká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: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3:  ( cca 12:30 – 13:40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+ 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3:4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4: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(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cca od 13: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řejná podpora - de minim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90792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Dva typy partnerstv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s finančním příspěvke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přijímá prostřednictvím příjemce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část finanční podpory na realizaci věcných projektových aktiv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bez finančního příspěvku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se podílí na realizaci věcných aktivit projektu, např. formou konzultací, odborné garance apod., ale není mu poskytován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žádný finanční příspěvek za účast na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765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s českými partne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i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zahraničních partn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r je vždy partnerem bez finančního příspěv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ři si musí sami zajistit financování aktivit, k jejichž zajištění se zavazují v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ě o mezinárodní spoluprá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(kromě zdrojů z ESF i jiné zdroje financování, např. vlastní zdroje, národní financování nebo jiný druh financování z rozpočtu EU)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droje financování zahraniční partner už dále nedoklád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jimka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– způsobilými výdaji mohou být výdaje na cestovné, ubytování a stravu (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Per-diems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) v případě, že zahraniční partner např. prezentuje na mezinárodní konferenci v ČR nebo jiným způsobem předává zkušenosti partnerům v ČR, podrobněji viz Metodika způsobilých výdajů OP LZZ (D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Neplnění závazků /odstoupení zahraničního partnera u projektů v 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blasti podpory 5.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statná změna projektu, musí být schvá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souzení další smysluplnosti a realizovatelnosti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stoupení zahraničního partnera = ukončen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smí být zaúčtovány společně s přímými nákl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6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 – D2 (kapitola 14.) a D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5.3 části II Rozhodnutí o poskytnutí dotace a Příručkou pro příjemce (D2) a Pokyny pro vyplnění MZ (D1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4 měsíců realizace projektu (1. – 4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1. – 3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2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dalších 3 měsíců realizace projektu (5. - 7. měsíc), předkládá se do 15-ti kalendářních dnů od ukončeného monitorovacího obdob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4. – 6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. měsíců realizace projektu, předkládá se do 30-ti kalendářních dnů od ukončeného monitorovacího období. V případě domluvy s kontaktní osobou je možné předložit </a:t>
            </a: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kratší sledované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onitorovací zprávy (průběžné, mimořádné závěrečná)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růběžná MZ, Mimořádná MZ a ZM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 el. Podobě v Benefit 7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řílohy nutné nahrát do Benefit 7+ k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zprávy poskytovateli podpory nikoliv datum odeslání zásil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růběžná MZ, Mimořádná MZ a Z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1. a 2. část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Předchoz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ska.dobra</cp:lastModifiedBy>
  <dcterms:modified xsi:type="dcterms:W3CDTF">2012-12-19T09:13:43Z</dcterms:modified>
  <cp:revision>410</cp:revision>
  <dc:subject/>
  <dc:title>Snímek 1</dc:title>
</cp:coreProperties>
</file>