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622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F755-1D11-4B9E-A033-27ABBE6884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3177-2310-4A6E-B3DD-7DF1DEE74BE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73400" cy="305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1200"/>
            <a:ext cx="4938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4167-4A33-4294-8AA0-0FCF55DB14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DEC6-403F-4F30-84BC-172D3CD2206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D642-7847-43A5-94E0-7369E0B927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08320" cy="308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46EB-868C-482C-9AAC-86A90DA175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08320" cy="30830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3673440"/>
            <a:ext cx="5435640" cy="55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6F3D-224D-4AAD-86BD-CEFE2082F3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73400" cy="305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1200"/>
            <a:ext cx="4938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FB6-0884-47A4-AA62-EC5C4E85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2E2-771C-49A1-A319-F7F60F53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F85-4720-4214-B731-4AED6214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C5E-7EF8-4A86-8498-002DE7E5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82D9-BCD0-46BF-8E72-1260FE9E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2C6-BC36-4A4A-91B9-E0C0C570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121F-2BC1-45BF-A940-22648A34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D95-D4A6-48FB-8DD9-A2206253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8F79-CA97-4631-B973-09000232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7E80-47AB-49C1-BAE9-FA5985C9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ECFF-29D5-4038-AD17-93A7C22E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06D-F7F3-4C2E-8F86-CB41C795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E1B7-0A96-4E36-B784-9AD3DEC810D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7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85" name="Přímá spojnice se šipkou 4"/>
          <p:cNvCxnSpPr>
            <a:stCxn id="86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92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1125360"/>
            <a:ext cx="446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 v posledním monitorovacím (sledovaném)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8"/>
          <p:cNvSpPr/>
          <p:nvPr/>
        </p:nvSpPr>
        <p:spPr>
          <a:xfrm>
            <a:off x="3419640" y="4797360"/>
            <a:ext cx="7207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Přímá spojnice se šipkou 11"/>
          <p:cNvCxnSpPr/>
          <p:nvPr/>
        </p:nvCxnSpPr>
        <p:spPr>
          <a:xfrm flipH="1" flipV="1">
            <a:off x="3419280" y="3789360"/>
            <a:ext cx="1584720" cy="1440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00400" y="692280"/>
            <a:ext cx="41828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, pokud bude u VŘ pouze jeden dodavatel. Pokud bude více dodavatelů, příjemce bude vyplňovat pole na záložce Detaily k VŘ ručně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824360" cy="496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08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13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Přímá spojnice se šipkou 5"/>
          <p:cNvCxnSpPr>
            <a:stCxn id="114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6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Nová záložka od 2. 7.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&gt;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dvojitých šipe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0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36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8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43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77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53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64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66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3"/>
          <a:stretch/>
        </p:blipFill>
        <p:spPr>
          <a:xfrm>
            <a:off x="6443640" y="2354400"/>
            <a:ext cx="762120" cy="333360"/>
          </a:xfrm>
          <a:prstGeom prst="rect">
            <a:avLst/>
          </a:prstGeom>
          <a:ln w="0">
            <a:noFill/>
          </a:ln>
        </p:spPr>
      </p:pic>
      <p:cxnSp>
        <p:nvCxnSpPr>
          <p:cNvPr id="169" name="Přímá spojnice se šipkou 3"/>
          <p:cNvCxnSpPr>
            <a:stCxn id="168" idx="1"/>
          </p:cNvCxnSpPr>
          <p:nvPr/>
        </p:nvCxnSpPr>
        <p:spPr>
          <a:xfrm flipH="1">
            <a:off x="2245680" y="2521080"/>
            <a:ext cx="4197960" cy="28533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Přímá spojnice se šipkou 3"/>
          <p:cNvCxnSpPr>
            <a:stCxn id="174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6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182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187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9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194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96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Přímá spojnice se šipkou 7"/>
          <p:cNvCxnSpPr>
            <a:endCxn id="196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03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12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4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27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lizac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33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34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38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Přímá spojnice se šipkou 5"/>
          <p:cNvCxnSpPr>
            <a:stCxn id="238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40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41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48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54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6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60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271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116000" y="1197000"/>
          <a:ext cx="676260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604880"/>
                <a:gridCol w="173664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9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67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75" name="Obdélník 1"/>
          <p:cNvSpPr/>
          <p:nvPr/>
        </p:nvSpPr>
        <p:spPr>
          <a:xfrm>
            <a:off x="250920" y="1916280"/>
            <a:ext cx="115236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Bukovská Jiřina (MPSV)</cp:lastModifiedBy>
  <cp:lastPrinted>2012-04-23T10:38:10Z</cp:lastPrinted>
  <dcterms:modified xsi:type="dcterms:W3CDTF">2012-12-11T06:49:25Z</dcterms:modified>
  <cp:revision>441</cp:revision>
  <dc:subject/>
  <dc:title>Snímek 1</dc:title>
</cp:coreProperties>
</file>