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4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0B41-DA36-411E-AE01-DEB1C01D1B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5627-3599-4449-9214-AC9A6A4146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A7CA-5378-458B-9575-4EFFB24A76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C47A-181C-4FF2-8428-10D4B2F717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7591-7EFC-4F8E-B7DC-3699516D6A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73B8-DBC1-499F-B7AF-0870053AAB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A719-252F-425C-9CA0-BB1AC3FDDE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0912-90CA-4667-933D-347E95D5F8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7573-8005-4DC2-BFD6-320D9FEDAD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1FDA-3694-42FC-B61B-D77ED47896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EE2E-065F-4A54-9E37-93EFFA3FDF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54A3-01A9-435E-AD8C-22FC5B1CE9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34CC-F4F2-432D-A797-18E1B1C016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FDA2-8A6E-47FB-8949-8477AFFFA5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97FD-B886-45ED-BF8B-09EE1BD582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667F-9020-4D3D-8681-F5E58FFCD9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87B4-1368-45A9-B515-320988B1F4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4582-6430-4F6A-B53A-CC088B28ED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C87-3A07-401B-A399-D12C2FF6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BDA-FD2C-4437-8E68-B619C91A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7FB-756A-4528-B29F-489E5AA0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702-E40D-400C-8252-196525C4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FAE-A473-4CD5-B51F-285C7634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AC15-2DED-4243-8733-3ED534B5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57A-AA18-49C1-87E9-A18194A6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F17-FFDB-496F-9638-3110663A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A47-66C9-4D83-AE52-7D077AA7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71A-3CE4-435A-BCF8-2A184F32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019-43FA-4A61-8892-97DB1EA2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0B7-BD46-41E2-9EE7-D006170C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279A-5FEF-4DD4-8969-0505B576466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am.cz/cz/products/rp/logframe.pdf" TargetMode="External"/><Relationship Id="rId2" Type="http://schemas.openxmlformats.org/officeDocument/2006/relationships/hyperlink" Target="http://www.partnerstvi-jmk.cz/page.php?action=detail&amp;id=94" TargetMode="External"/><Relationship Id="rId3" Type="http://schemas.openxmlformats.org/officeDocument/2006/relationships/hyperlink" Target="http://www.logframe.cz/metoda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s://forum.esfcr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Specifická kritéria výzvy č. 88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2000" y="2492280"/>
            <a:ext cx="655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stupy a 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oužící pro dosažení účelu proje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y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se skutečně zrealizovalo; realizátoři projektu nesou za jejich dosažní přímou odpovědnost (za splně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pokladů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); konkrétní popis toho, co se vytvoří, zdokonalí, inovuje…); je-li jich více -- nutno je popsat a očís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rovedené genderové audity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interní směrnice k zavádění relevantní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statistika využívání genderových opatř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- okamžité dopady projektu (čeho bude s ukončením projektu dosaženo) - používá se trpný rod (ve tvaru přídavného jména) popisující situaci na konci projektu (inovovaný produkt, motivované firmy pro prosazování tématu slaď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zlepšení přístupu firem v regionu XY k problematice slaďování rodinného  pracov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zaměstnanosti v regionu díky využití gender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loužící k dosažení výstupů - ke každému výstupu přiřadit 2-4 aktivity se zdroji dostupnými pro vytvoření výstupů; činnosti, které jsou předmětem projektu (jejich logická a časová posloupnost) - jak bude projekt reali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Genderový audit ve firm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uzní kulatý stů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í interních směrnic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stavení výsledků zaměstnancům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ojení Úřadu práce ČR - propagace podpory slaďování při nabízení práce a při jednání s ostatními podniky zapojenými d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pracování statistiky využívání n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vantitativní výzkum a evaluace v regionu (firm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 vyplnění sloupce intervenčních cílů ově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rtikální logiku pomocí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/Pak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usí být uvedeny všechny faktory ovlivňující dosažení vyšší úrovně (dosažení vyšší úrovně je podmíněno splněním úrovně niž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jektivně ověřitelné ukazatel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it lze jen to, co lze měřit (u aktivit se uvádějí ukazatelé vstupů) - co, kolik, kdy, pro koho, kde. Pro měření jedné aktivity, výsledku či výstupů, a účelu - 2-3 ukazat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 projektech financovaných ze strukturálních fondů je dobré vycházet ze seznamu monitorovacích ukazatelů pro dané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5 firem projde genderovým auditem (počet podpořených osob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0% zaměstnanců využije zaveden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droje objektivního ověřen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 - pouze ukazatele, které je možno ověřit-- tj. valid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jsou-li jasné zdroje, je nutno v projektu učinit opatření, které povedou k jejich získání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 aktivit -- časový údaj o začátku a ukončení každ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na jednotlivých úrovních logického rámce -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izika přeformulovat do pozitivní podoby jako 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ředpokládáme o vnějších faktorech, na něž projekt nemá vliv, ale které mohou ovlivnit jeho realizaci a dlouhodobě i jeho udržitel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povědi jsou strukturovány podle jednotlivých úrovní Cílů, Účelů, Výstupů a Aktivit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ledním řádkem tohoto sloupce jsou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běžné podmín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řipravenost k realizaci), jejichž splnění podmiňuje zahájení cel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říprava projektu a jeho schválení poskytovatelem dotace, schopný realizační tým a genderový expe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látno 26"/>
          <p:cNvGrpSpPr/>
          <p:nvPr/>
        </p:nvGrpSpPr>
        <p:grpSpPr>
          <a:xfrm>
            <a:off x="1187280" y="1665360"/>
            <a:ext cx="6913800" cy="3995640"/>
            <a:chOff x="1187280" y="1665360"/>
            <a:chExt cx="6913800" cy="3995640"/>
          </a:xfrm>
        </p:grpSpPr>
        <p:sp>
          <p:nvSpPr>
            <p:cNvPr id="99" name="Obdélník 30"/>
            <p:cNvSpPr/>
            <p:nvPr/>
          </p:nvSpPr>
          <p:spPr>
            <a:xfrm>
              <a:off x="1187280" y="1665360"/>
              <a:ext cx="691380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pic>
          <p:nvPicPr>
            <p:cNvPr id="100" name="Picture 32" descr=""/>
            <p:cNvPicPr/>
            <p:nvPr/>
          </p:nvPicPr>
          <p:blipFill>
            <a:blip r:embed="rId1"/>
            <a:stretch/>
          </p:blipFill>
          <p:spPr>
            <a:xfrm>
              <a:off x="1187280" y="1838880"/>
              <a:ext cx="636192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Line 33"/>
            <p:cNvSpPr/>
            <p:nvPr/>
          </p:nvSpPr>
          <p:spPr>
            <a:xfrm>
              <a:off x="2945160" y="2590920"/>
              <a:ext cx="0" cy="168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2" name="Text Box 34"/>
            <p:cNvSpPr/>
            <p:nvPr/>
          </p:nvSpPr>
          <p:spPr>
            <a:xfrm>
              <a:off x="2462040" y="24901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2478240" y="39819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4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4" name="Text Box 36"/>
            <p:cNvSpPr/>
            <p:nvPr/>
          </p:nvSpPr>
          <p:spPr>
            <a:xfrm>
              <a:off x="7005240" y="450288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5" name="Text Box 37"/>
            <p:cNvSpPr/>
            <p:nvPr/>
          </p:nvSpPr>
          <p:spPr>
            <a:xfrm>
              <a:off x="2945160" y="25718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5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6" name="Text Box 38"/>
            <p:cNvSpPr/>
            <p:nvPr/>
          </p:nvSpPr>
          <p:spPr>
            <a:xfrm>
              <a:off x="2478240" y="29397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7" name="Text Box 39"/>
            <p:cNvSpPr/>
            <p:nvPr/>
          </p:nvSpPr>
          <p:spPr>
            <a:xfrm>
              <a:off x="2478240" y="34401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8" name="Line 40"/>
            <p:cNvSpPr/>
            <p:nvPr/>
          </p:nvSpPr>
          <p:spPr>
            <a:xfrm flipH="1" flipV="1">
              <a:off x="3251880" y="4213080"/>
              <a:ext cx="3805560" cy="63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9" name="Text Box 41"/>
            <p:cNvSpPr/>
            <p:nvPr/>
          </p:nvSpPr>
          <p:spPr>
            <a:xfrm>
              <a:off x="3498480" y="32666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0" name="Text Box 42"/>
            <p:cNvSpPr/>
            <p:nvPr/>
          </p:nvSpPr>
          <p:spPr>
            <a:xfrm>
              <a:off x="2931480" y="490896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1" name="Text Box 43"/>
            <p:cNvSpPr/>
            <p:nvPr/>
          </p:nvSpPr>
          <p:spPr>
            <a:xfrm>
              <a:off x="3505320" y="27457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9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2" name="Text Box 44"/>
            <p:cNvSpPr/>
            <p:nvPr/>
          </p:nvSpPr>
          <p:spPr>
            <a:xfrm>
              <a:off x="3505320" y="37875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7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3" name="Line 45"/>
            <p:cNvSpPr/>
            <p:nvPr/>
          </p:nvSpPr>
          <p:spPr>
            <a:xfrm>
              <a:off x="3560760" y="41554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4" name="Line 46"/>
            <p:cNvSpPr/>
            <p:nvPr/>
          </p:nvSpPr>
          <p:spPr>
            <a:xfrm flipH="1" flipV="1">
              <a:off x="3498480" y="3750840"/>
              <a:ext cx="3558960" cy="40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5" name="Line 47"/>
            <p:cNvSpPr/>
            <p:nvPr/>
          </p:nvSpPr>
          <p:spPr>
            <a:xfrm>
              <a:off x="3560760" y="363456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6" name="Line 48"/>
            <p:cNvSpPr/>
            <p:nvPr/>
          </p:nvSpPr>
          <p:spPr>
            <a:xfrm flipH="1" flipV="1">
              <a:off x="3498480" y="322848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7" name="Line 49"/>
            <p:cNvSpPr/>
            <p:nvPr/>
          </p:nvSpPr>
          <p:spPr>
            <a:xfrm>
              <a:off x="3560760" y="31132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8" name="Line 50"/>
            <p:cNvSpPr/>
            <p:nvPr/>
          </p:nvSpPr>
          <p:spPr>
            <a:xfrm flipH="1" flipV="1">
              <a:off x="3498480" y="270720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9" name="Oval 51"/>
            <p:cNvSpPr/>
            <p:nvPr/>
          </p:nvSpPr>
          <p:spPr>
            <a:xfrm>
              <a:off x="1840680" y="1665360"/>
              <a:ext cx="6260400" cy="39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4295520" y="2359800"/>
              <a:ext cx="1596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1" name="Text Box 53"/>
            <p:cNvSpPr/>
            <p:nvPr/>
          </p:nvSpPr>
          <p:spPr>
            <a:xfrm>
              <a:off x="42955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2" name="Text Box 54"/>
            <p:cNvSpPr/>
            <p:nvPr/>
          </p:nvSpPr>
          <p:spPr>
            <a:xfrm>
              <a:off x="53863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2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ečné čtení matice log.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28" descr=""/>
          <p:cNvPicPr/>
          <p:nvPr/>
        </p:nvPicPr>
        <p:blipFill>
          <a:blip r:embed="rId1"/>
          <a:srcRect l="14214" t="33060" r="12230" b="10538"/>
          <a:stretch/>
        </p:blipFill>
        <p:spPr>
          <a:xfrm>
            <a:off x="611280" y="1596960"/>
            <a:ext cx="7705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Příručka pro řízení rozvojových partnerství, Ministerstvo práce a sociálních věcí, 2008, str. 28-42. Dostupné z WWW: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http://www.equalcr.cz/files/clanky/7/Prirucka_pro_rizeni_rozvojovych_partnerstvi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HUDOBA, Roman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Formulace projektu metodou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m.cz/cz/products/rp/logframe.pdf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ACKO, Branislav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y a techniky projekt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in Sborník vybraných kapitol z přípravy a řízení projektů. Výukový materiál z projektu Euromanažer. Krajské zařízení pro další vzdělávání pedagogických pracovníků a informační centrum, Nový Jičín, příspěv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atice logického rámce. Metodický návod tvorby a použití logického rám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Modul III.Akreditovaný vzdělávací program Mobilní projektový inkubátor. 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artnerstvi-jmk.cz/page.php?action=detail&amp;id=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a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gframe.cz/metod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Národní ústav odborného vzdělávání.: 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Jak připravit projekty financované z evropských fondů v období 2007-2013 -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ožnosti čerpání prostředků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prava a zpracování projektu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Konkrétní rady pro tvorbu a podávání projektu. 1. Vyd., Praha, 2008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Calibri"/>
              </a:rPr>
              <a:t>Zaměření projektu na ženy v předdůchodovém vě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143f7e"/>
                </a:solidFill>
                <a:latin typeface="Arial"/>
              </a:rPr>
              <a:t>zda a v jaké míře 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jektem podpořeny ženy v předdůchodovém vě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ezi osoby předdůchodového věku se řadí lidé, kteří přesáhli věkovou hranici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50 le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do dosažení hranice odchodu do důcho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) Mezi cílovými skupinami projektu není zařazena cílová skupina ženy v předdůchodovém věk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) Cílová skupina ženy v předdůchodovém věku jsou jednou z několika cílových skupin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1 b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Cílová skupina ženy v předdůchodovém věku jsou jedinou cílovou skupinou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ipka doprava 3"/>
          <p:cNvSpPr/>
          <p:nvPr/>
        </p:nvSpPr>
        <p:spPr>
          <a:xfrm>
            <a:off x="531720" y="1909800"/>
            <a:ext cx="681120" cy="369720"/>
          </a:xfrm>
          <a:prstGeom prst="rightArrow">
            <a:avLst>
              <a:gd name="adj1" fmla="val 50000"/>
              <a:gd name="adj2" fmla="val 49835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3" name="Šipka doprava 3"/>
          <p:cNvSpPr/>
          <p:nvPr/>
        </p:nvSpPr>
        <p:spPr>
          <a:xfrm>
            <a:off x="531720" y="2462040"/>
            <a:ext cx="647640" cy="370080"/>
          </a:xfrm>
          <a:prstGeom prst="rightArrow">
            <a:avLst>
              <a:gd name="adj1" fmla="val 50000"/>
              <a:gd name="adj2" fmla="val 49786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lavním smyslem tvorby partnerstv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zká vzájemná spolupráce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ůzných typů organ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é disponují odlišnými zkušenostmi s řešením problematiky v dané oblasti (vymezené jak regionálně, tak i tematicky) při realizaci projektu. Partneři se podílejí na fungování a naplňování cíle společného projektu, spoluúčast všech partnerů na projektu je podstatná a nezastupi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Český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s finančním příspěv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bez finančního příspěv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musí patřit mezi oprávněné žadatele ve výzvě č.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Výjimku tvoří Úřad práce ČR, který může být partnerem, ovšem bez finančního příspěv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Ostatní organizační složky státu a jimi zřizované organizace mohou být pouze spolupracujícími organizacemi, nikoli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ipka doprava 3"/>
          <p:cNvSpPr/>
          <p:nvPr/>
        </p:nvSpPr>
        <p:spPr>
          <a:xfrm>
            <a:off x="587520" y="170028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7" name="Šipka doprava 4"/>
          <p:cNvSpPr/>
          <p:nvPr/>
        </p:nvSpPr>
        <p:spPr>
          <a:xfrm>
            <a:off x="528480" y="4446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esmí být založena na poskytování služeb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ěžně dostupných na tr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Realizace principu partnerství nesmí být v rozporu s příslušnými právními předpisy ČR, zejména principu partnerství nesmí být zneužito k obcházení zákona o veřejných zakáz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stejného typu subjektů – např. NNO a NNO, podnikatelský subjekt a podnikatelský subjekt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dvou typů subjektů – např. NNO a podnikatelský subjekt, NNO a místní samospráva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partnerství tří a více typů subjektů – např. NNO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6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 jeden typ organizace jsou považovány všechny její právní fo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čet partnerů není rozhodující, body jsou přiděleny na základě propojení různých typů organiz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555480" y="134136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1" name="Šipka doprava 5"/>
          <p:cNvSpPr/>
          <p:nvPr/>
        </p:nvSpPr>
        <p:spPr>
          <a:xfrm>
            <a:off x="582480" y="4941720"/>
            <a:ext cx="649440" cy="36864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ít či nemít partnera? Pokud ano, ko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ůležité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artneři do projektu přines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uznatelní v rámci výzv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á bude partnerova úloha v projek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ý bude jejich závazek, jak ho přijmou a jak ho napl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 logicky do sebe zapadají jednotlivé úlohy partnerů? – nejsou někde mezery? Nedublují se určité aktivity? Existují třecí plochy, konflik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i přípravě partnerského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lze ušetřit čas – je třeba mnoho setkání, diskuzí či alespoň e-ma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jistit rovnost účastníků – každý by měl něčím přispět – silnější identifikace s projek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 opravdu společná ochota podílet se na získávání a využívání společných finančních prostřed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dnotí se použití metody logického rámce, která umožňuje navržení a uspořádání základních charakteristik projektu ve vzájemných souvislo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nitřní logika projektu prokázaná v matici logického rámce, je založena na princip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íčiny a důsled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hora dolů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Aby – Je tře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zdola nahoru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 – 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V Jestliže/Pak testu mus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ýt uvedeny všechny faktory ovlivňující dosažení vyšší úrovně (dosažení vyšší úrovně je podmíněno splněním nižší úrov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me ty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ivity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sáhneme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dosáhli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lze očekávat tu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měn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)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splnili ten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jsm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spěli k naplnění toho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becného cí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brý projekt má zvolené monitorovací ukazatele přiměřené a realistické, cíle jsou vždy kvantifikované a stanovené cílové hodnoty jsou dosažitelné (z hlediska času a rozpočtu) a vedou k měřitelným dopadů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předložení LR -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0 bodů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ložení LR –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1 bod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Šipka doprava 5"/>
          <p:cNvSpPr/>
          <p:nvPr/>
        </p:nvSpPr>
        <p:spPr>
          <a:xfrm>
            <a:off x="520560" y="3645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7" name="Šipka doprava 5"/>
          <p:cNvSpPr/>
          <p:nvPr/>
        </p:nvSpPr>
        <p:spPr>
          <a:xfrm>
            <a:off x="500040" y="269892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16000" y="1468440"/>
            <a:ext cx="770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03280" y="1663560"/>
          <a:ext cx="7201080" cy="43592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360"/>
              </a:tblGrid>
              <a:tr h="1311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intervenční logika (strom cílů)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Velmi obecné proč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ně měřitelné ukazatele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zdroje a prostředky k ověření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vnější předpoklady a rizika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čel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Proč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Co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it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Jak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1" name="Zahnutá šipka doleva 8"/>
          <p:cNvSpPr/>
          <p:nvPr/>
        </p:nvSpPr>
        <p:spPr>
          <a:xfrm>
            <a:off x="3008160" y="3687840"/>
            <a:ext cx="601920" cy="8636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3640"/>
              <a:gd name="textAreaBottom" fmla="*/ 628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2" name="Zahnutá šipka doleva 10"/>
          <p:cNvSpPr/>
          <p:nvPr/>
        </p:nvSpPr>
        <p:spPr>
          <a:xfrm>
            <a:off x="3008160" y="2708280"/>
            <a:ext cx="601920" cy="86508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5080"/>
              <a:gd name="textAreaBottom" fmla="*/ 630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3" name="Zahnutá šipka doleva 11"/>
          <p:cNvSpPr/>
          <p:nvPr/>
        </p:nvSpPr>
        <p:spPr>
          <a:xfrm>
            <a:off x="3008160" y="4724280"/>
            <a:ext cx="601920" cy="8654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840 h 865440"/>
              <a:gd name="textAreaBottom" fmla="*/ 630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4" name="Zahnutá šipka doprava 7"/>
          <p:cNvSpPr/>
          <p:nvPr/>
        </p:nvSpPr>
        <p:spPr>
          <a:xfrm>
            <a:off x="395280" y="4653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64160 h 792000"/>
              <a:gd name="textAreaBottom" fmla="*/ 582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9" stAng="-5400000" swAng="-5400000"/>
                <a:lnTo>
                  <a:pt x="0" y="11414"/>
                </a:lnTo>
                <a:arcTo wR="21600" hR="8959" stAng="10800000" swAng="-3485831"/>
                <a:lnTo>
                  <a:pt x="16200" y="21316"/>
                </a:lnTo>
                <a:lnTo>
                  <a:pt x="21600" y="19146"/>
                </a:lnTo>
                <a:lnTo>
                  <a:pt x="16200" y="16407"/>
                </a:lnTo>
                <a:lnTo>
                  <a:pt x="16200" y="17634"/>
                </a:lnTo>
                <a:arcTo wR="21600" hR="8959" stAng="7314169" swAng="3288825"/>
                <a:lnTo>
                  <a:pt x="204" y="10187"/>
                </a:lnTo>
                <a:arcTo wR="21600" hR="8959" stAng="-10602993" swAng="5202993"/>
                <a:close/>
              </a:path>
              <a:path fill="darkenLess" w="21600" h="21600">
                <a:moveTo>
                  <a:pt x="21600" y="0"/>
                </a:moveTo>
                <a:arcTo wR="21600" hR="8959" stAng="-5400000" swAng="-5400000"/>
                <a:lnTo>
                  <a:pt x="0" y="8959"/>
                </a:lnTo>
                <a:arcTo wR="21600" hR="8959" stAng="10800000" swAng="-197007"/>
                <a:lnTo>
                  <a:pt x="204" y="10187"/>
                </a:lnTo>
                <a:arcTo wR="21600" hR="8959" stAng="-10602993" swAng="52029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5" name="Zahnutá šipka nahoru 12"/>
          <p:cNvSpPr/>
          <p:nvPr/>
        </p:nvSpPr>
        <p:spPr>
          <a:xfrm>
            <a:off x="395280" y="4653000"/>
            <a:ext cx="549360" cy="647640"/>
          </a:xfrm>
          <a:custGeom>
            <a:avLst/>
            <a:gdLst>
              <a:gd name="textAreaLeft" fmla="*/ 85680 w 549360"/>
              <a:gd name="textAreaRight" fmla="*/ 394920 w 549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13283"/>
                <a:lnTo>
                  <a:pt x="21446" y="4581"/>
                </a:lnTo>
                <a:lnTo>
                  <a:pt x="16200" y="0"/>
                </a:lnTo>
                <a:lnTo>
                  <a:pt x="10646" y="4581"/>
                </a:lnTo>
                <a:lnTo>
                  <a:pt x="13346" y="4581"/>
                </a:lnTo>
                <a:arcTo wR="6750" hR="21600" stAng="2086717" swAng="284729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6" name="AutoShape 44"/>
          <p:cNvSpPr/>
          <p:nvPr/>
        </p:nvSpPr>
        <p:spPr>
          <a:xfrm flipH="1" flipV="1">
            <a:off x="1151640" y="4579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7" name="AutoShape 44"/>
          <p:cNvSpPr/>
          <p:nvPr/>
        </p:nvSpPr>
        <p:spPr>
          <a:xfrm flipH="1" flipV="1">
            <a:off x="1162800" y="2482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8" name="AutoShape 44"/>
          <p:cNvSpPr/>
          <p:nvPr/>
        </p:nvSpPr>
        <p:spPr>
          <a:xfrm flipH="1" flipV="1">
            <a:off x="1162800" y="3539520"/>
            <a:ext cx="438120" cy="865080"/>
          </a:xfrm>
          <a:custGeom>
            <a:avLst/>
            <a:gdLst>
              <a:gd name="textAreaLeft" fmla="*/ 58680 w 438120"/>
              <a:gd name="textAreaRight" fmla="*/ 379440 w 43812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9" name="TextovéPole 14"/>
          <p:cNvSpPr/>
          <p:nvPr/>
        </p:nvSpPr>
        <p:spPr>
          <a:xfrm>
            <a:off x="3708360" y="3348000"/>
            <a:ext cx="1440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Aby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Je třeba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0" name="TextovéPole 19"/>
          <p:cNvSpPr/>
          <p:nvPr/>
        </p:nvSpPr>
        <p:spPr>
          <a:xfrm>
            <a:off x="-19080" y="4863960"/>
            <a:ext cx="1333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Jestliže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ecný (hlavní) cí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 jehož naplnění projekt přispěje; cíl, k jehož dosažení je projekt jen jednou z podmínek; důvod realizace ve spojení s prioritami v operačních programech (či programových dodatc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vádíme, k dosažení jakého cíle přispějeme, jestliže splníme účel, pro který    jsme se do projektu pouštěli. Hlavní cíl v logickém rámci by měl odpovídat hlavnímu cíli v daném opatření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ANOVÉNÍ OBECNÉHO CÍLE - CO CHCEME DOSÁHNOU    OBECNĚ, JESTLIŽE SPLNÍME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oblast podpory 3. 4 je obecným cílem podpora Rovných příležitostí žen a mužů na trhu práce a slaďování pracovního a rodinn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slaďování rodinného a pracovního života (v regionu XY, v 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Šipka doprava 5"/>
          <p:cNvSpPr/>
          <p:nvPr/>
        </p:nvSpPr>
        <p:spPr>
          <a:xfrm>
            <a:off x="493560" y="35892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4" name="Šipka doprava 5"/>
          <p:cNvSpPr/>
          <p:nvPr/>
        </p:nvSpPr>
        <p:spPr>
          <a:xfrm>
            <a:off x="493560" y="5661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če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ý má projekt splnit (jen jeden); čeho hodláme dosáhnout; skutečný motiv; změna, kterou chceme dosáhnout (i když jí třeba nedosáhne jenom jeden projekt). Účel vyjadřuje cíl, ne aktivity; bezprostřední důvod, proč se do projektu pouštíme. O naplnění změny usilujeme výstupy a výsledky (příp. i dop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CHCEME DOSÁHNOUT, JESTLIŽE PROVEDEME AK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Účelem projektu ve výzvě 88 by mělo být zlepšení situace  v prosazování rovných příležitostí žen a mužů na trhu práce a ve sladění pracovního a rodinného života. Zohlednění Evropského roku aktivního stárnutí a mezigenerační solidar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Firmy jsou motivovány zavézt relevantní opatření pro slaďování rodinného a pracovního života (MPS, regionu X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Šipka doprava 5"/>
          <p:cNvSpPr/>
          <p:nvPr/>
        </p:nvSpPr>
        <p:spPr>
          <a:xfrm>
            <a:off x="463680" y="303228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3-20T13:00:14Z</dcterms:modified>
  <cp:revision>1013</cp:revision>
  <dc:subject/>
  <dc:title>Snímek 1</dc:title>
</cp:coreProperties>
</file>