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BC3-716A-4A48-8DE8-D6026C0A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2EC-6A44-47A5-BBEA-D38BD4EE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031-B60E-4FEE-8A13-FF1438F5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B31-B46C-4F3C-A23E-69BD41F4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3D1-E706-437B-BFA1-4EC6BF0D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EA8-5F39-421A-B8E0-4EA7B20A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BEB-B280-4734-B89B-AEC46D84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719-DBC8-47FE-8C4C-075AB7B1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5F1-E2BA-4C05-931A-8FAC53BD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77D-54B9-4D64-8923-9F23E90B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FDD-1D30-4C4E-B969-AC41B29A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52D-5957-4207-B5BF-981BAB11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C05A-8F2D-497A-A819-5986F978A1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eny s pozastaveným ŽL evidované na úřadu práce, jsou mimo veřejnou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 (vyjma úřadů samosprávy a veřejných vysokých š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 z okruhu A realizované ve prospěch konkrétních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 veřejnou podporou, neboť z důvodu své bagatelní výše nemůže ovlivnit obchod mezi členskými státy a  ani narušit hospodářskou soutěž, a nesplňuje tak všechny čtyři znaky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 dostupné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439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88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„Rozpočet zapojené subjekty VP“, který bude uveřejněn u výzvy č. 7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439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V aplikaci Benefit7+ v kapitole 18 Veřejná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Podpora de minimis generována v tabulce bez nepřímých nákladů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. Projekt celý v režimu podpory de mini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Celkové způsobilé náklady projektu - 4 856 315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- 682 827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4 856 315,84 Kč mínus 682 827,84 Kč je 4 173 488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nutno brát v potaz při stanovení limitu čerpání 200 tis. EUR na jeden subjekt/IČ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"/>
          <p:cNvPicPr/>
          <p:nvPr/>
        </p:nvPicPr>
        <p:blipFill>
          <a:blip r:embed="rId1"/>
          <a:srcRect l="28946" t="10420" r="27115" b="78515"/>
          <a:stretch/>
        </p:blipFill>
        <p:spPr>
          <a:xfrm>
            <a:off x="395280" y="4653000"/>
            <a:ext cx="8424720" cy="142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směřované k podpoře již podnikajících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z okruhu A realizované ve prospěch konkrétního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cp:lastPrinted>2012-03-21T06:30:49Z</cp:lastPrinted>
  <dcterms:modified xsi:type="dcterms:W3CDTF">2012-03-21T06:31:06Z</dcterms:modified>
  <cp:revision>294</cp:revision>
  <dc:subject/>
  <dc:title>Snímek 1</dc:title>
</cp:coreProperties>
</file>