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9322-247B-4364-B004-6FD577E407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B38B-6555-4D17-8454-FECEA0A91C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49D9-997E-45C6-86D7-ED9DC82DBB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34DB-981F-4028-B598-8CD60CD80D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37A2-1536-44C7-B10A-F3F27D18E4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9E18-3304-4874-9E32-F2B9C39651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9177-335D-4D1C-AC63-2065A35837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CD92-8563-4B39-BE9E-9A273C0A4C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8E07-AF14-4E93-A09C-5A8E7E9DC6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6EFE-9759-4A72-913B-D14FA5B311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8CAB-B26D-4B8C-9E8A-2D6CE3A150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CD67-E11C-4CEA-8E3D-16ECBD8E80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1CF6-BDF9-489D-88C8-161C4F70CE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3BEC-1A42-4AB4-8D0A-E8B371A00F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AC6F-3B2A-40B1-8662-8D9AD4BD0D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F756-4A85-4766-B2A4-BDA01DE212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E484-9F22-4168-8A1E-2702BAA0C2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9DC6-9BF8-4542-B194-BE1EDA94F0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49A-5398-461D-BAB4-E20BEA4A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0FE-C5DD-4301-B312-6A8823A0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A49-54BD-4278-8ADD-7B65E0CC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E45-06CA-4445-80EC-F78533C1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F6C-6A9C-4EBB-A87F-4E88C50E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9D9-07B1-4A17-AF3F-9CEF1770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764-CB78-4402-AE38-FA946AA2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307-EB50-4E54-B90F-45CA69F2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786-DAD4-4F85-8774-2CAB3A2D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FEA-8543-40E2-92C1-E770E25D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1B8-4850-46AD-966E-E3DE625E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845-DC94-4440-B479-6C473F62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4923-F908-42DD-914A-07B07DF8A7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88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99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0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2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Calibri"/>
              </a:rPr>
              <a:t>Zaměření projektu na ženy v předdůchodovém vě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zda a v jaké míře 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jektem podpořeny ženy v předdůchodovém vě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ezi osoby předdůchodového věku se řadí lidé, kteří přesáhli věkovou hranici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50 le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do dosažení hranice odchodu do důch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) Mezi cílovými skupinami projektu není zařazena cílová skupina ženy v předdůchodovém věk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) Cílová skupina ženy v předdůchodovém věku jsou jednou z několika cílových skupin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1 b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Cílová skupina ženy v předdůchodovém věku jsou jedinou cílovou skupinou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31720" y="1909800"/>
            <a:ext cx="681120" cy="369720"/>
          </a:xfrm>
          <a:prstGeom prst="rightArrow">
            <a:avLst>
              <a:gd name="adj1" fmla="val 50000"/>
              <a:gd name="adj2" fmla="val 49835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3"/>
          <p:cNvSpPr/>
          <p:nvPr/>
        </p:nvSpPr>
        <p:spPr>
          <a:xfrm>
            <a:off x="531720" y="246204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1 bod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7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1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2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3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4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88 by mělo být zlepšení situace  v prosazování rovných příležitostí žen a mužů na trhu práce a ve sladění pracovního a rodinného života. Zohlednění Evropského roku aktivního stárnutí a mezigenerační solidar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3-20T13:00:14Z</dcterms:modified>
  <cp:revision>1013</cp:revision>
  <dc:subject/>
  <dc:title>Snímek 1</dc:title>
</cp:coreProperties>
</file>