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0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39920" y="547200"/>
            <a:ext cx="41162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8C6-A670-4AB5-8E21-2C5FB90ABD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293-88D1-4939-B897-B3658637E98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A21C-ACBE-4DAF-830F-46A173C877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2B22-4BF4-4895-90BE-698194A05E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602-55EB-40D4-9F64-21239B9AF6D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0470-0EB8-46B9-8FBE-19BAB4EE7F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40FF-8FBF-4785-8812-3847434CA4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2560" y="3678120"/>
            <a:ext cx="544032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69CE-1D74-458A-B395-59958536CF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E88-0CC7-45CC-B79A-235A2BE4F3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81320" cy="30607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8800" y="4387320"/>
            <a:ext cx="494352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8469-6BA2-4D2D-A1B7-1EA291FD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D35-EB28-42FC-B509-548BCFFF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5505-514A-44C5-99DA-A1B502EA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367-0ABA-4122-9885-C177BF2C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653F-D1A0-464A-BF3C-D876F9C6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5C6-F648-4D2F-A04A-275CF48D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041A-9BB8-4C7F-A1F9-9B21700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254-61EC-492E-BB53-89FA385A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8C7-7197-49DD-91C3-DBBDDE7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954-F1BF-4A00-8593-86F0056D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45E4-8C28-40AF-86A6-954D26EA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616-638B-42EA-86D8-7AF1BA6A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30.6.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2E05-F6C8-418F-8E24-5AF6008B530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Jak vyplnit žádost</a:t>
            </a:r>
            <a:br>
              <a:rPr sz="3600"/>
            </a:b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o finanční podporu z OP LZZ?</a:t>
            </a:r>
            <a:br>
              <a:rPr sz="3600"/>
            </a:br>
            <a:br>
              <a:rPr sz="1600"/>
            </a:br>
            <a:r>
              <a:rPr b="1" lang="cs-CZ" sz="2500" spc="-1" strike="noStrike">
                <a:solidFill>
                  <a:srgbClr val="14407e"/>
                </a:solidFill>
                <a:latin typeface="Arial"/>
              </a:rPr>
              <a:t>Seminář pro žadatele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d1131c"/>
                </a:solidFill>
                <a:latin typeface="Arial"/>
              </a:rPr>
              <a:t>výzva č. 8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46400" y="1304640"/>
            <a:ext cx="489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kladní informace o programu, příslušném globálním grantu a výzvě  se uložením žádosti automaticky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Zkontrolujte si, zda-li jste založili žádost ve správné výzvě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ioritní os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Oblasti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účetní jednot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 Zkrácený název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Název musí vystihovat stručně a jasně základní podstatu připravovaných aktiv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ojektu anglick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název projektu v AJ.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Je nepřípustné, aby žadatel v tomto poli uvedl pomlčku nebo jiný zástupný znak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867120" cy="5328000"/>
          </a:xfrm>
          <a:prstGeom prst="rect">
            <a:avLst/>
          </a:prstGeom>
          <a:ln w="0">
            <a:noFill/>
          </a:ln>
        </p:spPr>
      </p:pic>
      <p:sp>
        <p:nvSpPr>
          <p:cNvPr id="94" name="Obdélník 1"/>
          <p:cNvSpPr/>
          <p:nvPr/>
        </p:nvSpPr>
        <p:spPr>
          <a:xfrm>
            <a:off x="171360" y="2421000"/>
            <a:ext cx="386712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rojekt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5640" y="1160280"/>
            <a:ext cx="48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pokládané datum zahájení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ředpokládané datum ukončení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níte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ý obsah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j.  význam projektu, cíle, přínosy projektu a smysluplno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zaškrtnete příslušný checkbox, který je pro váš projekt relevantní. Ponecháte-li checkbox prázdný, znamená to 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zatržení checkbox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vychází z IPRM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e automaticky zpovinní (zažlutí)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aktivity IPRM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viz předchozí strana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Všechna žlutá pole jsou povinná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44720" cy="363708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1"/>
          <p:cNvSpPr/>
          <p:nvPr/>
        </p:nvSpPr>
        <p:spPr>
          <a:xfrm>
            <a:off x="431640" y="3537000"/>
            <a:ext cx="3492720" cy="134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334040" y="4535640"/>
            <a:ext cx="3095640" cy="68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96640"/>
            <a:ext cx="82296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Žadatel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47640" y="1160640"/>
            <a:ext cx="4464360" cy="46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vním krokem k zadání organizace žadatele je vyplně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Kliknutím na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e ARES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zahájen proces validace organizace, jehož výsledkem je načtení základních informací z IS MF ČR A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číselníku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mezení je stanoveno výzvo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plňte stručnou charakteristiku organizace do textového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ručná charakteristika organizace a zkušenosti v oblasti zaměření projektu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áznam uložte (tlačítko Uložit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následující 2 záložky, vážící se k žadateli, tj.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dresa žadatel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automaticky doplněna z registru UIR-A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tretch/>
        </p:blipFill>
        <p:spPr>
          <a:xfrm>
            <a:off x="295200" y="1160640"/>
            <a:ext cx="392760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2"/>
          <p:cNvGrpSpPr/>
          <p:nvPr/>
        </p:nvGrpSpPr>
        <p:grpSpPr>
          <a:xfrm>
            <a:off x="449280" y="2241720"/>
            <a:ext cx="2475000" cy="358560"/>
            <a:chOff x="449280" y="2241720"/>
            <a:chExt cx="2475000" cy="358560"/>
          </a:xfrm>
        </p:grpSpPr>
        <p:sp>
          <p:nvSpPr>
            <p:cNvPr id="104" name="Rectangle 23"/>
            <p:cNvSpPr/>
            <p:nvPr/>
          </p:nvSpPr>
          <p:spPr>
            <a:xfrm>
              <a:off x="449280" y="2241720"/>
              <a:ext cx="719280" cy="3585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>
              <a:off x="1178280" y="2414520"/>
              <a:ext cx="90000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060640" y="2325600"/>
              <a:ext cx="863640" cy="2520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00000"/>
                </a:solidFill>
                <a:latin typeface="Arial"/>
              </a:rPr>
              <a:t>Osoby žad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Tato záložka je zaměřena na osoby žadatele, je nutné zatrhnout odpovídající checkbox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aktní osob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tatutární zástup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Benefit7 je nastavena kontrola pro správné vyplnění tvaru telefonního čísla a e-mailu v poli Telefon I. (II.) a E-ma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58920" y="1484280"/>
            <a:ext cx="4284360" cy="4789440"/>
          </a:xfrm>
          <a:prstGeom prst="rect">
            <a:avLst/>
          </a:prstGeom>
          <a:ln w="0">
            <a:noFill/>
          </a:ln>
        </p:spPr>
      </p:pic>
      <p:sp>
        <p:nvSpPr>
          <p:cNvPr id="111" name="Ovál 4"/>
          <p:cNvSpPr/>
          <p:nvPr/>
        </p:nvSpPr>
        <p:spPr>
          <a:xfrm>
            <a:off x="2517840" y="4508640"/>
            <a:ext cx="32544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ál 5"/>
          <p:cNvSpPr/>
          <p:nvPr/>
        </p:nvSpPr>
        <p:spPr>
          <a:xfrm>
            <a:off x="2579760" y="2597040"/>
            <a:ext cx="26352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ál 6"/>
          <p:cNvSpPr/>
          <p:nvPr/>
        </p:nvSpPr>
        <p:spPr>
          <a:xfrm>
            <a:off x="3095640" y="2421000"/>
            <a:ext cx="360360" cy="301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artner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48000" y="1015920"/>
            <a:ext cx="46800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aktivní pouze v případě, že žadatel zatrhl na záložce Projekt checkbox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stup je obdobný jako na zál. Žadatele projektu. Vyplní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Č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,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odešle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lidaci ARES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údaje o organizaci partnera projektu se dopl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máte do projektu zapojen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ahraničního partner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je možné na žádost žadatele tuto validaci na ARES a UIR-ADR vypnout. V tomto případě je postup následujíc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žadatel požádá o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ypnutí validace na hotline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adres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, kde uved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IČ zahr. partnera, Název organizace a Stát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Ze strany ŘO dojde k vypnutí validace d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zapojení partnerů do realizace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Stručná charakteristika organizace a zkušenosti v oblasti zaměření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4708440" y="1557360"/>
            <a:ext cx="1400400" cy="190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4130640" cy="4946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3"/>
          <p:cNvSpPr/>
          <p:nvPr/>
        </p:nvSpPr>
        <p:spPr>
          <a:xfrm>
            <a:off x="395280" y="2457360"/>
            <a:ext cx="770040" cy="358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5"/>
          <p:cNvSpPr/>
          <p:nvPr/>
        </p:nvSpPr>
        <p:spPr>
          <a:xfrm>
            <a:off x="2071800" y="2494080"/>
            <a:ext cx="874440" cy="28548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1195560" y="2644920"/>
            <a:ext cx="874440" cy="14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88000" y="1088640"/>
            <a:ext cx="4068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realizačním týmu, jak žadatele tak partnera projektu, který se bude na projektu podíl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e seznamu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ypových pozic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zici manažerskou a administrativní nebo pozici odborn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ozi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doporučujeme bez jména) a vyber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sub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žadatel/partner).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stručně popište zapojení konkrétního člena RT v rámc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elice důležitá 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orm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racovní smlouva, DPP, DPČ a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dnotka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hodina, měsíc (úvazek - max.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plňt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počet měsíční/hodinové sazby, Úvazek a Délku působení v R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u jednotky „měsíc“). U jednotky „hodina“ se vyplní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4699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opis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0" y="1376280"/>
            <a:ext cx="40068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odrobnému popisu projektu, charakteristice hlavních cílů, potřebnosti, inovativnosti projektu a definování případných rizik ohrožujících realizaci projektu a návrh řešení odstranění či eliminace případných riz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le jsou povin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43927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Klíčové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7280" y="4508280"/>
            <a:ext cx="803916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stručně popíše realizaci klíčové aktivity (kroky při naplňování cílů projektu, metody realizace včetně zdůvodnění zvolených metod) v rámci činností spojených s realizac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ktivity projektu by měly být logicky strukturovány a provázány a jejich realizace by měla vést k naplnění stanovených cílů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59036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Cílové skup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je zaměřena na informace o cílových skupinách, na které se žadatel v projektu zaměří. Cílovou skupinou jsou míněni jednotlivci příp. organizace, pro které je projekt určen (tedy ti, kteří budou profitovat z výstupů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Cílovou skupin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yberte ze seznam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azba aktivit projektu na cílové skupin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uvést vazbu mezi KA projektu a potřebami cílové skupiny. Aktivity projektu musí odrážet potřeby cílových skupin, na které je zaměř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 a způsob zapojení cílové skupin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 nutné popsat důvody pro výběr cílové skupiny vzhledem k potřebám, zjištěných u těchto skupin. Dále zde popište, jak projekt překonává problémy a zlepšuje postavení CS, způsob zapojení a motivace CS, způsob práce s CS a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4840" y="1305000"/>
            <a:ext cx="43876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360" y="1052280"/>
            <a:ext cx="392436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postupně zatrhněte rozvrh trvání klíčových aktivit (KA) do měsíců a roků realizace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časování aktivit by mělo být vzájemně a logicky provázáno. Rozmyslete si dobu trvání dané aktivity, tak, abyste měli jistotu, že budete mít dostatek času ji zrealiz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y KA projektu nemusí být realizovány po celou dobu trvání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verzní naplně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můžete jednoduše, rychle a hlavně najednou vyplnit všechny měsíce u příslušné KA. Pokud se daná aktivita nebude například realizovat v létě, stačí, když žadatel zruší zatržení daného měsíce a záznam ulož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16000" y="1233360"/>
            <a:ext cx="4932360" cy="32767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1"/>
          <p:cNvSpPr/>
          <p:nvPr/>
        </p:nvSpPr>
        <p:spPr>
          <a:xfrm>
            <a:off x="216000" y="3789360"/>
            <a:ext cx="161928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0" lang="cs-CZ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7080" y="1125360"/>
            <a:ext cx="828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- webová aplikace sloužící pro předkládání žádostí o finanční podp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 OP LZZ žadatelem, předkládání monitorovacích zpráv a žádostí o platb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říjemc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e formulář pro vyplnění žádosti o finanční podporu z OP LZZ nalezne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u-zadost.cz  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ebo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 www.eu-zadost.eu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lší důležité informace 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Výzva pro předkládání GP 3.4 – Rovné příležitosti žen a mužů na trhu práce a slaďování pracovního a rodinného života (č. 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ýzvu naleznete na internetových stránkách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www.esfcr.cz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 v aplikaci Benef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d odkaz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008000" y="5084640"/>
            <a:ext cx="67150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50920" y="1142640"/>
            <a:ext cx="414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ípravě rozpočtu je třeba věnovat maximální pozornost. Náklady musí být skutečně vynaloženy ve prospěch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veřejných prostředků je možné financovat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pouze způsobilé výdaje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Rozpočet projektu aktivujete dvojklikem na jakýkoliv řádek (např. 03.03.01) v tabulce rozpočtu. Do rozpočtu lze přidávat řád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alší pokyny naleznete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říručce způsobilých výdajů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5) a v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Průvodci vyplněním projektové žádosti z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D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POZOR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Je důležité v rozpočtu projektu </a:t>
            </a:r>
            <a:r>
              <a:rPr b="1" lang="cs-CZ" sz="1600" spc="-1" strike="noStrike" u="sng">
                <a:solidFill>
                  <a:srgbClr val="d1131c"/>
                </a:solidFill>
                <a:uFillTx/>
                <a:latin typeface="Arial"/>
              </a:rPr>
              <a:t>rozlišit náklady žadatele a partnera</a:t>
            </a:r>
            <a:r>
              <a:rPr b="1" lang="cs-CZ" sz="1600" spc="-1" strike="noStrike">
                <a:solidFill>
                  <a:srgbClr val="d1131c"/>
                </a:solidFill>
                <a:latin typeface="Arial"/>
              </a:rPr>
              <a:t> zapojeného do realizace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1"/>
          <a:stretch/>
        </p:blipFill>
        <p:spPr>
          <a:xfrm>
            <a:off x="351000" y="1089000"/>
            <a:ext cx="43704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35280" y="1088640"/>
            <a:ext cx="439236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rozpočtu projektu se načítají i osoby z Realizačního týmu (kap.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01. Osobní náklad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Stačí zmáčknout tlačítk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 tabulkou rozpoč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důležité u každého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nenulovéh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kladu vybra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ežim podpor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Číselník je pro výzvu č. 88 obsahuje dvě možnost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nepřímé náklady stačí vyplnit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% nepřímých nákla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automaticky se vypočítá částka ve sloupci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 řádku 10 z pol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klady celkem (Kč)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ýše podílu nepřímých nákladů je vždy stanovena vyhlašovatelem výzvy, nikdy však nebude vyšší než 20% přímých způsobilých náklad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250920" y="944640"/>
            <a:ext cx="4105080" cy="5614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26"/>
          <p:cNvSpPr/>
          <p:nvPr/>
        </p:nvSpPr>
        <p:spPr>
          <a:xfrm>
            <a:off x="3166920" y="6127920"/>
            <a:ext cx="1044720" cy="431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258840" y="3787920"/>
            <a:ext cx="3852720" cy="433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2"/>
          <p:cNvSpPr/>
          <p:nvPr/>
        </p:nvSpPr>
        <p:spPr>
          <a:xfrm flipV="1">
            <a:off x="4102200" y="3206880"/>
            <a:ext cx="1441440" cy="6364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250920" y="1835280"/>
            <a:ext cx="1512720" cy="234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2"/>
          <a:stretch/>
        </p:blipFill>
        <p:spPr>
          <a:xfrm>
            <a:off x="4929120" y="1951200"/>
            <a:ext cx="1476360" cy="16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3"/>
          <a:stretch/>
        </p:blipFill>
        <p:spPr>
          <a:xfrm>
            <a:off x="5543640" y="3030480"/>
            <a:ext cx="1836720" cy="3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6720" y="1341000"/>
            <a:ext cx="451008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álož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droje financování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aktivuje po vyplnění záložky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projektu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povinné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oukromé prostřed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Je možné vyplnit i nulovou hodno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, se všechny podbarvené pole šedivou barvou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generování záznam uložte (pomocí tlačítka Ulož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íl finančních prostředků EU a SR je stanoven n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85 : 1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3960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9"/>
          <p:cNvSpPr/>
          <p:nvPr/>
        </p:nvSpPr>
        <p:spPr>
          <a:xfrm>
            <a:off x="2519280" y="3065400"/>
            <a:ext cx="1295640" cy="287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280" y="1780920"/>
            <a:ext cx="425916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rovných příležitost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30" descr=""/>
          <p:cNvPicPr/>
          <p:nvPr/>
        </p:nvPicPr>
        <p:blipFill>
          <a:blip r:embed="rId1"/>
          <a:stretch/>
        </p:blipFill>
        <p:spPr>
          <a:xfrm>
            <a:off x="395280" y="1447920"/>
            <a:ext cx="39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Horizontální témata - udržitelný roz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9280" y="1704600"/>
            <a:ext cx="436716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a této záložce vyplňte všechna povinná pole týkající se problematiky udržitelného rozvo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třeby vám pomůže samostatná publikace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Horizontální témata OP LZ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030" descr=""/>
          <p:cNvPicPr/>
          <p:nvPr/>
        </p:nvPicPr>
        <p:blipFill>
          <a:blip r:embed="rId1"/>
          <a:stretch/>
        </p:blipFill>
        <p:spPr>
          <a:xfrm>
            <a:off x="324000" y="1371600"/>
            <a:ext cx="392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287280" y="1219320"/>
          <a:ext cx="3924360" cy="30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219320"/>
                    <a:ext cx="392436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48000" y="1268280"/>
            <a:ext cx="4608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Záložka je složena ze tří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1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Obsahuje osm textových polí (7 povinných a 1 nepovinné) s dotazy směřovanými jak na žadatele, tak na partnera (partnery)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šechna povinná pole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musí žadatel vyplnit i v případě, že projekt nezakládá veřejnou podporu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ápovědu k jednotlivým polím naleznete v příručce D6 nebo v „Pokynech řídícího orgánu“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tlačítko na levé straně ovládacího panelu)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římo v Benefitu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287280" y="4186080"/>
          <a:ext cx="3924360" cy="241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186080"/>
                    <a:ext cx="3924360" cy="24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3927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2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záložky se generuje po vyplněn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tu projekt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zmáčknutím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Generování částek podpory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kud není rozpočet vyplněn, tabulka se vygeneruje s nulovými hodnot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bulka je needitovateln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ále je nutné vyplnit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žádané VP/podpoře de minimis.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uvede požadovaný režim podpory, rozdělení VP/podpory de minimis mezi žadatele a partnera/-y projektu, případně třetí osoby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se pole žadatelů netýká, napište „NERELEVANTNÍ“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je nutné  vyplněná data ulož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tretch/>
        </p:blipFill>
        <p:spPr>
          <a:xfrm>
            <a:off x="179280" y="1665360"/>
            <a:ext cx="4511880" cy="35431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5"/>
          <p:cNvSpPr/>
          <p:nvPr/>
        </p:nvSpPr>
        <p:spPr>
          <a:xfrm>
            <a:off x="237960" y="3249720"/>
            <a:ext cx="1403640" cy="323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VP/podpora de minimis (II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16000" y="4365720"/>
          <a:ext cx="4500360" cy="19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4365720"/>
                    <a:ext cx="4500360" cy="19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3. část zál. VP/podpora de minim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část je aktivní pouze v případě, že žadatel zatrhl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rojekt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Byl jste příjemcem podpory de minimis za poslední 3 účetní období</a:t>
            </a:r>
            <a:r>
              <a:rPr b="0" i="1" lang="cs-CZ" sz="18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ípadě, že pole žadatel nezatrhl, je tato část záložky neaktivní a nelze do ní zapisova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just">
              <a:spcBef>
                <a:spcPts val="49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é informace o VP naleznete v příručce V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eřejná podpora a podpora de minimis (D7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a příruč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Průvodce vyplněním projektové žádosti z OP LZZ (D6)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250920" y="1015920"/>
          <a:ext cx="4392360" cy="324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015920"/>
                    <a:ext cx="439236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6"/>
          <p:cNvSpPr/>
          <p:nvPr/>
        </p:nvSpPr>
        <p:spPr>
          <a:xfrm>
            <a:off x="3166920" y="2565360"/>
            <a:ext cx="12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d1131c"/>
                </a:solidFill>
                <a:latin typeface="Arial"/>
              </a:rPr>
              <a:t>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024360" y="512136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9999"/>
                </a:solidFill>
                <a:latin typeface="Arial"/>
              </a:rPr>
              <a:t>Neaktivní 3. část zálož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3634920" y="4257720"/>
            <a:ext cx="1513080" cy="900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4427640" y="2565360"/>
            <a:ext cx="720720" cy="34920"/>
          </a:xfrm>
          <a:prstGeom prst="line">
            <a:avLst/>
          </a:prstGeom>
          <a:ln w="19080">
            <a:solidFill>
              <a:srgbClr val="d113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216000" y="4365720"/>
            <a:ext cx="4500360" cy="1871640"/>
          </a:xfrm>
          <a:prstGeom prst="rect">
            <a:avLst/>
          </a:prstGeom>
          <a:noFill/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3"/>
          <p:cNvSpPr/>
          <p:nvPr/>
        </p:nvSpPr>
        <p:spPr>
          <a:xfrm>
            <a:off x="216000" y="1052640"/>
            <a:ext cx="4427280" cy="32050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ílohy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08000" y="1125000"/>
            <a:ext cx="42483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e výzvě č. 88 je uveden seznam povinných příloh, které musí být součástí předložené žádosti o finanční podpor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vin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 výzvu č. 88 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Doklad o právní subjektivitě žadate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Analýza rovnosti  žen a muž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Životopis experta/ky na rovné příležit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349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tvrzení o zařazení projektu do IPRM (povinné pouze pokud projekt počítá se zařazením do IP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Maximální velikost jedné příloh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iložené k žádosti o finanční podporu v aplikaci Benefit7 v elektronické podobě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3MB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řílohy větší než 3MB doporučuje uložit na CD-ROM, který přiložíte jako přílohu žádosti o finanční podpor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aximální velikost celé žádosti je 20MB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40611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Kontrola žád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2920" y="1449360"/>
            <a:ext cx="41418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tiskové sestavě žádosti o finanční podporu je zapracovaná kapitola -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ontrola žádos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Jedná se o kritéria pro formální hodnocení a hodnocení přijatelnos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MUS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 finalizaci žádosti provést kontrolu, kde </a:t>
            </a:r>
            <a:r>
              <a:rPr b="1" lang="cs-CZ" sz="1600" spc="-1" strike="noStrike" u="sng">
                <a:solidFill>
                  <a:srgbClr val="ff0000"/>
                </a:solidFill>
                <a:uFillTx/>
                <a:latin typeface="Arial"/>
              </a:rPr>
              <a:t>ručně</a:t>
            </a:r>
            <a:r>
              <a:rPr b="0" lang="cs-CZ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zaškrtá jednotlivá kritéria hodnoc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bude některé kritérium pro něj nerelevantní, zatrhne žadatel pole N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0" y="1233360"/>
            <a:ext cx="4608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Důležité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3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www.esfcr.cz, odkaz na V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a rovněž na titulní straně aplikace Benefit7 www.eu-zadost.cz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Nenechávejte si finalizaci a odevzdání žádosti na poslední chvíli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425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růvodce vyplněním projektové žádosti z OP LZZ (D6), revize 1.7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Dokument naleznete na www.eu-zadost.cz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tlačítko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Nová žádos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OP LZ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odkaz výzvy pro žadate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i="1" lang="cs-CZ" sz="1700" spc="-1" strike="noStrike">
                <a:solidFill>
                  <a:srgbClr val="143f7e"/>
                </a:solidFill>
                <a:latin typeface="Wingdings"/>
                <a:ea typeface="Wingdings"/>
              </a:rPr>
              <a:t>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tlačítko</a:t>
            </a:r>
            <a:r>
              <a:rPr b="1" i="1" lang="cs-CZ" sz="1700" spc="-1" strike="noStrike">
                <a:solidFill>
                  <a:srgbClr val="143f7e"/>
                </a:solidFill>
                <a:latin typeface="Arial"/>
              </a:rPr>
              <a:t> Pokyny řídícího orgán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 aplikací Benefit7 se obracejte na hotline adres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ŘO: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benefit7@mpsv.cz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, do předmětu e-mailu napište 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Hash projektu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(</a:t>
            </a:r>
            <a:r>
              <a:rPr b="0" i="1" lang="cs-CZ" sz="1700" spc="-1" strike="noStrike">
                <a:solidFill>
                  <a:srgbClr val="143f7e"/>
                </a:solidFill>
                <a:latin typeface="Arial"/>
              </a:rPr>
              <a:t>Kód žádosti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67150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Čestné prohlášení a podpisová tabu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1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916520" cy="5113080"/>
          </a:xfrm>
          <a:prstGeom prst="rect">
            <a:avLst/>
          </a:prstGeom>
          <a:ln w="0">
            <a:noFill/>
          </a:ln>
        </p:spPr>
      </p:pic>
      <p:sp>
        <p:nvSpPr>
          <p:cNvPr id="191" name="Obdélník 1"/>
          <p:cNvSpPr/>
          <p:nvPr/>
        </p:nvSpPr>
        <p:spPr>
          <a:xfrm>
            <a:off x="4967280" y="2205000"/>
            <a:ext cx="392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pisová tabulka se žadateli ukáže až v tiskové sestavě žádosti na poslední straně žádosti o finanční podporu (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 Podpis musí být umístěn do samostatného pole, v žádném případě nesmí být přetištěn razítkem nebo být přepsán přes otisk razítk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Finalizace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375920"/>
            <a:ext cx="403848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í uzavření žádosti je posledním krokem žadatele před odesláním žádosti do 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žádosti provedet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žádosti a na 1. straně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Unikátní 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0-ti místní kód), který je složen ze  dvou část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1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žádosti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3mkWP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         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2.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líč verz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0001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torno finalizace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můžete žádost znovu otevřít, provést změny a opět finalizovat. Při tomto kroku se zvýší klíč verze o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287280" y="3357720"/>
          <a:ext cx="442764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357720"/>
                    <a:ext cx="442764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8"/>
          <p:cNvSpPr/>
          <p:nvPr/>
        </p:nvSpPr>
        <p:spPr>
          <a:xfrm>
            <a:off x="3132000" y="4005360"/>
            <a:ext cx="757440" cy="323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9"/>
          <p:cNvGraphicFramePr/>
          <p:nvPr/>
        </p:nvGraphicFramePr>
        <p:xfrm>
          <a:off x="611280" y="5270400"/>
          <a:ext cx="42480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5270400"/>
                    <a:ext cx="42480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8"/>
          <p:cNvSpPr/>
          <p:nvPr/>
        </p:nvSpPr>
        <p:spPr>
          <a:xfrm>
            <a:off x="2592360" y="5468760"/>
            <a:ext cx="1008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2"/>
          <p:cNvSpPr/>
          <p:nvPr/>
        </p:nvSpPr>
        <p:spPr>
          <a:xfrm flipH="1">
            <a:off x="3276360" y="4113360"/>
            <a:ext cx="1655640" cy="1368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3"/>
          <p:cNvSpPr/>
          <p:nvPr/>
        </p:nvSpPr>
        <p:spPr>
          <a:xfrm>
            <a:off x="4896000" y="3789360"/>
            <a:ext cx="288720" cy="576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"/>
          <p:cNvPicPr/>
          <p:nvPr/>
        </p:nvPicPr>
        <p:blipFill>
          <a:blip r:embed="rId5"/>
          <a:stretch/>
        </p:blipFill>
        <p:spPr>
          <a:xfrm>
            <a:off x="544680" y="1197000"/>
            <a:ext cx="2295360" cy="178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0"/>
          <p:cNvSpPr/>
          <p:nvPr/>
        </p:nvSpPr>
        <p:spPr>
          <a:xfrm>
            <a:off x="538200" y="2313000"/>
            <a:ext cx="1727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1"/>
          <p:cNvSpPr/>
          <p:nvPr/>
        </p:nvSpPr>
        <p:spPr>
          <a:xfrm>
            <a:off x="1711440" y="2529000"/>
            <a:ext cx="1439640" cy="14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sk a předložení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92720" y="1449360"/>
            <a:ext cx="4294080" cy="40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musí být podepsaná osobou oprávněnou jednat jménem žadate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ádost v listinné podobě musí být předložena v požadovaném počtu vyhotovení (1 originá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y výtisku je třeba pevně spojit (sešít, přelepit a opatřit podpisem a razítkem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 osobně, doporučenou poštou nebo expresní zásilkou vyhlašovateli výzvy (adresa vyhlašovatele a kontaktní místo jsou uvedeny v textu výzv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3" descr=""/>
          <p:cNvPicPr/>
          <p:nvPr/>
        </p:nvPicPr>
        <p:blipFill>
          <a:blip r:embed="rId1"/>
          <a:stretch/>
        </p:blipFill>
        <p:spPr>
          <a:xfrm>
            <a:off x="250920" y="1015920"/>
            <a:ext cx="4056120" cy="55450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4"/>
          <p:cNvSpPr/>
          <p:nvPr/>
        </p:nvSpPr>
        <p:spPr>
          <a:xfrm>
            <a:off x="1650960" y="1149480"/>
            <a:ext cx="1258920" cy="179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0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900" spc="-1" strike="noStrike">
                <a:solidFill>
                  <a:srgbClr val="000000"/>
                </a:solidFill>
                <a:latin typeface="Arial"/>
              </a:rPr>
              <a:t>benefit7@mpsv.cz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ásad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Benefit7 umožňu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stý text (případné obrázky, tabulky, grafy do příl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lternativní strukturu textu (číslování, odráž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ůběžné ukládání a t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automatické načítání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V Benefit7 js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úplnosti a správnosti vyplněných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zapracované kontroly pravopi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195640" y="3287880"/>
            <a:ext cx="4140000" cy="900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age001"/>
          <p:cNvPicPr/>
          <p:nvPr/>
        </p:nvPicPr>
        <p:blipFill>
          <a:blip r:embed="rId2"/>
          <a:stretch/>
        </p:blipFill>
        <p:spPr>
          <a:xfrm>
            <a:off x="503280" y="1384200"/>
            <a:ext cx="6454800" cy="3592440"/>
          </a:xfrm>
          <a:prstGeom prst="rect">
            <a:avLst/>
          </a:prstGeom>
          <a:ln w="0">
            <a:noFill/>
          </a:ln>
        </p:spPr>
      </p:pic>
      <p:sp>
        <p:nvSpPr>
          <p:cNvPr id="63" name="TextovéPole 7"/>
          <p:cNvSpPr/>
          <p:nvPr/>
        </p:nvSpPr>
        <p:spPr>
          <a:xfrm>
            <a:off x="6156360" y="4437000"/>
            <a:ext cx="24843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2411280" y="3357720"/>
            <a:ext cx="4284720" cy="1008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Registrace do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84640"/>
            <a:ext cx="83628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Žadatel obdrží potvrzení registrace do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vé e-mailové schrán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k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, která obsahuj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ní klíč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Kliknutím na tento klíč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aktivuje svůj účet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 Tuto aktivaci je nutné provést v den registrace, jelikož je klíč platný pouze do 6:00:00 následujícího d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428760" y="1268280"/>
            <a:ext cx="2774880" cy="2556000"/>
          </a:xfrm>
          <a:prstGeom prst="rect">
            <a:avLst/>
          </a:prstGeom>
          <a:ln w="0">
            <a:noFill/>
          </a:ln>
        </p:spPr>
      </p:pic>
      <p:sp>
        <p:nvSpPr>
          <p:cNvPr id="68" name="Line 10"/>
          <p:cNvSpPr/>
          <p:nvPr/>
        </p:nvSpPr>
        <p:spPr>
          <a:xfrm>
            <a:off x="108000" y="2705040"/>
            <a:ext cx="304920" cy="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460440" y="2593800"/>
            <a:ext cx="1411200" cy="222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2"/>
          <a:stretch/>
        </p:blipFill>
        <p:spPr>
          <a:xfrm>
            <a:off x="2411280" y="966960"/>
            <a:ext cx="6066000" cy="4146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3"/>
          <p:cNvSpPr/>
          <p:nvPr/>
        </p:nvSpPr>
        <p:spPr>
          <a:xfrm>
            <a:off x="4067280" y="4041720"/>
            <a:ext cx="1655640" cy="252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Založení žádosti o finanční podp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4"/>
          <p:cNvGraphicFramePr/>
          <p:nvPr/>
        </p:nvGraphicFramePr>
        <p:xfrm>
          <a:off x="609480" y="1219320"/>
          <a:ext cx="1694160" cy="11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1694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Line 16"/>
          <p:cNvSpPr/>
          <p:nvPr/>
        </p:nvSpPr>
        <p:spPr>
          <a:xfrm>
            <a:off x="152280" y="18781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533520" y="1752480"/>
            <a:ext cx="1590480" cy="236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95280" y="5049720"/>
            <a:ext cx="849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Po levé straně ovládacího panelu naleznete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Nová žádos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. Otevře se přehled OP. Po výběru operačního programu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OP LZZ)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  <a:ea typeface="Times New Roman"/>
              </a:rPr>
              <a:t>se zobrazí nabídka všech aktuálně vyhlášených výzev pro předkládání žádostí o finanční podporu (grantových, individuálních, projektů technické pomoci) a globálních grantů v rámci OP LZ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"/>
          <p:cNvPicPr/>
          <p:nvPr/>
        </p:nvPicPr>
        <p:blipFill>
          <a:blip r:embed="rId3"/>
          <a:stretch/>
        </p:blipFill>
        <p:spPr>
          <a:xfrm>
            <a:off x="2600280" y="907920"/>
            <a:ext cx="5257800" cy="3321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4643280" y="2889360"/>
            <a:ext cx="2895840" cy="228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5651640" y="3135240"/>
            <a:ext cx="180720" cy="128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1150920" y="4424400"/>
            <a:ext cx="6902640" cy="372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4"/>
          <a:stretch/>
        </p:blipFill>
        <p:spPr>
          <a:xfrm>
            <a:off x="1312920" y="4424400"/>
            <a:ext cx="6372000" cy="3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Ovládací prvky aplikace Benefit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68240" y="1160640"/>
            <a:ext cx="63961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o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lačítko slouží pro rychlý návrat do seznamu žádostí uživatel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ápověd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pro každou jednotlivou stránku (záložku) projektové žádosti  se zobrazí okno, které podrobněji popisuje význam datových polí nacházejících se na dané stránce. ŘO tuto nápovědu neaktualizuj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kyny řídícího orgánu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 na této záložce nalezne uživatel potřebné a aktuální pokyny k vyplnění žádosti, dokumenty ke změnám v aplikaci a odkaz na hotline adresu ŘO benefit7@mpsv.cz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ístup k žádosti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na této záložce je možné nastavit přístupová práva dalším osobá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pírovat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ímto tlačítkem můžete zkopírovat již založenou/finalizovanou/předloženou žádos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rušit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– tímto tlačítkem vymaže uživatel celou žádost včetně všech dat v záložkách a příloh. DB obnova odstraněné žádosti není možná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spuštění tohoto tlačítka dojde ke zkontrolování správného vyplnění všech povinných pol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k finálnímu uzavření (uložení) projektové žádosti a přidělení „Klíče verze“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práv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lačítko slouží pro komunikaci mezi vyhlašovatelem výzvy/poskytovatelem podpory a žadatelem/příjemc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tímto tlačítkem se finalizovaná žádost zobrazí v sestavě pro tisk ve formátu *.pdf.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287280" y="1332000"/>
            <a:ext cx="2281320" cy="2700360"/>
          </a:xfrm>
          <a:prstGeom prst="rect">
            <a:avLst/>
          </a:prstGeom>
          <a:ln w="0">
            <a:noFill/>
          </a:ln>
        </p:spPr>
      </p:pic>
      <p:sp>
        <p:nvSpPr>
          <p:cNvPr id="87" name="Obdélník 1"/>
          <p:cNvSpPr/>
          <p:nvPr/>
        </p:nvSpPr>
        <p:spPr>
          <a:xfrm>
            <a:off x="358920" y="1952640"/>
            <a:ext cx="17287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Přehled záložek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d1131c"/>
                </a:solidFill>
                <a:latin typeface="Arial"/>
              </a:rPr>
              <a:t>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35280" y="1447920"/>
            <a:ext cx="595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zhledem k provázanosti záložek je nutné je vyplňovat v pořadí, v jakém jsou řazeny v aplikaci Benefit7 (nabídková modrá lišta v levé části obrazovky). V opačném případě může dojít k nenačtení číselníků indikátorů, cílových skupin, typů žadatele, rozpočtu, příloh, a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ři průběžném vyplňování jednotlivých polí a záložek, je nutné změny průběžně ukládat (tlačítko 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Uložit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00"/>
              </a:spcBef>
              <a:buClr>
                <a:srgbClr val="143f7e"/>
              </a:buClr>
              <a:buFont typeface="Wingdings" charset="2"/>
              <a:buChar char="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drobný postup pro vyplnění žádosti o finanční podporu je uveden v příručce Desatera OP LZZ </a:t>
            </a:r>
            <a:r>
              <a:rPr b="1" lang="cs-CZ" sz="1600" spc="-1" strike="noStrike" u="sng">
                <a:solidFill>
                  <a:srgbClr val="143f7e"/>
                </a:solidFill>
                <a:uFillTx/>
                <a:latin typeface="Arial"/>
              </a:rPr>
              <a:t>D6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431640" y="865080"/>
            <a:ext cx="2052720" cy="555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1:06:39Z</dcterms:created>
  <dc:creator>Ing. Janka Gáplovská</dc:creator>
  <dc:description/>
  <dc:language>en-US</dc:language>
  <cp:lastModifiedBy>Bukovská Jiřina (MPSV)</cp:lastModifiedBy>
  <cp:lastPrinted>2008-07-08T14:49:10Z</cp:lastPrinted>
  <dcterms:modified xsi:type="dcterms:W3CDTF">2012-03-15T12:16:31Z</dcterms:modified>
  <cp:revision>762</cp:revision>
  <dc:subject/>
  <dc:title>Projektový manažer OP LZZ v M7+</dc:title>
</cp:coreProperties>
</file>