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50781-74FF-49A7-A589-0EDE0CA56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C9BD9-31B8-42B7-A05C-7455F9C3F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DFC36-5597-49F8-9A21-1EA494727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A9473-528F-4A6C-B304-3BFDCDE01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D0718-EBE8-4B0F-8856-B9A729B5E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CC805-F339-492A-95B8-4E14399A4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7954C-2633-4B00-8741-CA0C0A85D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6D1BE-5C9D-478C-9402-19818BA7E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20C7F-430E-4A52-BF9A-3B6250BA1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86AA1-0441-4B66-994F-A0E6FB491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019A1-27FD-4EC5-B9F7-8CC5568AE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F0CEA-3F35-462C-A243-CAAA18C00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A956-E808-4781-969E-550E98FA282D}"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88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47264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musí být hmatatelný! Za inovované produkty tak nelze považovat konference, stáže atd.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49399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skytovateli dotace se uděluje </a:t>
            </a:r>
            <a:r>
              <a:rPr b="1" lang="cs-CZ" sz="2400" spc="-1" strike="noStrike" u="sng">
                <a:solidFill>
                  <a:srgbClr val="14407e"/>
                </a:solidFill>
                <a:uFillTx/>
                <a:latin typeface="Arial"/>
              </a:rPr>
              <a:t>neomezená nevýhradní licence</a:t>
            </a:r>
            <a:r>
              <a:rPr b="0" lang="cs-CZ" sz="2400" spc="-1" strike="noStrike">
                <a:solidFill>
                  <a:srgbClr val="14407e"/>
                </a:solidFill>
                <a:latin typeface="Arial"/>
              </a:rPr>
              <a:t> včetně předmětného díla (produktu) samotného a to v elektronické formě. </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0" name="Text Box 3"/>
          <p:cNvSpPr/>
          <p:nvPr/>
        </p:nvSpPr>
        <p:spPr>
          <a:xfrm>
            <a:off x="395280" y="1844640"/>
            <a:ext cx="822960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ytvořeným pracovním místem se rozumí: </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u zaměstnavatele podpořené formou úhrady mzdových nákladů</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pro sebezaměstnání (OSVČ) podpořené prostřednictvím vzdělávání a podpůrných služeb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t>
            </a:r>
            <a:r>
              <a:rPr b="0" lang="cs-CZ" sz="2000" spc="-1" strike="noStrike">
                <a:solidFill>
                  <a:srgbClr val="14407e"/>
                </a:solidFill>
                <a:latin typeface="Arial"/>
              </a:rPr>
              <a:t>Počet“ vytvořených pracovních míst je přepočtený na plné úvazky. Při vytvoření tří polovičních úvazků, bude hodnota indikátoru 1,5.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čet vytvořených pracovních míst musí představovat čisté přírůstky pracovních míst v organizaci oproti průměru za posledních 12 měsíců. </a:t>
            </a: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2" name="Text Box 3"/>
          <p:cNvSpPr/>
          <p:nvPr/>
        </p:nvSpPr>
        <p:spPr>
          <a:xfrm>
            <a:off x="395280" y="1844640"/>
            <a:ext cx="8229600" cy="7196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sitelem nově vzniklých pracovních míst může být příjemce podpory, jeho projektový partner nebo jiný zaměstnavatel.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racovní místa musí vzniknout v přímé souvislosti s projektem.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 vytvořená pracovní místa se nepovažují místa, která vzniknou </a:t>
            </a:r>
            <a:br>
              <a:rPr sz="2000"/>
            </a:br>
            <a:r>
              <a:rPr b="0" lang="cs-CZ" sz="2000" spc="-1" strike="noStrike">
                <a:solidFill>
                  <a:srgbClr val="14407e"/>
                </a:solidFill>
                <a:latin typeface="Arial"/>
              </a:rPr>
              <a:t>v rámci realizačního týmu projektu. </a:t>
            </a:r>
            <a:r>
              <a:rPr b="0" lang="cs-CZ" sz="2000" spc="-1" strike="noStrike">
                <a:solidFill>
                  <a:srgbClr val="14407e"/>
                </a:solidFill>
                <a:latin typeface="Arial"/>
              </a:rPr>
              <a:t>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á udržitelnost pracovního místa je 6 měsíců.</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klady k nově vzniklým pracovním místům: přehled výpočtu přepočteného stavu zaměstnanců příjemce podpory a/nebo ostatních subjektů (českých partnerů projektu nebo zaměstnavatelů), pracovní smlouvy zaměstnanců na pozicích, které vznikly v souvislosti s realizací projektu (u OSVČ kopie živnostenského listu); pracovní náplně nových zaměstnanců,  mzdové listy nových zaměstnanců.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4" name="Text Box 3"/>
          <p:cNvSpPr/>
          <p:nvPr/>
        </p:nvSpPr>
        <p:spPr>
          <a:xfrm>
            <a:off x="395280" y="1844640"/>
            <a:ext cx="8229600" cy="63644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jemci podpory uvedou v první průběžné monitorovací zprávě průměrný evidenční počet svých zaměstnanců ve fyzických osobách a/nebo zaměstnanců českého partnera a/nebo zaměstnanců jiného zaměstnavatele, u kterého budou vznikat pracovní místa k datu podpisu právního aktu o poskytnutí podpory </a:t>
            </a:r>
            <a:r>
              <a:rPr b="1" lang="cs-CZ" sz="1600" spc="-1" strike="noStrike">
                <a:solidFill>
                  <a:srgbClr val="14407e"/>
                </a:solidFill>
                <a:latin typeface="Arial"/>
              </a:rPr>
              <a:t>za období dvanácti </a:t>
            </a:r>
            <a:r>
              <a:rPr b="0" lang="cs-CZ" sz="1600" spc="-1" strike="noStrike">
                <a:solidFill>
                  <a:srgbClr val="14407e"/>
                </a:solidFill>
                <a:latin typeface="Arial"/>
              </a:rPr>
              <a:t>kalendářních měsíců předcházejících podpisu právního aktu o poskytnutí podpory. V případě, že tyto subjekty zaměstnávají pracovníky na zkrácený pracovní úvazek nebo sezónní zaměstnance, doloží průměrný evidenční počet zaměstnanců přepočtený. </a:t>
            </a:r>
            <a:r>
              <a:rPr b="1" lang="cs-CZ" sz="1600" spc="-1" strike="noStrike">
                <a:solidFill>
                  <a:srgbClr val="14407e"/>
                </a:solidFill>
                <a:latin typeface="Arial"/>
              </a:rPr>
              <a:t>Tyto údaje příjemce uved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V dalších monitorovacích zprávách uvádí příjemce podpory nárůst nových pracovních míst ve své organizaci a/nebo u ostatních subjektů. Tato skutečnost bude následně kontrolována.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padný pokles počtu ostatních pracovníků musí být zdůvodněn a musí být doloženo, že se nejedná o pracovní místa související s podpořeným projektem. </a:t>
            </a:r>
            <a:r>
              <a:rPr b="1" lang="cs-CZ" sz="1600" spc="-1" strike="noStrike">
                <a:solidFill>
                  <a:srgbClr val="14407e"/>
                </a:solidFill>
                <a:latin typeface="Arial"/>
              </a:rPr>
              <a:t>Podrobnější informace o vytvořených pracovních místech uvede příjemc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6" name="Text Box 3"/>
          <p:cNvSpPr/>
          <p:nvPr/>
        </p:nvSpPr>
        <p:spPr>
          <a:xfrm>
            <a:off x="395280" y="1844640"/>
            <a:ext cx="8229600" cy="460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se příjemce podpory zaváže k jejich vytvoření, musí doložit jejich vznik a zachování kontrolním orgánům. Pokud se vytvářejí nová pracovní místa u českých partnerů projektu a/nebo u zaměstnavatelů spolufinancováním z prostředků OP LZZ, doporučujeme příjemcům podpory, aby si ve smlouvě o partnerství nebo jiným smluvním způsobem dostatečně zajistili vytvoření a udržení nových pracovních míst včetně zakotvení povinnosti poskytnout veškeré povinné doklady </a:t>
            </a:r>
            <a:br>
              <a:rPr sz="2000"/>
            </a:br>
            <a:r>
              <a:rPr b="0" lang="cs-CZ" sz="2000" spc="-1" strike="noStrike">
                <a:solidFill>
                  <a:srgbClr val="14407e"/>
                </a:solidFill>
                <a:latin typeface="Arial"/>
              </a:rPr>
              <a:t>v případě kontroly nových pracovních míst ze strany kontrolních orgánů tak, aby příjemce podpory mohl plnění svých závazků náležitě prokázat. </a:t>
            </a: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8"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80"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c00000"/>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663800"/>
        </p:xfrm>
        <a:graphic>
          <a:graphicData uri="http://schemas.openxmlformats.org/drawingml/2006/table">
            <a:tbl>
              <a:tblPr/>
              <a:tblGrid>
                <a:gridCol w="2743200"/>
                <a:gridCol w="2743200"/>
                <a:gridCol w="274320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ruh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ód národního číselník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ázev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row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tup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1.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sob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5.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rganizací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57.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ých/inovovaných produktů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ledk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6.13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úspěšných absolventů kurzů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02.01</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ě vytvořených pracovních míst pro znevýhodněné skupiny celkem</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 která je dostupná na </a:t>
            </a:r>
            <a:r>
              <a:rPr b="0" lang="cs-CZ" sz="2400" spc="-1" strike="noStrike" u="sng">
                <a:solidFill>
                  <a:srgbClr val="009999"/>
                </a:solidFill>
                <a:uFillTx/>
                <a:latin typeface="Arial"/>
                <a:hlinkClick r:id="rId1"/>
              </a:rPr>
              <a:t>www.esfcr.cz</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s neprokazatelným prospěchem, tj. osobu, která dostala např. leták, bulletin nebo hromadný email? (Co když ho jeden a ten samý člověk dostal třikrát? Co když ho příjemce vůbec nepřečetl?).</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84120" y="1658880"/>
            <a:ext cx="822960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a:t>
            </a:r>
            <a:r>
              <a:rPr b="1" lang="cs-CZ" sz="2400" spc="-1" strike="noStrike" u="sng">
                <a:solidFill>
                  <a:srgbClr val="c00000"/>
                </a:solidFill>
                <a:uFillTx/>
                <a:latin typeface="Arial"/>
              </a:rPr>
              <a:t>pouze</a:t>
            </a:r>
            <a:r>
              <a:rPr b="1" lang="cs-CZ" sz="2400" spc="-1" strike="noStrike">
                <a:solidFill>
                  <a:srgbClr val="143f7e"/>
                </a:solidFill>
                <a:latin typeface="Arial"/>
              </a:rPr>
              <a:t> žadatel a jeho partneři uvedení v žádosti o finanční podporu.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 Pokud má žadatel dva partnery bude hodnota tohoto ukazatele 3.)</a:t>
            </a:r>
            <a:endParaRPr b="0" lang="en-US" sz="24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incová Zuzana, Mgr. (MPSV)</cp:lastModifiedBy>
  <dcterms:modified xsi:type="dcterms:W3CDTF">2012-04-03T08:02:09Z</dcterms:modified>
  <cp:revision>185</cp:revision>
  <dc:subject/>
  <dc:title>Snímek 1</dc:title>
</cp:coreProperties>
</file>