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-36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08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A485-AC62-404A-8D94-D0D6581E6E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A2A5-B60C-4CBE-9288-0F1F717EAA30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49B8-3880-4362-A2E8-A0D2F8CD86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A6B9-722C-45F9-9DC7-2D62EECA7D43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C0E0-1F7F-4CDB-A661-4386DF2A79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5823-6DE4-41F6-AE4C-7EF3FC382E0C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2560" y="3679920"/>
            <a:ext cx="544536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3DA3-C30B-4956-B87F-D3CD6125C45B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525-9C5B-4E7D-8452-996D097D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386-EE1F-4598-8E0D-0FB9F74D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ED9-A576-44EA-820B-AF720438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189-6DDB-4DE2-8578-65E6EE33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E40-CD1E-4AC7-8679-16EF7EF9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994-EBD2-462A-9D18-7392F657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1F3-D780-48DF-A1A6-00F0A656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631-2990-45FB-A754-80EDB5D5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477-11FF-460C-A329-7490DA00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417-71AE-44F3-9E79-3294149E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704-5B76-44CC-ACA9-1D7D27D4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FB1-1FF1-48C4-B784-4760C454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2DD6-73BF-4F97-951D-F936CA15823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Načíst data z MONIT7+“ budete informováni o zahájení načítání dat na MZ následujícím informačním hlášením. MZ je v tuto dobu neaktivní, nelze ji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návrat na úvodní stránku stiskněte tlačítko „Zpět“. V případě tohoto kroku budete upozorněni o načítání dat hlášením: „Akce je spuštěna na pozadí. Do jejího vypořádání bude MZ zobrazena pro čtení. Jakmile akce na pozadí skončí, bude možné MZ opět editovat. O výsledku akce budete informování hlášením, se kterým je třeba se seznámit.“ Vyčkejte, prosím, na dokončení operace. Informační hlášení je možné skrýt použitím žluté šipky v pravé části informačního hlá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39720" y="2565360"/>
            <a:ext cx="7648560" cy="158436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5"/>
          <p:cNvSpPr/>
          <p:nvPr/>
        </p:nvSpPr>
        <p:spPr>
          <a:xfrm>
            <a:off x="2124000" y="2997360"/>
            <a:ext cx="331164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0240" y="1220760"/>
            <a:ext cx="5790960" cy="2543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21200" y="1557360"/>
            <a:ext cx="31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končení operace, úspěšně provedené nebo nikoli, je uživatel informován zobrazením zprávy v zeleném pru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přečtení výsledku operace je nutné kliknutí na odkaz, následně se zobrazí protok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Označit jako přečtené“ je načtení dat ukončeno a protokol vymazán. V opačném případě bude aplikace upozorňovat na nepřečtení v cykl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1692360" y="1484280"/>
            <a:ext cx="223200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0240" y="3763800"/>
            <a:ext cx="4916520" cy="309420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8"/>
          <p:cNvSpPr/>
          <p:nvPr/>
        </p:nvSpPr>
        <p:spPr>
          <a:xfrm>
            <a:off x="2050920" y="4997520"/>
            <a:ext cx="108108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95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102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104" name="Přímá spojnice se šipkou 4"/>
          <p:cNvCxnSpPr>
            <a:stCxn id="105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V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111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125000"/>
            <a:ext cx="446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okud neměníte dosaženou hodnotu, zůstává 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datum dosažené hodnoty</a:t>
            </a: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 z té MZ, ve které bylo hodnoty dosaženo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8"/>
          <p:cNvSpPr/>
          <p:nvPr/>
        </p:nvSpPr>
        <p:spPr>
          <a:xfrm>
            <a:off x="3444840" y="4853160"/>
            <a:ext cx="720720" cy="2314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Přímá spojnice se šipkou 11"/>
          <p:cNvCxnSpPr/>
          <p:nvPr/>
        </p:nvCxnSpPr>
        <p:spPr>
          <a:xfrm flipH="1" flipV="1">
            <a:off x="3419280" y="3789000"/>
            <a:ext cx="1584720" cy="115272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23" name="Obdélník 12"/>
          <p:cNvSpPr/>
          <p:nvPr/>
        </p:nvSpPr>
        <p:spPr>
          <a:xfrm>
            <a:off x="3348000" y="4505400"/>
            <a:ext cx="1187640" cy="287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0" y="998280"/>
            <a:ext cx="41828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608360" cy="4610160"/>
          </a:xfrm>
          <a:prstGeom prst="rect">
            <a:avLst/>
          </a:prstGeom>
          <a:ln w="0">
            <a:noFill/>
          </a:ln>
        </p:spPr>
      </p:pic>
      <p:cxnSp>
        <p:nvCxnSpPr>
          <p:cNvPr id="129" name="Přímá spojnice se šipkou 3"/>
          <p:cNvCxnSpPr/>
          <p:nvPr/>
        </p:nvCxnSpPr>
        <p:spPr>
          <a:xfrm flipH="1">
            <a:off x="4787280" y="5013000"/>
            <a:ext cx="864360" cy="43236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Přímá spojnice se šipkou 5"/>
          <p:cNvCxnSpPr>
            <a:stCxn id="135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7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i="1" lang="cs-CZ" sz="2000" spc="-1" strike="noStrike">
                <a:solidFill>
                  <a:srgbClr val="144c7e"/>
                </a:solidFill>
                <a:latin typeface="Arial"/>
              </a:rPr>
              <a:t>šipky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94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0000"/>
                </a:solidFill>
                <a:latin typeface="Arial"/>
              </a:rPr>
              <a:t>Skutečná cena VŘ se týká celého VŘ, nikoliv jen jednoho dodavat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57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64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r>
              <a:rPr b="1" lang="en-US" sz="1800" spc="-1" strike="noStrike">
                <a:solidFill>
                  <a:srgbClr val="144c7e"/>
                </a:solidFill>
                <a:latin typeface="Arial"/>
              </a:rPr>
              <a:t>Ulo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žit v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87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93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Přímá spojnice se šipkou 3"/>
          <p:cNvCxnSpPr>
            <a:stCxn id="193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5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201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206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8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213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215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Přímá spojnice se šipkou 7"/>
          <p:cNvCxnSpPr>
            <a:endCxn id="215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22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3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6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179280" y="515880"/>
            <a:ext cx="1873440" cy="1568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89080" y="1184400"/>
            <a:ext cx="936360" cy="241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54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55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59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Přímá spojnice se šipkou 5"/>
          <p:cNvCxnSpPr>
            <a:stCxn id="259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61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62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22604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ově lze ovšem použít tlačítko „Kontrola“ či tlačítko „Finalizace“, které se nacházejí pod záložkou „Off-line“ operace s MZ“. Princip použití je stejný, jako v případě načítání dat na M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užití tohoto tlačítka je vhodné v okamžiku, kdy dosud používané funkce Kontrola/Finalizace nejsou schopny v časovém limitu provést požadovanou akci, tzn. funkce Kontrola/Finalizace je přerušena chybou (viz. „Nastala neočekávaná chyba“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užití off-line kontroly je opět budete opět informováni o započaté operaci zobrazením informačního hlá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skončení kontroly je opět zobrazen odkaz na informační zprávu v zeleném pru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39640" y="1496880"/>
            <a:ext cx="1790640" cy="3295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460600" y="1496880"/>
            <a:ext cx="2095560" cy="1324080"/>
          </a:xfrm>
          <a:prstGeom prst="rect">
            <a:avLst/>
          </a:prstGeom>
          <a:ln w="0">
            <a:noFill/>
          </a:ln>
        </p:spPr>
      </p:pic>
      <p:sp>
        <p:nvSpPr>
          <p:cNvPr id="268" name="Obdélník 7"/>
          <p:cNvSpPr/>
          <p:nvPr/>
        </p:nvSpPr>
        <p:spPr>
          <a:xfrm>
            <a:off x="539640" y="4549680"/>
            <a:ext cx="1790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8"/>
          <p:cNvSpPr/>
          <p:nvPr/>
        </p:nvSpPr>
        <p:spPr>
          <a:xfrm>
            <a:off x="2444760" y="1496880"/>
            <a:ext cx="2127240" cy="1324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539640" y="5157720"/>
            <a:ext cx="4229280" cy="1162080"/>
          </a:xfrm>
          <a:prstGeom prst="rect">
            <a:avLst/>
          </a:prstGeom>
          <a:ln w="0">
            <a:noFill/>
          </a:ln>
        </p:spPr>
      </p:pic>
      <p:cxnSp>
        <p:nvCxnSpPr>
          <p:cNvPr id="271" name="Přímá spojnice se šipkou 10"/>
          <p:cNvCxnSpPr/>
          <p:nvPr/>
        </p:nvCxnSpPr>
        <p:spPr>
          <a:xfrm flipH="1">
            <a:off x="2198160" y="4941720"/>
            <a:ext cx="2950560" cy="255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77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83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5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89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300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826920" y="1197000"/>
          <a:ext cx="705816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836720"/>
                <a:gridCol w="180036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258920" y="1141560"/>
            <a:ext cx="7200720" cy="3582720"/>
          </a:xfrm>
          <a:prstGeom prst="rect">
            <a:avLst/>
          </a:prstGeom>
          <a:ln w="0">
            <a:noFill/>
          </a:ln>
        </p:spPr>
      </p:pic>
      <p:sp>
        <p:nvSpPr>
          <p:cNvPr id="310" name="Obdélník 5"/>
          <p:cNvSpPr/>
          <p:nvPr/>
        </p:nvSpPr>
        <p:spPr>
          <a:xfrm>
            <a:off x="1030320" y="501336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</a:rPr>
              <a:t>Do mailu přijde upozornění, že v Benefit7+ je 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délník 6"/>
          <p:cNvSpPr/>
          <p:nvPr/>
        </p:nvSpPr>
        <p:spPr>
          <a:xfrm>
            <a:off x="1042920" y="38815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3680" y="1484280"/>
            <a:ext cx="403992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Konto žádostí je nová zpráva zobrazena zatržít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3429000"/>
            <a:ext cx="40402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4720" y="1196640"/>
            <a:ext cx="40417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zprávy najdete celou zprá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5727600" y="2924280"/>
            <a:ext cx="2444760" cy="288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743280" cy="2527200"/>
          </a:xfrm>
          <a:prstGeom prst="rect">
            <a:avLst/>
          </a:prstGeom>
          <a:ln w="0">
            <a:noFill/>
          </a:ln>
        </p:spPr>
      </p:pic>
      <p:sp>
        <p:nvSpPr>
          <p:cNvPr id="318" name="Ovál 12"/>
          <p:cNvSpPr/>
          <p:nvPr/>
        </p:nvSpPr>
        <p:spPr>
          <a:xfrm>
            <a:off x="3635280" y="4869000"/>
            <a:ext cx="432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3"/>
          <p:cNvSpPr/>
          <p:nvPr/>
        </p:nvSpPr>
        <p:spPr>
          <a:xfrm>
            <a:off x="5867280" y="5229360"/>
            <a:ext cx="1008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17080" cy="1224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6408720" cy="3313080"/>
          </a:xfrm>
          <a:prstGeom prst="rect">
            <a:avLst/>
          </a:prstGeom>
          <a:ln w="0">
            <a:noFill/>
          </a:ln>
        </p:spPr>
      </p:pic>
      <p:sp>
        <p:nvSpPr>
          <p:cNvPr id="323" name="Obdélník 7"/>
          <p:cNvSpPr/>
          <p:nvPr/>
        </p:nvSpPr>
        <p:spPr>
          <a:xfrm>
            <a:off x="755640" y="5732640"/>
            <a:ext cx="1944720" cy="43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délník 8"/>
          <p:cNvSpPr/>
          <p:nvPr/>
        </p:nvSpPr>
        <p:spPr>
          <a:xfrm>
            <a:off x="4716360" y="5732640"/>
            <a:ext cx="1656000" cy="360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62673"/>
                </a:solidFill>
                <a:latin typeface="Arial"/>
              </a:rPr>
              <a:t>technická podpor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1"/>
          <p:cNvSpPr/>
          <p:nvPr/>
        </p:nvSpPr>
        <p:spPr>
          <a:xfrm flipV="1">
            <a:off x="6443640" y="3141720"/>
            <a:ext cx="720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1258920" y="2060640"/>
            <a:ext cx="1297080" cy="11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Šipka dolů 3"/>
          <p:cNvSpPr/>
          <p:nvPr/>
        </p:nvSpPr>
        <p:spPr>
          <a:xfrm rot="10800000">
            <a:off x="6634080" y="3516480"/>
            <a:ext cx="385920" cy="7761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324000" y="2413080"/>
            <a:ext cx="792000" cy="3682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71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ost výbě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6261120" y="4856040"/>
            <a:ext cx="1871640" cy="574920"/>
          </a:xfrm>
          <a:prstGeom prst="rect">
            <a:avLst/>
          </a:prstGeom>
          <a:ln w="0">
            <a:noFill/>
          </a:ln>
        </p:spPr>
      </p:pic>
      <p:sp>
        <p:nvSpPr>
          <p:cNvPr id="76" name="Ovál 1"/>
          <p:cNvSpPr/>
          <p:nvPr/>
        </p:nvSpPr>
        <p:spPr>
          <a:xfrm>
            <a:off x="7308720" y="4929120"/>
            <a:ext cx="432000" cy="43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založení MZ je nutné, stejně jako doposud, stisknout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data z MONIT7+“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rozdíl od dosud používaného postupu je v tuto dobu, průměrně minutu, aplikace neak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UPOZORNĚNÍ: Neklikejte na tlačítko „Načíst data z MONIT7+“ opakovaně. Po opakovaném stisknutí tlačítka může dojít k zablokování požadavku. Pokud již tato situace nastala, obraťte se, prosím, na emailovou adresu příslušné podpory uvedené na následujícím odkazu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s://www.eu-zadost.cz/info.aspx?ShowPage=Operation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952640"/>
          </a:xfrm>
          <a:prstGeom prst="rect">
            <a:avLst/>
          </a:prstGeom>
          <a:ln w="0">
            <a:noFill/>
          </a:ln>
        </p:spPr>
      </p:pic>
      <p:sp>
        <p:nvSpPr>
          <p:cNvPr id="80" name="Obdélník 7"/>
          <p:cNvSpPr/>
          <p:nvPr/>
        </p:nvSpPr>
        <p:spPr>
          <a:xfrm>
            <a:off x="1863720" y="3481560"/>
            <a:ext cx="194472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cp:lastPrinted>2012-04-23T10:38:10Z</cp:lastPrinted>
  <dcterms:modified xsi:type="dcterms:W3CDTF">2013-10-03T07:53:26Z</dcterms:modified>
  <cp:revision>470</cp:revision>
  <dc:subject/>
  <dc:title>Snímek 1</dc:title>
</cp:coreProperties>
</file>