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27AB-792D-4A13-B473-CD02132116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720F-907F-4878-BAB5-20A895E2E5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A109-ACA0-4467-9406-59884DFCDD2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815B-1691-4C07-BE91-68658E55EF4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3C48-6D55-4C5D-A47A-9C31787F34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1C84-6E91-4EF1-8972-E36A591C5C3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4A0D-E452-4BCB-B798-9202F5F58F3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E5D1-A759-4AA5-AF80-A57B90F331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1831-0E51-4F81-AE70-4CEE296998D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7A67-11A1-464C-B664-1CC47BA6104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3825-3A7B-45F5-9384-DE6037B329D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06E6-ADE0-409B-91E8-2DC9BC1AB14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ákon o účetnictv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nebo neprůkazné vedení účetnictv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rušování zásady věcné a časové souvislosti při účtování o náklade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náležitosti účetního dokladu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opravy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ní účtováno o pohledávkách a závazcích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existence, neúplnost nebo neaktuálnost vnitřních předpisů stanovených zákone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é zajištění archivace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lad není označen zkratkou či jiným interním označením, že jde o výdaj z daného projektu, který čerpá z 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ktury neoznačeny číslem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souvisí přímo se z. o účtu, ale je povinnou náležitostí u účetních dokladů z ES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Ověření hospodárnosti, efektivnosti a účelnosti výdajů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cen a mezd v místě obvyklý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ření dodatku smlouvy o zvýšení ceny bez dalších podmín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jednání nestandardních nebo jednostranně výhodných podmínek (nepřiměřeně vysoký úrok z prodlení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chnické zhodnocení najaté nemovitosti bez protiplnění pronajímatel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boží nebo služba jsou dodávány přes několik mezičlánků</a:t>
            </a: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ákup vybavení před závěrem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racovněprávní vzta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pracovní smlouvy/DPČ/DPP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tanovení rozsahu práce n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ého rozsahu pracovní doby, příp. nesprávné stanovení rozsahu pracovní doby v PS/DPČ/DP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řekrývání pracovních úvazků na projektech 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Cestovní náhrad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jasná kritéria pro určení dopravního prostředku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skytnutí vyšších náhrad, než stanovuje právní úprava, příp. vnitřní předp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krácení stravného v případě poskytnutí stravová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vyplacení cestovní náhrady neoprávněné osobě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držení lhůt při proplacení cestovních náhrad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rmín pracovní cesty překrývá aktivity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Dodržování schváleného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oznámené změny v 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kročení částek v odsouhlaseném  rozpočtu nad rámec povoleného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movolné přesuny financí mezi kapitolami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dodržení pravidel uznatelnosti výdajů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adávací říze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při přípravě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volení nesprávného postupu pro výběr dodavatele/dělení zakáz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diskriminační kvalifikačn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ě/netransparentně stanovená hodnotíc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hodnotící kritéria použita jako kvalifikační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v průběhu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ých lhůt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oslovení dostatečného počtu dodavatelů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ý způsob zveřejně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vyloučení uchazeče nesplňujícího kvalifikační kritéria, nejasné hodnocení nabíd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ravidel při složení hodnotící komise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(např. doklady o doručení písemností (dodejky, doručenky z el. komunik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nedostatečně a nejasně popsaný průběh hodnocení v zápisu z hodnocení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bez dostatku jiné (pomocné) evidence – hodnotící tabulky apo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írání neopodstatněných dodatků ke smlouvě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ěcné plnění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docházky na kurzy, semináře, osnovy kurzů (přednášek), chybí kopie poskytnutých učebních pomůcek pro příjemce (skripta, učebni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hmotné i nehmotné výstupy z projektu (analýzy, propagační předměty, publikace atd.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í souhlasy účastníků projektu se zpracováním osobních údaj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svědčení, certifikáty – nesplňují pravidla publicity, chybí jejich kopie v archivovaných dokumentech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sledovaní, nevykazovaní indikátorů – chybí průběžná kontrola dosahování indikátorů a metody nápravy v případě, že nebudou dosaže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ublicit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–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špatné barevné provedení log, špatné umístění nebo pořadí log nebo jejich úplné vynechání na materiálech vytvářených v rámci projektu,  neinformování o poskytnutém příspěvku z ESF v průběhu pořádaných akcí, chybějící informace o projektu na webových stránkách příjemců, neoznačení vybavení pořízeného z projektu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eřejná podp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uvedení informací v čestném prohlášení k čerpání podpory de minim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odmínek, za kterých byla veřejná podpora poskytnu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Jiné nedostat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říjemce není na kontrolu připraven – na místě nejsou k dispozici požadované originály doklad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nejsou přítomny osoby zapojené do realizace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umenty nejsou řádně archivovány – nepřehledné, nesystematické: nevyzná se v nich ani příjemce (zejm. případě účasti více osob na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jektu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popřípadě je u větších organizací problémem neustálé „přebíhání„ např. z jedné budovy do druhé atd., časové prosto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říjemce nepředává informace od poskytovatele dalším partnerům (je-li relevantní a projekt má partnera/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16F5-C2C3-4918-B25D-A791C4A4CD2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04C-C055-4D8B-8CC7-04366CB2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FF7-664B-4D85-B921-43E12C48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242-8D06-4530-8E28-A072EDD6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DE3B-F922-41A3-975A-B169C8D6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71D5-EFB5-4F53-A8D5-FE172C0D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EC1A-4007-43BC-95AE-0C79A4A3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30A-F83B-4ABC-A562-AE5D9DB4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D73-6E13-4C6E-B439-865AAD4C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EBB0-ECB2-4347-8186-E9390D53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F07-3638-4BBB-AD29-5EEB4DAB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40E-FCDE-4083-B836-86F4E208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1FF1-5A5B-4D07-B2AF-21A18920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B22C-A587-4842-AFDB-C01702CE8AE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y na místě a nesrovnalosti</a:t>
            </a:r>
            <a:br>
              <a:rPr sz="1800"/>
            </a:b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u projektů realizovaných v rámci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28" descr="logo_a_cb"/>
          <p:cNvPicPr/>
          <p:nvPr/>
        </p:nvPicPr>
        <p:blipFill>
          <a:blip r:embed="rId1"/>
          <a:stretch/>
        </p:blipFill>
        <p:spPr>
          <a:xfrm>
            <a:off x="7308720" y="476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ůbě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ahájení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ložení pověření k provedení kontro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ávy a povinnostmi 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ů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ved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lastní kontrola vytypovaných oblast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ýzva k odstranění nedostatků, které lze odstranit ještě před uzavření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Ukonč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ání protokolu z kontroly, jeho podpis oběma stra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ání námitek – vypořádání námitkového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ezření na porušení rozpočtové kázně či trestný čin –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hlášení podezření na nesrovnalost Řídícímu orgá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V případě neposkytnutí součinnosti může kontrolní orgán uložit pořádkovou pokutu až do výše 50 000 K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tokol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vypracovává vedoucí kontrolní skupiny ve spolupráci se všemi kontrolními pracovníky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a předává nebo zasílá jej kontrolované osobě k podpisu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obsahuje seznam zjištění, které nebylo možno odstranit během trvání kontroly a seznam uložených nápravných opatření, vč. lhůty k jejich odstra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zjištěn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1) zjištění ze kterých plyne podezření na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2) zjištění, ze kterých neplyne podezření na nesrovnal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(pouze ukládají doporučení k náprav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vzetí protokolu z kontroly stvrzuje statutární zástupce kontrolované osoby nebo jím pověřená osoba svým podpi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odmítnutí podpisu protokolu při převzetí je kontrolovaná osoba poučena o tom, že tím ztrácí možnost podat námitky proti protoko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ámitky proti protokolu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ožnost podat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písemné a zdůvodněné námitky, a to ve lhůtě 5 kalendářních dnů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ode dne seznámení s protokole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, není-li stanoveno jinak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řádně podaných námitkách rozhoduje vedoucí kontrolního orgá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vydané rozhodnutí o námitkách je součástí protokolu z kontroly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p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roti rozhodnutí o námitkách není opravný prostředek přípustný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srovnalos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= porušení právních předpisů ES nebo českých předpisů, včetně podmínek stanovených příjemci právním aktem o poskytnutí pod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nesrovnalostí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orušení rozpočtové kázně ve smyslu zákona č. 218/2000 Sb. o rozpočtových pravidlech, tj. neoprávněné použití prostředků, poskytnutých ze státního rozpoč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restný č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ystémová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znikne-li v průběhu kontroly (či v jiném případě) podezření na nesrovnalost, je povinností kontrolora tuto skutečnost nahlásit pověřenému pracovníku Řídícího orgánu. Ten posoudí opodstatněnost podezření a v případě jeho potvrzení skutečnost nahlásí příslušnému orgánu (místně příslušný finanční úřad v případě porušení rozpočtové kázně, v ostatních případech např. orgán činný v trestním řízení apod.), který o případu pravomocně rozho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Doručovací adresa: P.O.BOX 98, 151 34 Praha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e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ověřit, zda uplatňované výdaje byly skutečně vynaloženy, a to v souladu s rozhodnutím o poskytnutí dotace, s vnitrostátními pravidly a pravidly Společ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ředejí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vzniku vá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ých problémů pomocí 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asné identifikace nedostat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, které by mohly ovlivnit ús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šnou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jistit zpětnou vazbu poskytovateli prostředků v průběhu realizace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Legislativní rámec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lánek 13 nařízení Evropské komise č. 1828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ákon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č. 320/2001 Sb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o finanční kontrole ve veřejné s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ákon č. 552/1991 Sb. o státní kontrol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cedurální 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obsahové část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Finanční kont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výběrových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cedurál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rávnost a úplnost vedení dokumentace k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rchivace projektové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zení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ztahy s part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održování podmínek právního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ová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lnění indikátorů stanovených v právním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Úplnost dokumentace k prováděným kurzům nebo semi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k vyvíjeným modulům, metodikám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dokumentace k poradenství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k vytvořeným pracovním místům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systému finanční kontroly projektu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plikace ne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působilost náklad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dělené úče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ulad čerpání s rozpoč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zorku účetních dokladů z každé kapitoly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ykazování 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vidence projektových příjm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výběrových řízen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le typu a výše zakázky, kontroluje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typ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rocedu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 závislosti na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finanční hodnotě zakázk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održ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áležit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zveřejněn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výběrových kritéri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dpovídající složení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ápis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bídky jednotlivých uchaze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smluvní dokumen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Problematické oblasti kontrol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, stanovených zákonem o ú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etnictv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edení účetnic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uchovávání do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aňová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zp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bilosti výdaj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hospodárnost, efektivnost a účelnost výdaj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statních zákonných n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racovně právní vzt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cestovní náh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dávání veřejných zaká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7:48:23Z</dcterms:modified>
  <cp:revision>278</cp:revision>
  <dc:subject/>
  <dc:title>Snímek 1</dc:title>
</cp:coreProperties>
</file>