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11963" cy="9942513"/>
</p:presentation>
</file>

<file path=ppt/commentAuthors.xml><?xml version="1.0" encoding="utf-8"?>
<p:cmAuthorLst xmlns:p="http://schemas.openxmlformats.org/presentationml/2006/main">
  <p:cmAuthor id="0" name="Pavelková Marcela, Mgr. (MPSV)" initials="P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4.xml><?xml version="1.0" encoding="utf-8"?>
<p:cmLst xmlns:p="http://schemas.openxmlformats.org/presentationml/2006/main">
  <p:cm authorId="0" dt="2013-04-30T14:15:02.128000000" idx="1">
    <p:pos x="2377" y="3777"/>
    <p:text>odstranit poslední odrážku, doplnit informace, že publicita spadá do nepřímých nákladů</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6280"/>
            <a:ext cx="496872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9CB2-B5AA-434B-8C4D-8A1E050DF90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6280"/>
            <a:ext cx="4968720" cy="3727440"/>
          </a:xfrm>
          <a:prstGeom prst="rect">
            <a:avLst/>
          </a:prstGeom>
          <a:ln w="0">
            <a:noFill/>
          </a:ln>
        </p:spPr>
      </p:sp>
      <p:sp>
        <p:nvSpPr>
          <p:cNvPr id="119"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Povinná loga OP LZZ ani logo příjemce/projektu není třeba uvádět pouze v řadách, které jsou ke stažení zde. Nicméně pokud se publicitou chcete zabývat co nejméně, doporučujeme používat právě tyto řa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řadu použijete a budete do ni vkládat své (příjemcovo/projektové) logo, je třeba dodržet pravidla, která jsou nastavena Manuálem pro publicitu a vizuální identi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4. Logo MPSV příjemci nemusí používat – používá jej na svých materiálech Řídící orgán, který spadá pod ministerstv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5. Větu „Tento projekt je financován z ESF prostřednictvím OP LZZ a ze státního rozpočtu ČR.“ není třeba v tištěné podobě používat. Povinná byla v minulém programovém období. Nyní je třeba touto informací uvádět akce (semináře, školení) financované z projektu – tzn. je třeba ji na úvod říc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9F99A-C195-497E-AF24-2F2F5B9E225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20880" y="746280"/>
            <a:ext cx="4968720" cy="3727440"/>
          </a:xfrm>
          <a:prstGeom prst="rect">
            <a:avLst/>
          </a:prstGeom>
          <a:ln w="0">
            <a:noFill/>
          </a:ln>
        </p:spPr>
      </p:sp>
      <p:sp>
        <p:nvSpPr>
          <p:cNvPr id="12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6. Je třeba dávat si pozor na barevnou a černobílou verzi log, která se liší od černobílé kopie barevných log. Žádná verze není předepsána, je na vašem zvážení, jakou tiskárnu či kopírku používáte atd. Hlídat si je třeba i to, aby se loga při zvětšování či zmenšování nezdeformova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BBFF-ABC9-417E-A9EB-AD256CCA9CC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8720" cy="3727440"/>
          </a:xfrm>
          <a:prstGeom prst="rect">
            <a:avLst/>
          </a:prstGeom>
          <a:ln w="0">
            <a:noFill/>
          </a:ln>
        </p:spPr>
      </p:sp>
      <p:sp>
        <p:nvSpPr>
          <p:cNvPr id="12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becně je třeba označovat místnosti, kde se konají semináře, povinnými logy OP LZZ. Obdobně je třeba označit logy certifikáty – a zároveň platí, že loga dodavatelů na certifikátech být nesmí (použít lze pouze text názvu atp.). Označení školících místností a certifikátů ale není třeba vyžadovat u kurzů, které jsou pořádány pro veřejnost, nikoli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ANO: kurz pořádaný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NE: kurz pro veřejnost, kterého se příjemce pouze účast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 označení místnosti není třeba tisknout plakát, stačí například větší čtvrtka s logy – důležité je, aby cedule byla dostatečně velká a viditelná, aby bylo zřejmé, že v místnosti probíhá projekt financovaný z evropských fond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laječky ČR a EU není třeba použí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68BD-B7AF-4753-AFB6-334ADB989D4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0880" y="746280"/>
            <a:ext cx="4968720" cy="3727440"/>
          </a:xfrm>
          <a:prstGeom prst="rect">
            <a:avLst/>
          </a:prstGeom>
          <a:ln w="0">
            <a:noFill/>
          </a:ln>
        </p:spPr>
      </p:sp>
      <p:sp>
        <p:nvSpPr>
          <p:cNvPr id="12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8. Vložení prezentace na web je povinné pro všechny příjemce (součást „závazného balíčku“ z Manuálu pro publicitu OP LZZ). Doporučujeme prezentaci vložit při zahájení projektu. Rovněž pokud budete na web vkládat zadávací řízení, je třeba napřed vložit tuto prezentaci. Prezentace se vkládá prostřednictvím jednoduchého on-line formuláře, kde je několik kolonek, do kterých vyplníte požadované informace. Formulář můžete sami dle potřeby edito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8645-6E75-4384-9EE3-47CE095ECB3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8720" cy="3727440"/>
          </a:xfrm>
          <a:prstGeom prst="rect">
            <a:avLst/>
          </a:prstGeom>
          <a:ln w="0">
            <a:noFill/>
          </a:ln>
        </p:spPr>
      </p:sp>
      <p:sp>
        <p:nvSpPr>
          <p:cNvPr id="13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ontrola public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držování a provádění publicity projektu dle stanovených pravidel je velmi důležité a bude předmětem kontr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Realizátor projektu informuje o provedených informačních a propagačních aktivitách projek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monitorovacích zprávách, které jsou pravidelně předkládány vyhlašovateli výzv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podpory je povinen uchovat veškeré doklady související s propagací projektu pro potřeby kontrol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dmětem kontroly bude dodržování veškerých podmínek informačních a propagačníc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patření souvisejících s ESF uvedených v projektové žádosti a v Rozhodnutí o poskytnut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tace. Dále bude kontrolováno dodržování publicity projektu dle stanovených pravide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lynoucích z Nařízení Evropské komise č. 1828/2006 – dodržování „Závazného balíčk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vádění propagačních a informačních aktivi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předměty a materiály si proto archivujte – uchovávejte si originál či kopie článků,</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kterých se píše o Vašem projektu, výstřižky nebo kopie inzerátů, letáky, informačn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ateriály, fotografie z akcí k prezentaci projektu, prezentační listiny, kopie DVD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nechte si alespoň jeden vzorek od každého propagačního materiálu či předmětu, který</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jste v rámci projektu nechali vytvořit. Součástí kontrol budou také účetní doklady a faktu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ýběrová řízení na dodavatele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AAF9-8759-49D3-AC61-055390B8AC6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8720" cy="3727440"/>
          </a:xfrm>
          <a:prstGeom prst="rect">
            <a:avLst/>
          </a:prstGeom>
          <a:ln w="0">
            <a:noFill/>
          </a:ln>
        </p:spPr>
      </p:sp>
      <p:sp>
        <p:nvSpPr>
          <p:cNvPr id="13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výzvy 94 bylo možné získat body v rámci specifického kritéria Míra podpory zaměřené na věkovou skupinu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yny v případě bonifikace ve vyrozumění o schválení žádosti o dotac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ás žádáme o uvedení loga evropského roku stárnutí na webových stránkách projektu, a na materiálech, které vzniknou v projektu a budou mít (přímou) vazbu na cílovou skupinu 50. Loga jsou ke stažení z linku v metodickém dopise (vybrat českou verzi loga („cs“). </a:t>
            </a:r>
            <a:r>
              <a:rPr b="0" lang="cs-CZ" sz="1200" spc="-1" strike="noStrike" u="sng">
                <a:solidFill>
                  <a:srgbClr val="000000"/>
                </a:solidFill>
                <a:uFillTx/>
                <a:latin typeface="Calibri"/>
              </a:rPr>
              <a:t>(http://ec.europa.eu/social/ey2012main.jsp?catId=989&amp;langId=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Vás informujeme, že po Vás budeme požadovat údaje pro souhrnnou publicitu k EY 2012 v podobě zvláštní přílohy ke každé monitorovací zprávě. Elektronickou podobu této přílohy budete zasílat také na e-mailovou adresu esf@mpsv.cz, přičemž do předmětu mailu uvedete zkratku Evropského roku stárnutí a číslo projektu např. EY 2012, CZ.1.04/1.1.02/94.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EA70-E630-455F-9CAE-C2B569513CE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8720" cy="3727440"/>
          </a:xfrm>
          <a:prstGeom prst="rect">
            <a:avLst/>
          </a:prstGeom>
          <a:ln w="0">
            <a:noFill/>
          </a:ln>
        </p:spPr>
      </p:sp>
      <p:sp>
        <p:nvSpPr>
          <p:cNvPr id="13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loha monitorovací zprávy věnovaná práci s cílovou skupinou osob nad 50 let bude obsahovat tyto náležitos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výsledku práce s cílovou skupinou osob nad 50 let za sledované období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fotodokumentace práce s cílovou skupinou (cca 4 fotografie, u nichž má příjemce písemný souhlas vyobrazených osob k uveřejněn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jak projekt pomohl jednomu konkrétnímu účastníkovi (v případě že to dosavadní vývoj aktivit v projektu umožnuje) –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závěrečné monitorovací zprávě navíc přiložíte zhodnocení celkového přínosu pro cílovou skupinu osob nad 50 let (cca 20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1ABD-8D67-4748-A243-1249561671F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0880" y="746280"/>
            <a:ext cx="4968720" cy="3727440"/>
          </a:xfrm>
          <a:prstGeom prst="rect">
            <a:avLst/>
          </a:prstGeom>
          <a:ln w="0">
            <a:noFill/>
          </a:ln>
        </p:spPr>
      </p:sp>
      <p:sp>
        <p:nvSpPr>
          <p:cNvPr id="9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realizaci projektů v rámci jednotlivých programů Evropského sociálního fondu (dále ESF) je třeba pamatovat na dodržování pravidel a povinností spojených s publicitou, zároveň je však možné publicity využít ve prospěch Vašeho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pro inspiraci ostatní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6676-7562-4235-89B9-DD2F2BC6E7A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20880" y="746280"/>
            <a:ext cx="4968720" cy="3727440"/>
          </a:xfrm>
          <a:prstGeom prst="rect">
            <a:avLst/>
          </a:prstGeom>
          <a:ln w="0">
            <a:noFill/>
          </a:ln>
        </p:spPr>
      </p:sp>
      <p:sp>
        <p:nvSpPr>
          <p:cNvPr id="10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žadavek na informování veřejnosti o projektech podpořených z fondů Evropské unie je stanoven v Nařízení Evropské komise č. 1828/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le tohoto nařízení je každý realizátor projektu povinen informovat příjemce podpory a širokou  veřejnost o tom, že daný projekt je spolufinancován z Evropské unie (EU), Evropského sociálního fondu (ESF) a daného operačního progr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z Nařízení vyplývá povinnost pro realizátora projektu poskytnout souhlas se začleněním na veřejně přístupný seznam příjemců (to stvrzuje podpisem v Rozhodnutí o poskytnutí dotace. Tento seznam bude obsahovat základní údaje o příjemci, projektu (oblast podpory, stručný obsah, cílové skupiny, dobu trvání projektu apod.) a obdrženou finanční část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64E4-D877-42D2-8264-E36B0BC7D60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0880" y="746280"/>
            <a:ext cx="4968720" cy="3727440"/>
          </a:xfrm>
          <a:prstGeom prst="rect">
            <a:avLst/>
          </a:prstGeom>
          <a:ln w="0">
            <a:noFill/>
          </a:ln>
        </p:spPr>
      </p:sp>
      <p:sp>
        <p:nvSpPr>
          <p:cNvPr id="10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 toto nařízení navazují důležité manuály určující pravidla informování a propagace projektu, kterými je příjemce povinen se ří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tyto dokumenty jsou k dispozici na internetových stránkách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1A73-D3A5-4D34-A99E-4BC110CCF25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20880" y="746280"/>
            <a:ext cx="4968720" cy="3727440"/>
          </a:xfrm>
          <a:prstGeom prst="rect">
            <a:avLst/>
          </a:prstGeom>
          <a:ln w="0">
            <a:noFill/>
          </a:ln>
        </p:spPr>
      </p:sp>
      <p:sp>
        <p:nvSpPr>
          <p:cNvPr id="10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každého projektu podporovaného z OP LZZ musí příjemce zajistit splnění alespoň</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ásledujících minimálních požadavků tzv. Závazného balíč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 dodržování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označení školících místností projektu nebo označení všech věc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financovaných z OP LZZ prvky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vložení stručné prezentace projektu na webové stránky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vedený výčet představuje minimální povinnou publicitu každého projektu, jejíž dodržování bude předmětem k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splnění závazného balíčku bude považováno za závažné nedodržení pravidel publicity a porušení rozpočtové kázně a bude sankcionováno ve smyslu příslušných ustanovení právního aktu o poskytnutí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může v rámci publicity projektu realizovat i další aktivity v závislosti na obsahovém zaměření projektu a jeho velikosti. Doporučujeme např. vydání tiskové zprávy pro média při zahájení a ukončení projektu, zveřejnění informací o realizaci projektu na webových stránkách příjemce, pokud příjemce provozuje vlastní webové strán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EACD-02D8-49E2-828C-97D17D50CF3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0880" y="746280"/>
            <a:ext cx="4968720" cy="3727440"/>
          </a:xfrm>
          <a:prstGeom prst="rect">
            <a:avLst/>
          </a:prstGeom>
          <a:ln w="0">
            <a:noFill/>
          </a:ln>
        </p:spPr>
      </p:sp>
      <p:sp>
        <p:nvSpPr>
          <p:cNvPr id="110"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rovádění všech informačních a propagačních aktivit jsou příjemci podpory povinni informovat cílové skupiny projektu o finanční spoluúčasti EU, o ESF a o OP LZZ či projektu, a to prostřednictvím umístění následujících log a odkaz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Povinné minimum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4627-767A-4751-9932-1CCE0913A84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20880" y="746280"/>
            <a:ext cx="4968720" cy="3727440"/>
          </a:xfrm>
          <a:prstGeom prst="rect">
            <a:avLst/>
          </a:prstGeom>
          <a:ln w="0">
            <a:noFill/>
          </a:ln>
        </p:spPr>
      </p:sp>
      <p:sp>
        <p:nvSpPr>
          <p:cNvPr id="11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drobné zásady pro používání log ESF, EU a OPLZZ jsou stanoveny v Manuálu vizuální identity. Zejména je nutné respektovat správné řazení log, barevnost, odstupy, velikost, typ pís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aždé logo se vždy používá jako celek a je nepřípustné jakkoliv měnit jeho proporce a barevnost. Všechna loga jsou v běžně používaných formátech ke stažení na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oužívání log nezapomínejte na ostatní body „Povinného minima publicity OP LZZ“, tedy text Evropský sociální fond, motto Podporujeme vaši budoucnost a odkaz na webové stránky www.esfcr.c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rváte-li na uvedení svého partnera či dodavatele, můžete tak provést zmínkou v tex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FCDE-A3E0-40A7-AAF7-39D37D778A9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20880" y="746280"/>
            <a:ext cx="4968720" cy="3727440"/>
          </a:xfrm>
          <a:prstGeom prst="rect">
            <a:avLst/>
          </a:prstGeom>
          <a:ln w="0">
            <a:noFill/>
          </a:ln>
        </p:spPr>
      </p:sp>
      <p:sp>
        <p:nvSpPr>
          <p:cNvPr id="116"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Povinná loga OP LZZ je obecně třeba používat na dokumentech spojených s projektem a materiálech, které jsou z projektu hrazeny, neznamená to ale, že v praxi musí být úplně všude – pokud si budete kupovat papír, obálky a tužky, které budou sloužit pro běžnou administrativu, loga na nich být nemusí. Stejně tak nemusí být loga na dokumentech, které jsou generovány strojově. Naopak loga by být měla např. na zadávací dokumentaci, smlouvě s dodavatelem či na propagačních předmět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4ADC-26F2-4043-BDFB-9437CB28D3C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73308-413B-413A-A7D3-FF35C938B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A73B3-ADCB-4DA8-8787-1C61B062F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159B0-A476-476D-95D5-66EF3B00B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C877C-D041-4350-AFC1-A0076D468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4D944-7180-41FC-9A45-553681338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426C3-7557-4BC3-A1F3-D83C3CA52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4D21E-7DB3-4C6F-A36B-D2FE1ADFA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8B195-2E12-4D83-9C53-E3EA8492D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880A6-C0B5-49B8-8EEB-B930B05BD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60242-D153-4347-A614-461110A62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C9242-8196-46A1-936A-4DEF47FB0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340BE-CA8B-4EC0-81D5-228EF8743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2CDB-87F6-41BB-8134-AC6AABCD5CC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uropa.eu/ey2012/ey2012.jsp?langId=cs" TargetMode="External"/><Relationship Id="rId2" Type="http://schemas.openxmlformats.org/officeDocument/2006/relationships/hyperlink" Target="mailto:esf@mpsv.cz"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spolufinancovaných z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ESF/OP LZZ</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6" name=""/>
          <p:cNvSpPr txBox="1"/>
          <p:nvPr/>
        </p:nvSpPr>
        <p:spPr>
          <a:xfrm>
            <a:off x="457200" y="1268280"/>
            <a:ext cx="822960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a </a:t>
            </a:r>
            <a:r>
              <a:rPr b="1" lang="cs-CZ" sz="2800" spc="-1" strike="noStrike">
                <a:solidFill>
                  <a:srgbClr val="0d3673"/>
                </a:solidFill>
                <a:latin typeface="Arial"/>
              </a:rPr>
              <a:t>není třeba</a:t>
            </a:r>
            <a:r>
              <a:rPr b="0" lang="cs-CZ" sz="2800" spc="-1" strike="noStrike">
                <a:solidFill>
                  <a:srgbClr val="0d3673"/>
                </a:solidFill>
                <a:latin typeface="Arial"/>
              </a:rPr>
              <a:t> uvádět </a:t>
            </a:r>
            <a:r>
              <a:rPr b="1" lang="cs-CZ" sz="2800" spc="-1" strike="noStrike">
                <a:solidFill>
                  <a:srgbClr val="0d3673"/>
                </a:solidFill>
                <a:latin typeface="Arial"/>
              </a:rPr>
              <a:t>pouze v řadě</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o </a:t>
            </a:r>
            <a:r>
              <a:rPr b="1" lang="cs-CZ" sz="2800" spc="-1" strike="noStrike">
                <a:solidFill>
                  <a:srgbClr val="0d3673"/>
                </a:solidFill>
                <a:latin typeface="Arial"/>
              </a:rPr>
              <a:t>MPSV</a:t>
            </a:r>
            <a:r>
              <a:rPr b="0" lang="cs-CZ" sz="2800" spc="-1" strike="noStrike">
                <a:solidFill>
                  <a:srgbClr val="0d3673"/>
                </a:solidFill>
                <a:latin typeface="Arial"/>
              </a:rPr>
              <a:t> příjemci </a:t>
            </a:r>
            <a:r>
              <a:rPr b="1" lang="cs-CZ" sz="2800" spc="-1" strike="noStrike">
                <a:solidFill>
                  <a:srgbClr val="0d3673"/>
                </a:solidFill>
                <a:latin typeface="Arial"/>
              </a:rPr>
              <a:t>nemusí</a:t>
            </a:r>
            <a:r>
              <a:rPr b="0" lang="cs-CZ" sz="2800" spc="-1" strike="noStrike">
                <a:solidFill>
                  <a:srgbClr val="0d3673"/>
                </a:solidFill>
                <a:latin typeface="Arial"/>
              </a:rPr>
              <a:t> použív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ětu</a:t>
            </a:r>
            <a:r>
              <a:rPr b="0" lang="cs-CZ" sz="2800" spc="-1" strike="noStrike">
                <a:solidFill>
                  <a:srgbClr val="0d3673"/>
                </a:solidFill>
                <a:latin typeface="Arial"/>
              </a:rPr>
              <a:t> „Tento projekt je financován z ESF prostřednictvím OP LZZ a ze státního rozpočtu ČR.“ není třeba v tištěné podobě používat.</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8" name="PlaceHolder 2"/>
          <p:cNvSpPr>
            <a:spLocks noGrp="1"/>
          </p:cNvSpPr>
          <p:nvPr>
            <p:ph/>
          </p:nvPr>
        </p:nvSpPr>
        <p:spPr>
          <a:xfrm>
            <a:off x="456840" y="1268280"/>
            <a:ext cx="814716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arevná a černobílá varianta lo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Object 6"/>
          <p:cNvGraphicFramePr/>
          <p:nvPr/>
        </p:nvGraphicFramePr>
        <p:xfrm>
          <a:off x="1692360" y="4221000"/>
          <a:ext cx="1584360" cy="1086120"/>
        </p:xfrm>
        <a:graphic>
          <a:graphicData uri="http://schemas.openxmlformats.org/presentationml/2006/ole">
            <p:oleObj r:id="rId2" spid="">
              <p:embed/>
              <p:pic>
                <p:nvPicPr>
                  <p:cNvPr id="70" name="Object 6" descr=""/>
                  <p:cNvPicPr/>
                  <p:nvPr/>
                </p:nvPicPr>
                <p:blipFill>
                  <a:blip r:embed="rId3"/>
                  <a:stretch/>
                </p:blipFill>
                <p:spPr>
                  <a:xfrm>
                    <a:off x="1692360" y="4221000"/>
                    <a:ext cx="1584360" cy="1086120"/>
                  </a:xfrm>
                  <a:prstGeom prst="rect">
                    <a:avLst/>
                  </a:prstGeom>
                  <a:ln w="0">
                    <a:noFill/>
                  </a:ln>
                </p:spPr>
              </p:pic>
            </p:oleObj>
          </a:graphicData>
        </a:graphic>
      </p:graphicFrame>
      <p:pic>
        <p:nvPicPr>
          <p:cNvPr id="71" name="Picture 4" descr=""/>
          <p:cNvPicPr/>
          <p:nvPr/>
        </p:nvPicPr>
        <p:blipFill>
          <a:blip r:embed="rId4"/>
          <a:stretch/>
        </p:blipFill>
        <p:spPr>
          <a:xfrm>
            <a:off x="1116000" y="1989000"/>
            <a:ext cx="2664000" cy="816120"/>
          </a:xfrm>
          <a:prstGeom prst="rect">
            <a:avLst/>
          </a:prstGeom>
          <a:ln w="0">
            <a:noFill/>
          </a:ln>
        </p:spPr>
      </p:pic>
      <p:pic>
        <p:nvPicPr>
          <p:cNvPr id="72" name="Picture 5" descr=""/>
          <p:cNvPicPr/>
          <p:nvPr/>
        </p:nvPicPr>
        <p:blipFill>
          <a:blip r:embed="rId5"/>
          <a:stretch/>
        </p:blipFill>
        <p:spPr>
          <a:xfrm>
            <a:off x="1116000" y="3068640"/>
            <a:ext cx="2664000" cy="844560"/>
          </a:xfrm>
          <a:prstGeom prst="rect">
            <a:avLst/>
          </a:prstGeom>
          <a:ln w="0">
            <a:noFill/>
          </a:ln>
        </p:spPr>
      </p:pic>
      <p:sp>
        <p:nvSpPr>
          <p:cNvPr id="73" name="Line 8"/>
          <p:cNvSpPr/>
          <p:nvPr/>
        </p:nvSpPr>
        <p:spPr>
          <a:xfrm>
            <a:off x="1403280" y="4076640"/>
            <a:ext cx="1944720" cy="136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flipH="1">
            <a:off x="1547640" y="4149720"/>
            <a:ext cx="1944720" cy="1295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Picture 10" descr=""/>
          <p:cNvPicPr/>
          <p:nvPr/>
        </p:nvPicPr>
        <p:blipFill>
          <a:blip r:embed="rId6"/>
          <a:stretch/>
        </p:blipFill>
        <p:spPr>
          <a:xfrm>
            <a:off x="4356000" y="1989000"/>
            <a:ext cx="1328760" cy="1281240"/>
          </a:xfrm>
          <a:prstGeom prst="rect">
            <a:avLst/>
          </a:prstGeom>
          <a:ln w="0">
            <a:noFill/>
          </a:ln>
        </p:spPr>
      </p:pic>
      <p:sp>
        <p:nvSpPr>
          <p:cNvPr id="76" name="Picture 11"/>
          <p:cNvSpPr/>
          <p:nvPr/>
        </p:nvSpPr>
        <p:spPr>
          <a:xfrm>
            <a:off x="6516720" y="1989000"/>
            <a:ext cx="1441440" cy="139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icture 15"/>
          <p:cNvSpPr/>
          <p:nvPr/>
        </p:nvSpPr>
        <p:spPr>
          <a:xfrm>
            <a:off x="5292720" y="3860640"/>
            <a:ext cx="1871640" cy="12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6"/>
          <p:cNvSpPr/>
          <p:nvPr/>
        </p:nvSpPr>
        <p:spPr>
          <a:xfrm flipH="1">
            <a:off x="4932360" y="3573360"/>
            <a:ext cx="2735280" cy="182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7"/>
          <p:cNvSpPr/>
          <p:nvPr/>
        </p:nvSpPr>
        <p:spPr>
          <a:xfrm>
            <a:off x="5003640" y="3716280"/>
            <a:ext cx="2735280" cy="1677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1" name="PlaceHolder 2"/>
          <p:cNvSpPr>
            <a:spLocks noGrp="1"/>
          </p:cNvSpPr>
          <p:nvPr>
            <p:ph/>
          </p:nvPr>
        </p:nvSpPr>
        <p:spPr>
          <a:xfrm>
            <a:off x="456840" y="1413000"/>
            <a:ext cx="7931160" cy="47131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a:t>
            </a:r>
            <a:r>
              <a:rPr b="1" lang="cs-CZ" sz="2800" spc="-1" strike="noStrike">
                <a:solidFill>
                  <a:srgbClr val="0d3673"/>
                </a:solidFill>
                <a:latin typeface="Arial"/>
              </a:rPr>
              <a:t>školících místností a certifikátů</a:t>
            </a:r>
            <a:r>
              <a:rPr b="0" lang="cs-CZ" sz="2800" spc="-1" strike="noStrike">
                <a:solidFill>
                  <a:srgbClr val="0d3673"/>
                </a:solidFill>
                <a:latin typeface="Arial"/>
              </a:rPr>
              <a:t> povinnými logy:</a:t>
            </a:r>
            <a:endParaRPr b="0" lang="en-US" sz="28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ANO: </a:t>
            </a:r>
            <a:r>
              <a:rPr b="0" lang="cs-CZ" sz="2400" spc="-1" strike="noStrike">
                <a:solidFill>
                  <a:srgbClr val="0d3673"/>
                </a:solidFill>
                <a:latin typeface="Arial"/>
              </a:rPr>
              <a:t>kurz pořádaný konkrétně pro příjemce;</a:t>
            </a:r>
            <a:endParaRPr b="0" lang="en-US" sz="24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NE: </a:t>
            </a:r>
            <a:r>
              <a:rPr b="0" lang="cs-CZ" sz="2400" spc="-1" strike="noStrike">
                <a:solidFill>
                  <a:srgbClr val="0d3673"/>
                </a:solidFill>
                <a:latin typeface="Arial"/>
              </a:rPr>
              <a:t>kurz pro veřejnost, kterého se příjemce pouze účastní.</a:t>
            </a:r>
            <a:r>
              <a:rPr b="1" lang="cs-CZ" sz="2400" spc="-1" strike="noStrike">
                <a:solidFill>
                  <a:srgbClr val="0d3673"/>
                </a:solidFill>
                <a:latin typeface="Arial"/>
              </a:rPr>
              <a:t>  </a:t>
            </a:r>
            <a:endParaRPr b="0" lang="en-US" sz="24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Vlaječky ČR a EU není třeba používat.</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o označení místnosti není třeba tisknout plakáty či bannery, stačí dostatečně velká a viditelná cedule (čtvrtka) s řadou l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ložení prezentace na web</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pro všechny příjemce (součást „závazného balíčku“ z Manuálu pro publicitu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doporučujeme prezentaci vložit </a:t>
            </a:r>
            <a:r>
              <a:rPr b="1" lang="cs-CZ" sz="2800" spc="-1" strike="noStrike">
                <a:solidFill>
                  <a:srgbClr val="0d3673"/>
                </a:solidFill>
                <a:latin typeface="Arial"/>
              </a:rPr>
              <a:t>při zahájení projektu</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se vkládá prostřednictvím jednoduchého </a:t>
            </a:r>
            <a:r>
              <a:rPr b="1" lang="cs-CZ" sz="2800" spc="-1" strike="noStrike">
                <a:solidFill>
                  <a:srgbClr val="0d3673"/>
                </a:solidFill>
                <a:latin typeface="Arial"/>
              </a:rPr>
              <a:t>on-line formulá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Kontrola publicity</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informovat o provedených informačních a propagačních aktivitách projektu v monitorovacích zprávách</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ředmětem kontroly bude dodržování veškerých podmínek informačních a propagačních opatření souvisejících s ESF uvedených v projektové žádosti a v Rozhodnutí o poskytnutí dotace. </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ontrola dodržování „Závazného balíčku provádění propagačních a informačních aktivit“.</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vinnost uchovat doklady, předměty a materiály související s propagací projektu pro potřeby kontroly.</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ublicita spadá do nepřímých nákladů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Shrnutí</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2 manuály</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pro publicitu OP LZ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vizuální identity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3 základní povinnosti</a:t>
            </a:r>
            <a:r>
              <a:rPr b="0" lang="cs-CZ" sz="2800" spc="-1" strike="noStrike">
                <a:solidFill>
                  <a:srgbClr val="0d3673"/>
                </a:solidFill>
                <a:latin typeface="Arial"/>
              </a:rPr>
              <a:t> (závazný balíček)</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á loga</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školící místnosti a vybavení</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na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d3673"/>
                </a:solidFill>
                <a:latin typeface="Arial"/>
              </a:rPr>
              <a:t>míra podpory zaměřené na věk. skupinu50+</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kyny v případě bonifikace ve vyrozumění o schválení žádosti o dotaci</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uvedení loga evropského roku stárnutí na webových stránkách projektu, a na materiálech, které vzniknou v projektu a budou mít (přímou) vazbu na cílovou skupinu 50+ (</a:t>
            </a:r>
            <a:r>
              <a:rPr b="0" lang="cs-CZ" sz="2400" spc="-1" strike="noStrike" u="sng">
                <a:solidFill>
                  <a:srgbClr val="009999"/>
                </a:solidFill>
                <a:uFillTx/>
                <a:latin typeface="Arial"/>
                <a:hlinkClick r:id="rId1"/>
              </a:rPr>
              <a:t>http://europa.eu/ey2012/ey2012.jsp?langId=cs</a:t>
            </a:r>
            <a:r>
              <a:rPr b="0" lang="cs-CZ" sz="2400" spc="-1" strike="noStrike">
                <a:solidFill>
                  <a:srgbClr val="0d3673"/>
                </a:solidFill>
                <a:latin typeface="Arial"/>
              </a:rPr>
              <a:t>) </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souhrnná publicita k EY 2012 v podobě zvláštní přílohy ke každé monitorovací zprávě (+ elektronicky na </a:t>
            </a:r>
            <a:r>
              <a:rPr b="0" lang="cs-CZ" sz="2400" spc="-1" strike="noStrike" u="sng">
                <a:solidFill>
                  <a:srgbClr val="009999"/>
                </a:solidFill>
                <a:uFillTx/>
                <a:latin typeface="Arial"/>
                <a:hlinkClick r:id="rId2"/>
              </a:rPr>
              <a:t>esf@mpsv.cz</a:t>
            </a:r>
            <a:r>
              <a:rPr b="0" lang="cs-CZ" sz="2400" spc="-1" strike="noStrike">
                <a:solidFill>
                  <a:srgbClr val="0d3673"/>
                </a:solidFill>
                <a:latin typeface="Arial"/>
              </a:rPr>
              <a:t>, předmět emailu = EY 2012, CZ.1.04/1.1.02/94.xxxxx)</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	</a:t>
            </a:r>
            <a:r>
              <a:rPr b="1" lang="cs-CZ" sz="2400" spc="-1" strike="noStrike">
                <a:solidFill>
                  <a:srgbClr val="0d3673"/>
                </a:solidFill>
                <a:latin typeface="Arial"/>
              </a:rPr>
              <a:t>Příloha MZ věnovaná práci s CS osob nad 50 let bude obsahovat tyto náležitosti:</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výsledku práce s CS osob 50+ za sledované období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fotodokumentace práce s CS (cca 4 fotografie, u nichž má příjemce písemný souhlas vyobrazených osob k uveřejnění);</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jak projekt pomohl jednomu konkrétnímu účastníkovi (v případě že to dosavadní vývoj aktivit v projektu umožňuje) –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 ZMZ navíc přiložíte zhodnocení celkového přínosu pro CS osob 50+ (cca 200 slov).</a:t>
            </a:r>
            <a:endParaRPr b="0" lang="en-US" sz="24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Zdroje informací a kontakt</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www.esfcr.cz</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	</a:t>
            </a:r>
            <a:r>
              <a:rPr b="0" lang="cs-CZ" sz="3200" spc="-1" strike="noStrike">
                <a:solidFill>
                  <a:srgbClr val="0d3673"/>
                </a:solidFill>
                <a:latin typeface="Arial"/>
              </a:rPr>
              <a:t>Programové období 2007-13 </a:t>
            </a:r>
            <a:r>
              <a:rPr b="0" lang="cs-CZ" sz="3200" spc="-1" strike="noStrike">
                <a:solidFill>
                  <a:srgbClr val="0d3673"/>
                </a:solidFill>
                <a:latin typeface="Arial"/>
                <a:ea typeface="Arial"/>
              </a:rPr>
              <a:t>→</a:t>
            </a:r>
            <a:r>
              <a:rPr b="0" lang="cs-CZ" sz="3200" spc="-1" strike="noStrike">
                <a:solidFill>
                  <a:srgbClr val="0d3673"/>
                </a:solidFill>
                <a:latin typeface="Arial"/>
              </a:rPr>
              <a:t> OP LZZ </a:t>
            </a:r>
            <a:r>
              <a:rPr b="0" lang="cs-CZ" sz="3200" spc="-1" strike="noStrike">
                <a:solidFill>
                  <a:srgbClr val="0d3673"/>
                </a:solidFill>
                <a:latin typeface="Arial"/>
                <a:ea typeface="Arial"/>
              </a:rPr>
              <a:t>→</a:t>
            </a:r>
            <a:r>
              <a:rPr b="0" lang="cs-CZ" sz="3200" spc="-1" strike="noStrike">
                <a:solidFill>
                  <a:srgbClr val="0d3673"/>
                </a:solidFill>
                <a:latin typeface="Arial"/>
              </a:rPr>
              <a:t> Publicit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manuály, šablony, loga, prezentace</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esf@mpsv.cz</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Doporučujeme odebírat </a:t>
            </a:r>
            <a:r>
              <a:rPr b="1" lang="cs-CZ" sz="2400" spc="-1" strike="noStrike">
                <a:solidFill>
                  <a:srgbClr val="0d3673"/>
                </a:solidFill>
                <a:latin typeface="Arial"/>
              </a:rPr>
              <a:t>novinky e-mailem</a:t>
            </a:r>
            <a:r>
              <a:rPr b="0" lang="cs-CZ" sz="2400" spc="-1" strike="noStrike">
                <a:solidFill>
                  <a:srgbClr val="0d3673"/>
                </a:solidFill>
                <a:latin typeface="Arial"/>
              </a:rPr>
              <a:t>, kde se dozvíte o aktuálních výzvách, seminářích, realizovaných projektech, zadávacích řízeních a podobn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kládání informací na web</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Registrace</a:t>
            </a:r>
            <a:r>
              <a:rPr b="0" lang="cs-CZ" sz="2800" spc="-1" strike="noStrike">
                <a:solidFill>
                  <a:srgbClr val="0d3673"/>
                </a:solidFill>
                <a:latin typeface="Arial"/>
              </a:rPr>
              <a:t> na stránkách www.esfcr.c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Realizované projekty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projekt</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Zadávací řízení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zadávací řízení</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O webu ESFCR – všechny návod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3673"/>
                </a:solidFill>
                <a:latin typeface="Arial"/>
              </a:rPr>
              <a:t>Tím, že budete dodržovat pravidla publicity OP LZZ:</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d3673"/>
                </a:solidFill>
                <a:latin typeface="Arial"/>
              </a:rPr>
              <a:t>informujete veřejnost o Vašem projektu, o tom, co zajímavého a </a:t>
            </a:r>
            <a:r>
              <a:rPr b="0" lang="cs-CZ" sz="2000" spc="-1" strike="noStrike">
                <a:solidFill>
                  <a:srgbClr val="0d3673"/>
                </a:solidFill>
                <a:latin typeface="Arial"/>
              </a:rPr>
              <a:t>užitečného realizujete a jakých výsledků jste dosáhli</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spirujete a motivujete ostatní možné předkladatele k realizaci vlastních projektů</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formujete o tom, z čeho jste aktivity Vašeho projektu financovali a ukážete tak ostatním, kde je možné finanční prostředky získat</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dáváte určitou záruku kvality účastníkům a účastnicím Vašeho projektu</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nebudete mít problémy při kontrolách a audite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380880" y="99072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Děkuji Vám za pozornost!</a:t>
            </a: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www.esfcr.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esf@mpsv.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2" name=""/>
          <p:cNvSpPr txBox="1"/>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povinná</a:t>
            </a:r>
            <a:r>
              <a:rPr b="0" lang="cs-CZ" sz="3200" spc="-1" strike="noStrike">
                <a:solidFill>
                  <a:srgbClr val="0d3673"/>
                </a:solidFill>
                <a:latin typeface="Arial"/>
              </a:rPr>
              <a:t> </a:t>
            </a:r>
            <a:r>
              <a:rPr b="1" lang="cs-CZ" sz="3200" spc="-1" strike="noStrike">
                <a:solidFill>
                  <a:srgbClr val="0d3673"/>
                </a:solidFill>
                <a:latin typeface="Arial"/>
              </a:rPr>
              <a:t>součást všech projektů</a:t>
            </a:r>
            <a:r>
              <a:rPr b="0" lang="cs-CZ" sz="3200" spc="-1" strike="noStrike">
                <a:solidFill>
                  <a:srgbClr val="0d3673"/>
                </a:solidFill>
                <a:latin typeface="Arial"/>
              </a:rPr>
              <a:t> spolufinancovaných z fondů EU </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je předmětem kontrol</a:t>
            </a:r>
            <a:endParaRPr b="0" lang="en-US" sz="2800" spc="-1" strike="noStrike">
              <a:solidFill>
                <a:srgbClr val="000000"/>
              </a:solidFill>
              <a:latin typeface="Arial"/>
            </a:endParaRPr>
          </a:p>
          <a:p>
            <a:pPr marL="343080" indent="-343080">
              <a:lnSpc>
                <a:spcPct val="90000"/>
              </a:lnSpc>
              <a:spcBef>
                <a:spcPts val="3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Nařízení Komise č. 1828/2006</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informování příjemců i široké veřejnosti, že projekt je spolufinancován z EU</a:t>
            </a:r>
            <a:endParaRPr b="0" lang="en-US" sz="24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ost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uvedení příjemců na veřejně přístupném seznam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pro publicitu OP LZZ   </a:t>
            </a:r>
            <a:r>
              <a:rPr b="0" lang="cs-CZ" sz="3200" spc="-1" strike="noStrike">
                <a:solidFill>
                  <a:srgbClr val="0d3673"/>
                </a:solidFill>
                <a:latin typeface="Arial"/>
                <a:ea typeface="Times New Roman"/>
              </a:rPr>
              <a:t>stanovuje základní pravidla týkající se publicity v projektech</a:t>
            </a:r>
            <a:endParaRPr b="0" lang="en-US" sz="3200" spc="-1" strike="noStrike">
              <a:solidFill>
                <a:srgbClr val="000000"/>
              </a:solidFill>
              <a:latin typeface="Arial"/>
            </a:endParaRPr>
          </a:p>
          <a:p>
            <a:pPr marL="609480" indent="-609480">
              <a:spcBef>
                <a:spcPts val="24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vizuální identity OP LZZ</a:t>
            </a:r>
            <a:r>
              <a:rPr b="0" lang="cs-CZ" sz="3200" spc="-1" strike="noStrike">
                <a:solidFill>
                  <a:srgbClr val="0d3673"/>
                </a:solidFill>
                <a:latin typeface="Arial"/>
                <a:ea typeface="Times New Roman"/>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ea typeface="Times New Roman"/>
              </a:rPr>
              <a:t>	</a:t>
            </a:r>
            <a:r>
              <a:rPr b="0" lang="cs-CZ" sz="3200" spc="-1" strike="noStrike">
                <a:solidFill>
                  <a:srgbClr val="0d3673"/>
                </a:solidFill>
                <a:latin typeface="Arial"/>
                <a:ea typeface="Times New Roman"/>
              </a:rPr>
              <a:t>ur</a:t>
            </a:r>
            <a:r>
              <a:rPr b="0" lang="cs-CZ" sz="3200" spc="-1" strike="noStrike">
                <a:solidFill>
                  <a:srgbClr val="0d3673"/>
                </a:solidFill>
                <a:latin typeface="Arial"/>
              </a:rPr>
              <a:t>č</a:t>
            </a:r>
            <a:r>
              <a:rPr b="0" lang="cs-CZ" sz="3200" spc="-1" strike="noStrike">
                <a:solidFill>
                  <a:srgbClr val="0d3673"/>
                </a:solidFill>
                <a:latin typeface="Arial"/>
                <a:ea typeface="Times New Roman"/>
              </a:rPr>
              <a:t>uje zásady správného pou</a:t>
            </a:r>
            <a:r>
              <a:rPr b="0" lang="cs-CZ" sz="3200" spc="-1" strike="noStrike">
                <a:solidFill>
                  <a:srgbClr val="0d3673"/>
                </a:solidFill>
                <a:latin typeface="Arial"/>
              </a:rPr>
              <a:t>ž</a:t>
            </a:r>
            <a:r>
              <a:rPr b="0" lang="cs-CZ" sz="3200" spc="-1" strike="noStrike">
                <a:solidFill>
                  <a:srgbClr val="0d3673"/>
                </a:solidFill>
                <a:latin typeface="Arial"/>
                <a:ea typeface="Times New Roman"/>
              </a:rPr>
              <a:t>ívání povinných log</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6" name=""/>
          <p:cNvSpPr txBox="1"/>
          <p:nvPr/>
        </p:nvSpPr>
        <p:spPr>
          <a:xfrm>
            <a:off x="457200" y="1341000"/>
            <a:ext cx="8229600" cy="478476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Závazný balíček</a:t>
            </a:r>
            <a:r>
              <a:rPr b="0" lang="cs-CZ" sz="3200" spc="-1" strike="noStrike">
                <a:solidFill>
                  <a:srgbClr val="0d3673"/>
                </a:solidFill>
                <a:latin typeface="Arial"/>
              </a:rPr>
              <a:t> </a:t>
            </a:r>
            <a:endParaRPr b="0" lang="en-US" sz="32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k provádění propagačních a informačních aktivit</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povinné minimum publicity</a:t>
            </a:r>
            <a:r>
              <a:rPr b="1" lang="cs-CZ" sz="3200" spc="-1" strike="noStrike">
                <a:solidFill>
                  <a:srgbClr val="0d3673"/>
                </a:solidFill>
                <a:latin typeface="Arial"/>
              </a:rPr>
              <a:t> </a:t>
            </a:r>
            <a:r>
              <a:rPr b="0" lang="en-US" sz="3200" spc="-1" strike="noStrike">
                <a:solidFill>
                  <a:srgbClr val="0d3673"/>
                </a:solidFill>
                <a:latin typeface="Arial"/>
                <a:ea typeface="Arial"/>
              </a:rPr>
              <a:t>~</a:t>
            </a:r>
            <a:r>
              <a:rPr b="1" lang="cs-CZ" sz="3200" spc="-1" strike="noStrike">
                <a:solidFill>
                  <a:srgbClr val="0d3673"/>
                </a:solidFill>
                <a:latin typeface="Arial"/>
                <a:ea typeface="Arial"/>
              </a:rPr>
              <a:t> </a:t>
            </a:r>
            <a:r>
              <a:rPr b="1" lang="cs-CZ" sz="3200" spc="-1" strike="noStrike" u="sng">
                <a:solidFill>
                  <a:srgbClr val="0d3673"/>
                </a:solidFill>
                <a:uFillTx/>
                <a:latin typeface="Arial"/>
              </a:rPr>
              <a:t>loga</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označení</a:t>
            </a:r>
            <a:r>
              <a:rPr b="1" lang="cs-CZ" sz="3200" spc="-1" strike="noStrike">
                <a:solidFill>
                  <a:srgbClr val="0d3673"/>
                </a:solidFill>
                <a:latin typeface="Arial"/>
              </a:rPr>
              <a:t> </a:t>
            </a:r>
            <a:r>
              <a:rPr b="1" lang="cs-CZ" sz="3200" spc="-1" strike="noStrike" u="sng">
                <a:solidFill>
                  <a:srgbClr val="0d3673"/>
                </a:solidFill>
                <a:uFillTx/>
                <a:latin typeface="Arial"/>
              </a:rPr>
              <a:t>školící místnosti</a:t>
            </a:r>
            <a:r>
              <a:rPr b="1" lang="cs-CZ" sz="3200" spc="-1" strike="noStrike">
                <a:solidFill>
                  <a:srgbClr val="0d3673"/>
                </a:solidFill>
                <a:latin typeface="Arial"/>
              </a:rPr>
              <a:t> </a:t>
            </a:r>
            <a:r>
              <a:rPr b="0" lang="cs-CZ" sz="3200" spc="-1" strike="noStrike">
                <a:solidFill>
                  <a:srgbClr val="0d3673"/>
                </a:solidFill>
                <a:latin typeface="Arial"/>
              </a:rPr>
              <a:t>(+ vybavení)</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ložení </a:t>
            </a:r>
            <a:r>
              <a:rPr b="1" lang="cs-CZ" sz="3200" spc="-1" strike="noStrike" u="sng">
                <a:solidFill>
                  <a:srgbClr val="0d3673"/>
                </a:solidFill>
                <a:uFillTx/>
                <a:latin typeface="Arial"/>
              </a:rPr>
              <a:t>prezentace projektu</a:t>
            </a:r>
            <a:r>
              <a:rPr b="1" lang="cs-CZ" sz="3200" spc="-1" strike="noStrike">
                <a:solidFill>
                  <a:srgbClr val="0d3673"/>
                </a:solidFill>
                <a:latin typeface="Arial"/>
              </a:rPr>
              <a:t> </a:t>
            </a:r>
            <a:r>
              <a:rPr b="0" lang="cs-CZ" sz="3200" spc="-1" strike="noStrike">
                <a:solidFill>
                  <a:srgbClr val="0d3673"/>
                </a:solidFill>
                <a:latin typeface="Arial"/>
              </a:rPr>
              <a:t>na www.esfcr.cz</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8"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a)</a:t>
            </a:r>
            <a:r>
              <a:rPr b="1" lang="cs-CZ" sz="2800" spc="-1" strike="noStrike">
                <a:solidFill>
                  <a:srgbClr val="0d3673"/>
                </a:solidFill>
                <a:latin typeface="Arial"/>
              </a:rPr>
              <a:t> logo fondu</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 </a:t>
            </a:r>
            <a:r>
              <a:rPr b="1" lang="cs-CZ" sz="2800" spc="-1" strike="noStrike">
                <a:solidFill>
                  <a:srgbClr val="0d3673"/>
                </a:solidFill>
                <a:latin typeface="Arial"/>
              </a:rPr>
              <a:t>název „Evropský sociální fond v ČR“</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c)</a:t>
            </a:r>
            <a:r>
              <a:rPr b="0" lang="cs-CZ" sz="2800" spc="-1" strike="noStrike">
                <a:solidFill>
                  <a:srgbClr val="0d3673"/>
                </a:solidFill>
                <a:latin typeface="Arial"/>
              </a:rPr>
              <a:t> </a:t>
            </a:r>
            <a:r>
              <a:rPr b="1" lang="cs-CZ" sz="2800" spc="-1" strike="noStrike">
                <a:solidFill>
                  <a:srgbClr val="0d3673"/>
                </a:solidFill>
                <a:latin typeface="Arial"/>
              </a:rPr>
              <a:t>logo E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d)</a:t>
            </a:r>
            <a:r>
              <a:rPr b="0" lang="cs-CZ" sz="2800" spc="-1" strike="noStrike">
                <a:solidFill>
                  <a:srgbClr val="0d3673"/>
                </a:solidFill>
                <a:latin typeface="Arial"/>
              </a:rPr>
              <a:t> </a:t>
            </a:r>
            <a:r>
              <a:rPr b="1" lang="cs-CZ" sz="2800" spc="-1" strike="noStrike">
                <a:solidFill>
                  <a:srgbClr val="0d3673"/>
                </a:solidFill>
                <a:latin typeface="Arial"/>
              </a:rPr>
              <a:t>logo operačního program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e) </a:t>
            </a:r>
            <a:r>
              <a:rPr b="1" lang="cs-CZ" sz="2800" spc="-1" strike="noStrike">
                <a:solidFill>
                  <a:srgbClr val="0d3673"/>
                </a:solidFill>
                <a:latin typeface="Arial"/>
              </a:rPr>
              <a:t>motto „Podporujeme vaši budoucnos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f) </a:t>
            </a:r>
            <a:r>
              <a:rPr b="1" lang="cs-CZ" sz="2800" spc="-1" strike="noStrike">
                <a:solidFill>
                  <a:srgbClr val="0d3673"/>
                </a:solidFill>
                <a:latin typeface="Arial"/>
              </a:rPr>
              <a:t>odkaz</a:t>
            </a:r>
            <a:r>
              <a:rPr b="0" lang="cs-CZ" sz="2800" spc="-1" strike="noStrike">
                <a:solidFill>
                  <a:srgbClr val="0d3673"/>
                </a:solidFill>
                <a:latin typeface="Arial"/>
              </a:rPr>
              <a:t>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vizuální identity</a:t>
            </a:r>
            <a:endParaRPr b="0" lang="en-US" sz="4400" spc="-1" strike="noStrike">
              <a:solidFill>
                <a:srgbClr val="000000"/>
              </a:solidFill>
              <a:latin typeface="Arial"/>
            </a:endParaRPr>
          </a:p>
        </p:txBody>
      </p:sp>
      <p:sp>
        <p:nvSpPr>
          <p:cNvPr id="60" name=""/>
          <p:cNvSpPr txBox="1"/>
          <p:nvPr/>
        </p:nvSpPr>
        <p:spPr>
          <a:xfrm>
            <a:off x="468360" y="1699920"/>
            <a:ext cx="8229600" cy="4281480"/>
          </a:xfrm>
          <a:prstGeom prst="rect">
            <a:avLst/>
          </a:prstGeom>
          <a:noFill/>
          <a:ln w="0">
            <a:noFill/>
          </a:ln>
        </p:spPr>
        <p:txBody>
          <a:bodyPr anchor="t">
            <a:normAutofit/>
          </a:bodyPr>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elikost, řazení, rozestupy povinných log</a:t>
            </a:r>
            <a:endParaRPr b="0" lang="en-US" sz="32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barevnost, typy písma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Lze použít i logo příjemce, případně logo projektu.</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d3673"/>
                </a:solidFill>
                <a:latin typeface="Arial"/>
              </a:rPr>
              <a:t>Loga dodavatelů se nesmí používat</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Kompletní řady i samostatná loga jsou ke stažení na </a:t>
            </a:r>
            <a:r>
              <a:rPr b="0" lang="cs-CZ" sz="3200" spc="-1" strike="noStrike" u="sng">
                <a:solidFill>
                  <a:srgbClr val="009999"/>
                </a:solidFill>
                <a:uFillTx/>
                <a:latin typeface="Arial"/>
                <a:hlinkClick r:id="rId2"/>
              </a:rPr>
              <a:t>www.esfcr.cz</a:t>
            </a:r>
            <a:r>
              <a:rPr b="0" lang="cs-CZ" sz="3200" spc="-1" strike="noStrike">
                <a:solidFill>
                  <a:srgbClr val="0d3673"/>
                </a:solidFill>
                <a:latin typeface="Arial"/>
              </a:rPr>
              <a:t>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 × publicitní aktivity:</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minimum publicity</a:t>
            </a:r>
            <a:r>
              <a:rPr b="0" lang="cs-CZ" sz="2800" spc="-1" strike="noStrike">
                <a:solidFill>
                  <a:srgbClr val="0d3673"/>
                </a:solidFill>
                <a:latin typeface="Arial"/>
              </a:rPr>
              <a:t> = povinná loga, uvádí všichni příjemci; propagace programu, fondu, EU (</a:t>
            </a:r>
            <a:r>
              <a:rPr b="1" lang="cs-CZ" sz="2800" spc="-1" strike="noStrike">
                <a:solidFill>
                  <a:srgbClr val="0d3673"/>
                </a:solidFill>
                <a:latin typeface="Arial"/>
              </a:rPr>
              <a:t>kdo</a:t>
            </a:r>
            <a:r>
              <a:rPr b="0" lang="cs-CZ" sz="2800" spc="-1" strike="noStrike">
                <a:solidFill>
                  <a:srgbClr val="0d3673"/>
                </a:solidFill>
                <a:latin typeface="Arial"/>
              </a:rPr>
              <a:t> peníze dává);</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publicitní aktivity</a:t>
            </a:r>
            <a:r>
              <a:rPr b="0" lang="cs-CZ" sz="2800" spc="-1" strike="noStrike">
                <a:solidFill>
                  <a:srgbClr val="0d3673"/>
                </a:solidFill>
                <a:latin typeface="Arial"/>
              </a:rPr>
              <a:t> = aktivity specifikované v projektové žádosti; zejména propagace projektu (</a:t>
            </a:r>
            <a:r>
              <a:rPr b="1" lang="cs-CZ" sz="2800" spc="-1" strike="noStrike">
                <a:solidFill>
                  <a:srgbClr val="0d3673"/>
                </a:solidFill>
                <a:latin typeface="Arial"/>
              </a:rPr>
              <a:t>na co</a:t>
            </a:r>
            <a:r>
              <a:rPr b="0" lang="cs-CZ" sz="2800" spc="-1" strike="noStrike">
                <a:solidFill>
                  <a:srgbClr val="0d3673"/>
                </a:solidFill>
                <a:latin typeface="Arial"/>
              </a:rPr>
              <a:t> se peníze dávají).</a:t>
            </a: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Loga</a:t>
            </a:r>
            <a:r>
              <a:rPr b="0" lang="cs-CZ" sz="2400" spc="-1" strike="noStrike">
                <a:solidFill>
                  <a:srgbClr val="0d3673"/>
                </a:solidFill>
                <a:latin typeface="Arial"/>
              </a:rPr>
              <a:t> je třeba používat na dokumentech spojených s projektem a na materiálech/předmětech hrazených z projektu, nemusí být ale úplně všude.</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ANO</a:t>
            </a:r>
            <a:r>
              <a:rPr b="0" lang="cs-CZ" sz="2000" spc="-1" strike="noStrike">
                <a:solidFill>
                  <a:srgbClr val="0d3673"/>
                </a:solidFill>
                <a:latin typeface="Arial"/>
              </a:rPr>
              <a:t>: smlouvy, zadávací dokumentace, letáky, brožury, propagační předměty, prezenční listiny atd.</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NE</a:t>
            </a:r>
            <a:r>
              <a:rPr b="0" lang="cs-CZ" sz="2000" spc="-1" strike="noStrike">
                <a:solidFill>
                  <a:srgbClr val="0d3673"/>
                </a:solidFill>
                <a:latin typeface="Arial"/>
              </a:rPr>
              <a:t>: kancelářské potřeby pro běžnou administrativu, faktury a objednávky (generované strojově)</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Lze použít </a:t>
            </a:r>
            <a:r>
              <a:rPr b="1" lang="cs-CZ" sz="2400" spc="-1" strike="noStrike">
                <a:solidFill>
                  <a:srgbClr val="0d3673"/>
                </a:solidFill>
                <a:latin typeface="Arial"/>
              </a:rPr>
              <a:t>samolepku</a:t>
            </a:r>
            <a:r>
              <a:rPr b="0" lang="cs-CZ" sz="2400" spc="-1" strike="noStrike">
                <a:solidFill>
                  <a:srgbClr val="0d3673"/>
                </a:solidFill>
                <a:latin typeface="Arial"/>
              </a:rPr>
              <a:t> nebo </a:t>
            </a:r>
            <a:r>
              <a:rPr b="1" lang="cs-CZ" sz="2400" spc="-1" strike="noStrike">
                <a:solidFill>
                  <a:srgbClr val="0d3673"/>
                </a:solidFill>
                <a:latin typeface="Arial"/>
              </a:rPr>
              <a:t>razítko</a:t>
            </a:r>
            <a:r>
              <a:rPr b="0" lang="cs-CZ" sz="2400" spc="-1" strike="noStrike">
                <a:solidFill>
                  <a:srgbClr val="0d3673"/>
                </a:solidFill>
                <a:latin typeface="Arial"/>
              </a:rPr>
              <a:t>.</a:t>
            </a:r>
            <a:endParaRPr b="0" lang="en-US" sz="2400" spc="-1" strike="noStrike">
              <a:solidFill>
                <a:srgbClr val="000000"/>
              </a:solidFill>
              <a:latin typeface="Arial"/>
            </a:endParaRPr>
          </a:p>
          <a:p>
            <a:pPr marL="343080" indent="-343080">
              <a:spcBef>
                <a:spcPts val="24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avelková Marcela, Mgr. (MPSV)</cp:lastModifiedBy>
  <dcterms:modified xsi:type="dcterms:W3CDTF">2013-10-03T08:09:23Z</dcterms:modified>
  <cp:revision>73</cp:revision>
  <dc:subject/>
  <dc:title>Snímek 1</dc:title>
</cp:coreProperties>
</file>