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2120-DC42-492E-A6FE-77916320AA2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C7AD-AF5F-4FF5-8FC7-7F3F462747B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89E5-1201-4F87-AFAC-D9EF0EFFE4C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36D0-75E7-4BAC-977D-C98DB020FB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1CF1-AB42-4FF2-A72A-33452746CD8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A6D5-3FD7-40DD-A017-91804AD55A7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4E61-3531-46C1-98F0-4775A9C2412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6389-321B-4934-B00E-C3B90E98E12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692A-972F-4A27-8A2C-2A111416D93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397B-8B11-48BE-807E-F712A91C0F0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BBD0-366E-4433-AD06-99AD4C9A6B4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A648-6AB1-4827-86FA-1748F97B477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Zákon o účetnictv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úplné nebo neprůkazné vedení účetnictv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orušování zásady věcné a časové souvislosti při účtování o nákladech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náležitosti účetního dokladu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é opravy účetních dokladů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ní účtováno o pohledávkách a závazcích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existence, neúplnost nebo neaktuálnost vnitřních předpisů stanovených zákone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statečné zajištění archivace účetních dokladů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oklad není označen zkratkou či jiným interním označením, že jde o výdaj z daného projektu, který čerpá z ES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aktury neoznačeny číslem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esouvisí přímo se z. o účtu, ale je povinnou náležitostí u účetních dokladů z ES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Ověření hospodárnosti, efektivnosti a účelnosti výdajů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cen a mezd v místě obvyklých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Uzavření dodatku smlouvy o zvýšení ceny bez dalších podmín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Sjednání nestandardních nebo jednostranně výhodných podmínek (nepřiměřeně vysoký úrok z prodlení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chnické zhodnocení najaté nemovitosti bez protiplnění pronajímatel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Zboží nebo služba jsou dodávány přes několik mezičlánků</a:t>
            </a: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ákup vybavení před závěrem projekt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racovněprávní vzta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úplné pracovní smlouvy/DPČ/DPP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tanovení rozsahu práce na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stanoveného rozsahu pracovní doby, příp. nesprávné stanovení rozsahu pracovní doby v PS/DPČ/DP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řekrývání pracovních úvazků na projektech ES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Cestovní náhrad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jasná kritéria pro určení dopravního prostředku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oskytnutí vyšších náhrad, než stanovuje právní úprava, příp. vnitřní předpi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krácení stravného v případě poskytnutí stravován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vyplacení cestovní náhrady neoprávněné osobě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držení lhůt při proplacení cestovních náhrad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rmín pracovní cesty překrývá aktivity projekt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Dodržování schváleného 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oznámené změny v 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řekročení částek v odsouhlaseném  rozpočtu nad rámec povoleného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movolné přesuny financí mezi kapitolami 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edodržení pravidel uznatelnosti výdajů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Zadávací říze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při přípravě ZŘ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zvolení nesprávného postupu pro výběr dodavatele/dělení zakáz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diskriminační kvalifikační kritéria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statečně/netransparentně stanovená hodnotící kritéria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hodnotící kritéria použita jako kvalifikační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v průběhu ZŘ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stanovených lhůt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oslovení dostatečného počtu dodavatelů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ý způsob zveřejněn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vyloučení uchazeče nesplňujícího kvalifikační kritéria, nejasné hodnocení nabíd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pravidel při složení hodnotící komise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dokumentace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(např. doklady o doručení písemností (dodejky, doručenky z el. komunik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nedostatečně a nejasně popsaný průběh hodnocení v zápisu z hodnocení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bez dostatku jiné (pomocné) evidence – hodnotící tabulky apo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uzavírání neopodstatněných dodatků ke smlouvě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dokumentac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Věcné plnění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ějící docházky na kurzy, semináře, osnovy kurzů (přednášek), chybí kopie poskytnutých učebních pomůcek pro příjemce (skripta, učebni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ějící hmotné i nehmotné výstupy z projektu (analýzy, propagační předměty, publikace atd.)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í souhlasy účastníků projektu se zpracováním osobních údajů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svědčení, certifikáty – nesplňují pravidla publicity, chybí jejich kopie v archivovaných dokumentech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sledovaní, nevykazovaní indikátorů – chybí průběžná kontrola dosahování indikátorů a metody nápravy v případě, že nebudou dosaže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ublicita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–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špatné barevné provedení log, špatné umístění nebo pořadí log nebo jejich úplné vynechání na materiálech vytvářených v rámci projektu,  neinformování o poskytnutém příspěvku z ESF v průběhu pořádaných akcí, chybějící informace o projektu na webových stránkách příjemců, neoznačení vybavení pořízeného z projektu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Veřejná podp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é uvedení informací v čestném prohlášení k čerpání podpory de minimi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podmínek, za kterých byla veřejná podpora poskytnu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Jiné nedostat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říjemce není na kontrolu připraven – na místě nejsou k dispozici požadované originály dokladů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 nejsou přítomny osoby zapojené do realizace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okumenty nejsou řádně archivovány – nepřehledné, nesystematické: nevyzná se v nich ani příjemce (zejm. případě účasti více osob na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jektu)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 popřípadě je u větších organizací problémem neustálé „přebíhání„ např. z jedné budovy do druhé atd., časové prosto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říjemce nepředává informace od poskytovatele dalším partnerům (je-li relevantní a projekt má partnera/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DF2B-3C3B-4C5F-B420-9E7ECB8B1C0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29BC-7137-4395-988D-AC3AE77CF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E61E-2726-4BAC-A10B-BF8F99DF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DD5B-E9A8-4F71-ABD5-21090526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8191-F2CB-43DE-A68A-A420696D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B3FA-CCF3-46A1-8A81-05094431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EA20-AF8B-4884-8806-49D71FED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BD2B-E2A3-436E-A0E4-15C66136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51A5-FAB2-48F3-B662-D0E98809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4A11-D544-4A62-B82E-747C2A6C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D232-7686-4D50-AC14-617CC574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44B0-E039-4A35-8D8F-8E0CA1A8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9A76-78D4-40BF-9873-D7F3A465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D599-66A1-4271-B94D-0526C2FCE4C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podpora34-51@ea-oplzz.cz" TargetMode="External"/><Relationship Id="rId2" Type="http://schemas.openxmlformats.org/officeDocument/2006/relationships/hyperlink" Target="mailto:podpora34-51@ea-oplzz.cz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y na místě a nesrovnalosti</a:t>
            </a:r>
            <a:br>
              <a:rPr sz="1800"/>
            </a:b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u projektů realizovaných v rámci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28" descr="logo_a_cb"/>
          <p:cNvPicPr/>
          <p:nvPr/>
        </p:nvPicPr>
        <p:blipFill>
          <a:blip r:embed="rId1"/>
          <a:stretch/>
        </p:blipFill>
        <p:spPr>
          <a:xfrm>
            <a:off x="7308720" y="476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ůběh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ahájení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dložení pověření k provedení kontro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eznámení kontrolované osoby s právy a povinnostmi běhe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eznámení kontrolované osoby s průběhe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vedení kontr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lastní kontrola vytypovaných oblastí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ýzva k odstranění nedostatků, které lze odstranit ještě před uzavření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Ukončení kontr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dání protokolu z kontroly, jeho podpis oběma stra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podání námitek – vypořádání námitkového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podezření na porušení rozpočtové kázně či trestný čin –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hlášení podezření na nesrovnalost Řídícímu orgá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V případě neposkytnutí součinnosti může kontrolní orgán uložit pořádkovou pokutu až do výše 50 000 K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tokol z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Times New Roman"/>
              </a:rPr>
              <a:t>vypracovává vedoucí kontrolní skupiny ve spolupráci se všemi kontrolními pracovníky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a předává nebo zasílá jej kontrolované osobě k podpisu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obsahuje seznam zjištění, které nebylo možno odstranit během trvání kontroly a seznam uložených nápravných opatření, vč. lhůty k jejich odstra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ypy zjištěn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    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1) zjištění ze kterých plyne podezření na nesrovna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    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2) zjištění, ze kterých neplyne podezření na nesrovnal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(pouze ukládají doporučení k náprav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vzetí protokolu z kontroly stvrzuje statutární zástupce kontrolované osoby nebo jím pověřená osoba svým podpis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odmítnutí podpisu protokolu při převzetí je kontrolovaná osoba poučena o tom, že tím ztrácí možnost podat námitky proti protoko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ámitky proti protokolu z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možnost podat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písemné a zdůvodněné námitky, a to ve lhůtě 5 kalendářních dnů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ode dne seznámení s protokole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, není-li stanoveno jinak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o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řádně podaných námitkách rozhoduje vedoucí kontrolního orgá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vydané rozhodnutí o námitkách je součástí protokolu z kontroly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</a:rPr>
              <a:t>p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roti rozhodnutí o námitkách není opravný prostředek přípustný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srovnalost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= porušení právních předpisů ES nebo českých předpisů, včetně podmínek stanovených příjemci právním aktem o poskytnutí pod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ypy nesrovnalostí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orušení rozpočtové kázně ve smyslu zákona č. 218/2000 Sb. o rozpočtových pravidlech, tj. neoprávněné použití prostředků, poskytnutých ze státního rozpoč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restný č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ystémová nesrovna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znikne-li v průběhu kontroly (či v jiném případě) podezření na nesrovnalost, je povinností kontrolora tuto skutečnost nahlásit pověřenému pracovníku Řídícího orgánu. Ten posoudí opodstatněnost podezření a v případě jeho potvrzení skutečnost nahlásí příslušnému orgánu (místně příslušný finanční úřad v případě porušení rozpočtové kázně, v ostatních případech např. orgán činný v trestním řízení apod.), který o případu pravomocně rozhod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Arial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xterní administ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</a:rPr>
              <a:t>email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dpora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ea-oplzz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tel.: +420 225 044 111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Doručovací adresa: P.O.BOX 98, 151 34 Praha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Ministerstvo práce a sociálních věcí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Odbor řízení pomoci z ES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Na Poříčním právu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128 01 Praha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e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ověřit, zda uplatňované výdaje byly skutečně vynaloženy, a to v souladu s rozhodnutím o poskytnutí dotace, s vnitrostátními pravidly a pravidly Společ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ředejí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vzniku vá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ých problémů pomocí 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asné identifikace nedostat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, které by mohly ovlivnit ús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šnou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zajistit zpětnou vazbu poskytovateli prostředků v průběhu realizace pr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Legislativní rámec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článek 13 nařízení Evropské komise č. 1828/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ákon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č. 320/2001 Sb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o finanční kontrole ve veřejné s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ákon č. 552/1991 Sb. o státní kontrol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bsah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cedurální kontr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Kontrola obsahové část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Finanční kontr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Kontrola výběrových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cedurální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právnost a úplnost vedení dokumentace k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rchivace projektové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Řízení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Vztahy s partn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Dodržování podmínek právního 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bsahová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lnění indikátorů stanovených v právním 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Úplnost dokumentace k prováděným kurzům nebo seminář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k vyvíjeným modulům, metodikám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dokumentace k poradenství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k vytvořeným pracovním místům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Nastavení systému finanční kontroly projektu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plikace nepřím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působilost náklad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ddělené účetnic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Soulad čerpání s rozpoč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Kontrola vzorku účetních dokladů z každé kapitoly rozpo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Kontrola vykazování D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vidence projektových příjmů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výběrových řízen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Dle typu a výše zakázky, kontroluje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typ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rocedu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y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v závislosti na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finanční hodnotě zakázky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dodrž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áležit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zveřejněn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stavení výběrových kritéri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dpovídající složení hodnotící kom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ápis hodnotící kom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bídky jednotlivých uchazeč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smluvní dokumen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Problematické oblasti kontrol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, stanovených zákonem o ú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etnictví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vedení účetnic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uchovávání do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daňová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 hlediska zp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sobilosti výdaj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hospodárnost, efektivnost a účelnost výdaj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 hlediska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statních zákonných n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racovně právní vzta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cestovní náhr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zadávání veřejných zaká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dcterms:modified xsi:type="dcterms:W3CDTF">2013-10-03T07:48:23Z</dcterms:modified>
  <cp:revision>278</cp:revision>
  <dc:subject/>
  <dc:title>Snímek 1</dc:title>
</cp:coreProperties>
</file>