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E686-8847-4787-9E58-B118A370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F355-8B4F-4BBB-BC5A-C8DFEB17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A611-713D-4DC8-AFD5-AC794D2AE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E2B1-FC92-41E8-9F85-1C103F05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E5A8-C8AC-41CF-8E96-151CF39A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066C-EDC3-463B-AA8D-81903C9F8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F3DE-A285-420F-8FF5-6439B7A0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95FA-BFB8-430B-B688-04ADC7AE6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71D1-E754-43A0-8190-FD33A1C9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E745-9047-4319-97EE-76A93381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3B5C-74A2-41D8-BAC5-4D465B12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01A2-AD2A-4E04-849B-47F00C45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AD41-9B82-4651-B2E5-0AC340792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zpravodaj.genderstudies.cz/" TargetMode="Externa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genderstudies.cz/" TargetMode="External"/><Relationship Id="rId2" Type="http://schemas.openxmlformats.org/officeDocument/2006/relationships/hyperlink" Target="http://www.genderstudies.cz/" TargetMode="External"/><Relationship Id="rId3" Type="http://schemas.openxmlformats.org/officeDocument/2006/relationships/hyperlink" Target="http://zpravodaj.genderstudies.cz/" TargetMode="External"/><Relationship Id="rId4" Type="http://schemas.openxmlformats.org/officeDocument/2006/relationships/hyperlink" Target="http://www.rovneprilezitosti.cz/" TargetMode="External"/><Relationship Id="rId5" Type="http://schemas.openxmlformats.org/officeDocument/2006/relationships/hyperlink" Target="http://www.rovneprilezitosti.ecn.cz/" TargetMode="External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vné příležitosti žen a mužů v ESF projektech Gender Studies, o.p.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gr.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ina Bosničov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Ph.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7.07.2011 MPSV Č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948360" y="333360"/>
            <a:ext cx="1486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Gende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en-US" sz="3300" spc="-1" strike="noStrike">
                <a:solidFill>
                  <a:srgbClr val="000000"/>
                </a:solidFill>
                <a:latin typeface="Times New Roman"/>
              </a:rPr>
              <a:t>„sociální pohlaví“ - něco, co není „od přírody“ 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(vs. biologické pohlaví)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vyjadřuje, že vlastnosti a chování spojované s muži a ženami jsou formovány kulturou a společností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konstruktivismus vs. esencialismus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nderová rovnost/ RP žen a muž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znamená stejnost mužů a ž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namená, že ženy a muži by měli mít v životě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ovné příležit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zi muži a ženami existuje řada rozdílů, ale tyto rozdíly nesmí být důvodem a základem jakékol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skrimina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e společnos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ová rovnost zakotvena v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gislativě ČR a 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Způsob myšle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dlouhodobá záležitost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nderové stereotyp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edstavy o tom, jaké a jací mají ženy a muži být, a jak se mají chov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de se s genderovými stereotypy (a diskriminací na základě pohlaví) často setkáváme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Trh práce</a:t>
            </a: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ábor a propouštění, vzdělávání a kariérní postup, vertikální a horizontální segregace pracovního trhu, slaďování osobního a pracovního života, genderový mzdový rozdíl, atd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lit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Méd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Jazyk – generické maskulin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Times New Roman"/>
              </a:rPr>
              <a:t>Rodinný život (dělba práce, rodičovství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Times New Roman"/>
              </a:rPr>
              <a:t>Vzdělávácí systém (učebni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Jak Gender Studies pracuje s genderem v rámci ESF projektů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plexní klíčové aktivity zaměřené n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šechny cílové skupi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uvisející s pracovním trhem (zaměstnavatelé, zaměstnaní – s  důrazem na tzv. ohrožené cílové skupiny – ((budoucí) rodiče malých dětí, matky (a otcové) po rodičovské dovolené, lidé 50+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der Mainstreaming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říklady aktivit zaměřených na zaměstnavatel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ZITIVNÍ MOTIVAC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ceně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rma roku: Rovné příležitosti a Úřad roku Půl na pů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izac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nderových audit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SVĚ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radenstv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firmy v oblasti podpory rovných příležitostí a slaďování osobního a pracovního života formou osobních, telefonických a e-mailových konzultac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Školen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firmy a úřady šitá na míru v různých oblastech souvisejících s genderem (gender a marketing, firemní školky, atd.) – pro management i celoplošn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emina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lektronickéh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ěsíčník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ovné příležitosti do firem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zpravodaj.genderstudies.cz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) a jeho speciálních tištěných vydán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vorba a vydávání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ávních expertíz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aktických manuálů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vízů a h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 manažery a manažer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řádání (mezinárodních) konferencí, kulatých stolů pro fir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AMPANĚ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 jiné PR materiá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říklady aktivit zaměřených na ohrožené cílové skupin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ávní poradna „Půl na půl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telefonická, online, osob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nihovna a informační centru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droj informac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Škole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šitá na míru, např. pro  mateřská centra, kde se cílová skupina „zdržuj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vorba a vydávání praktických manuálů a poradců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např. „Nenechte se diskriminovat“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ydávání novin „Půl na půl“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ři příležitosti oslav Mezinárodního dne rovnos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řádání konferencí, workshop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MPANĚ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 jiné PR materiály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575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ěkuji za pozornost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32000" y="22766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ina.bosnicova@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224 915 6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zpravodaj.genderstudies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www.rovneprilezitosti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http://www.rovneprilezitosti.ecn.c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7T07:43:36Z</dcterms:created>
  <dc:creator>Medvedici</dc:creator>
  <dc:description/>
  <dc:language>en-US</dc:language>
  <cp:lastModifiedBy>nina</cp:lastModifiedBy>
  <dcterms:modified xsi:type="dcterms:W3CDTF">2011-07-26T07:39:42Z</dcterms:modified>
  <cp:revision>140</cp:revision>
  <dc:subject/>
  <dc:title>Prolomte genderové stereotypy. Dejte talentu šanci.</dc:title>
</cp:coreProperties>
</file>