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1DF0-9A1E-4514-BB93-A4C6A925CE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38C3-CFC8-4A99-A73E-A11DE35EE4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CE4B-F0C1-4039-AE17-6C520F2AD2B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3D2E-8831-4FA3-9932-A3E5277BFA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FBB6-962A-45AF-8AF2-CFEB659BD1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A99B8-F4C3-42D0-89D0-9FB29929E6A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5281-5028-46CF-B29A-7E998C81AE5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950E-1A2A-441A-8883-D17696F72E0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4F56-26E6-4A84-92A3-D8BDF8483E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2913-EA84-4F94-B91D-2E7846E6321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AA01-7B80-4AB9-8216-3D6B1289F8C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B9A8-6DFB-482F-9976-10BD9DEDC00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09D17-4675-44DD-9F7E-BB1CCAD5E97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C35A-75BB-4496-A26C-30065D2C2DE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9013-2B83-4FBE-B98E-048789511F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9599-8840-445B-B7FC-482FB503EF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9F2B-D53E-44E3-92DF-B897EF6005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85E0-B5D7-4DC9-9239-B5251D4839E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A34E-8759-480A-9C2A-FB5E92B05EB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33C0-7828-49EB-8FD0-A18E7BE866D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DEDC-C5B1-49B0-9BFF-4FB938B30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430-FFE2-465C-A20C-CCFF27384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11CE-B01D-4996-837E-4907A77C1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79B1-395C-492F-8C43-43972EEC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7B3C-3905-411A-9D4A-3E69E79A2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CF5B-7720-4181-B27D-F86B4E90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0AB3-246A-450C-B9CB-416C2F39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C6D-AEF8-4C3E-9CC2-228E8F97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8673-D6D4-4802-8875-238A76F7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D5BE-BB7F-4085-9BA6-536AD2E9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CF3-D46E-4FE9-94A6-D535EC13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A83-CE38-4709-B0C3-44442461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9FC2-4CCB-479D-92F0-C4EA98747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68360" y="6024600"/>
          <a:ext cx="6335640" cy="833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024600"/>
                    <a:ext cx="633564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mvk.cz/rp" TargetMode="External"/><Relationship Id="rId3" Type="http://schemas.openxmlformats.org/officeDocument/2006/relationships/hyperlink" Target="http://www.mvk.cz/rp" TargetMode="External"/><Relationship Id="rId4" Type="http://schemas.openxmlformats.org/officeDocument/2006/relationships/hyperlink" Target="http://www.mvk.cz/rp" TargetMode="External"/><Relationship Id="rId5" Type="http://schemas.openxmlformats.org/officeDocument/2006/relationships/hyperlink" Target="http://www.mvk.cz/rp" TargetMode="External"/><Relationship Id="rId6" Type="http://schemas.openxmlformats.org/officeDocument/2006/relationships/hyperlink" Target="http://www.mvk.cz/rp" TargetMode="External"/><Relationship Id="rId7" Type="http://schemas.openxmlformats.org/officeDocument/2006/relationships/hyperlink" Target="http://www.mvk.cz/rp" TargetMode="External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240280" y="3268800"/>
            <a:ext cx="672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ečná konference - duben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10"/>
          <p:cNvGraphicFramePr/>
          <p:nvPr/>
        </p:nvGraphicFramePr>
        <p:xfrm>
          <a:off x="250920" y="5929200"/>
          <a:ext cx="7057800" cy="9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5929200"/>
                    <a:ext cx="70578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Picture 7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4"/>
          <a:stretch/>
        </p:blipFill>
        <p:spPr>
          <a:xfrm>
            <a:off x="142920" y="3357720"/>
            <a:ext cx="135720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F:\2009\Projekt Rovné příležitosti\září 09 PC kurz\P1010289x.jpg"/>
          <p:cNvPicPr/>
          <p:nvPr/>
        </p:nvPicPr>
        <p:blipFill>
          <a:blip r:embed="rId2"/>
          <a:stretch/>
        </p:blipFill>
        <p:spPr>
          <a:xfrm>
            <a:off x="214200" y="142884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F:\2009\Projekt Rovné příležitosti\září 09 PC kurz\P1010264x.jpg"/>
          <p:cNvPicPr/>
          <p:nvPr/>
        </p:nvPicPr>
        <p:blipFill>
          <a:blip r:embed="rId3"/>
          <a:stretch/>
        </p:blipFill>
        <p:spPr>
          <a:xfrm>
            <a:off x="4429080" y="25718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8820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 region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AER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 konference pro zaměstn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x dotazníkové šetření pro zaměstnavate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x konference rodinných a mateřských ce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3492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ference pro zaměstnavate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F:\2009\Projekt Rovné příležitosti\09_12_02Konference AERV\fotbal a konference 170x.jpg"/>
          <p:cNvPicPr/>
          <p:nvPr/>
        </p:nvPicPr>
        <p:blipFill>
          <a:blip r:embed="rId3"/>
          <a:stretch/>
        </p:blipFill>
        <p:spPr>
          <a:xfrm>
            <a:off x="179280" y="1413000"/>
            <a:ext cx="3961080" cy="2970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F:\2009\Projekt Rovné příležitosti\09_12_02Konference AERV\fotbal a konference 182x.jpg"/>
          <p:cNvPicPr/>
          <p:nvPr/>
        </p:nvPicPr>
        <p:blipFill>
          <a:blip r:embed="rId4"/>
          <a:stretch/>
        </p:blipFill>
        <p:spPr>
          <a:xfrm>
            <a:off x="4356000" y="2781360"/>
            <a:ext cx="4189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58120" y="1285920"/>
            <a:ext cx="685800" cy="714240"/>
          </a:xfrm>
          <a:prstGeom prst="rect">
            <a:avLst/>
          </a:prstGeom>
          <a:ln w="0">
            <a:noFill/>
          </a:ln>
        </p:spPr>
      </p:pic>
      <p:sp>
        <p:nvSpPr>
          <p:cNvPr id="109" name="TextovéPole 7"/>
          <p:cNvSpPr/>
          <p:nvPr/>
        </p:nvSpPr>
        <p:spPr>
          <a:xfrm>
            <a:off x="611280" y="177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ference mateřskýc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F:\2010\PROJEKT ŽENY A MUŽI V KOMUNITNÍ KNIHOVNĚ\10_10_21KonferenceRP_DK\P1000423.JPG"/>
          <p:cNvPicPr/>
          <p:nvPr/>
        </p:nvPicPr>
        <p:blipFill>
          <a:blip r:embed="rId3"/>
          <a:stretch/>
        </p:blipFill>
        <p:spPr>
          <a:xfrm>
            <a:off x="3276720" y="1916280"/>
            <a:ext cx="51847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0" y="98280"/>
            <a:ext cx="70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78920" y="1413000"/>
            <a:ext cx="8713800" cy="4968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roblematika slaďování profesního a rodinného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života v povědomí veřejnosti a místní komunity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oval partner SPK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vodní přednáška „GENDER -  co to je za slovo a jaký má význam?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ým kampa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– dobrovolníci a dobrovoln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elné schůzky – příprava happeningu, výstavy fotograf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aní článk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dělávání a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ppening „Jsme si rovni“ na Dolním námě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stava fotografií „Velké prádlo aneb bourání stereotypů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F:\2010\PROJEKT ŽENY A MUŽI V KOMUNITNÍ KNIHOVNĚ\10_05_13Happening Jsme si rovni\michal fotky\1\DSC_0756x.jpg"/>
          <p:cNvPicPr/>
          <p:nvPr/>
        </p:nvPicPr>
        <p:blipFill>
          <a:blip r:embed="rId3"/>
          <a:stretch/>
        </p:blipFill>
        <p:spPr>
          <a:xfrm>
            <a:off x="3851280" y="2637000"/>
            <a:ext cx="5113440" cy="3419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2010\PROJEKT ŽENY A MUŽI V KOMUNITNÍ KNIHOVNĚ\Týmkampaně\30.3.2010\P1020921x.jpg"/>
          <p:cNvPicPr/>
          <p:nvPr/>
        </p:nvPicPr>
        <p:blipFill>
          <a:blip r:embed="rId4"/>
          <a:stretch/>
        </p:blipFill>
        <p:spPr>
          <a:xfrm>
            <a:off x="250920" y="1557360"/>
            <a:ext cx="3552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stupy – co probíh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F:\2010\PROJEKT ŽENY A MUŽI V KOMUNITNÍ KNIHOVNĚ\10_05_13Happening Jsme si rovni\michal fotky\1\DSC_0795x.jpg"/>
          <p:cNvPicPr/>
          <p:nvPr/>
        </p:nvPicPr>
        <p:blipFill>
          <a:blip r:embed="rId3"/>
          <a:stretch/>
        </p:blipFill>
        <p:spPr>
          <a:xfrm>
            <a:off x="4284720" y="3044880"/>
            <a:ext cx="4341600" cy="290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F:\2010\PROJEKT ŽENY A MUŽI V KOMUNITNÍ KNIHOVNĚ\10_05_13Happening Jsme si rovni\michal fotky\1\DSC_0774x.jpg"/>
          <p:cNvPicPr/>
          <p:nvPr/>
        </p:nvPicPr>
        <p:blipFill>
          <a:blip r:embed="rId4"/>
          <a:stretch/>
        </p:blipFill>
        <p:spPr>
          <a:xfrm>
            <a:off x="324000" y="1484280"/>
            <a:ext cx="388764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1800" y="9828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/>
          </a:bodyPr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17080" y="1268280"/>
            <a:ext cx="698400" cy="728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F:\2010\PROJEKT ŽENY A MUŽI V KOMUNITNÍ KNIHOVNĚ\Výstava_Aktivní otcovství\P1030803.JPG"/>
          <p:cNvPicPr/>
          <p:nvPr/>
        </p:nvPicPr>
        <p:blipFill>
          <a:blip r:embed="rId3"/>
          <a:stretch/>
        </p:blipFill>
        <p:spPr>
          <a:xfrm>
            <a:off x="179280" y="1484280"/>
            <a:ext cx="3649680" cy="2736720"/>
          </a:xfrm>
          <a:prstGeom prst="rect">
            <a:avLst/>
          </a:prstGeom>
          <a:ln w="0">
            <a:noFill/>
          </a:ln>
        </p:spPr>
      </p:pic>
      <p:sp>
        <p:nvSpPr>
          <p:cNvPr id="132" name="TextovéPole 8"/>
          <p:cNvSpPr/>
          <p:nvPr/>
        </p:nvSpPr>
        <p:spPr>
          <a:xfrm>
            <a:off x="3924360" y="148428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Aktivní otcovství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F:\2011\ROVNÉ PŘÍLEŽITOSTI_PROJEKTU ESF\Výstava Velké prádlo\IMAG0051x.jpg"/>
          <p:cNvPicPr/>
          <p:nvPr/>
        </p:nvPicPr>
        <p:blipFill>
          <a:blip r:embed="rId4"/>
          <a:stretch/>
        </p:blipFill>
        <p:spPr>
          <a:xfrm>
            <a:off x="4284720" y="3141720"/>
            <a:ext cx="4286160" cy="2566800"/>
          </a:xfrm>
          <a:prstGeom prst="rect">
            <a:avLst/>
          </a:prstGeom>
          <a:ln w="0">
            <a:noFill/>
          </a:ln>
        </p:spPr>
      </p:pic>
      <p:sp>
        <p:nvSpPr>
          <p:cNvPr id="134" name="TextovéPole 8"/>
          <p:cNvSpPr/>
          <p:nvPr/>
        </p:nvSpPr>
        <p:spPr>
          <a:xfrm>
            <a:off x="1476360" y="5445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ýstava „Velké prád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4920" y="18900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362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ánky projektu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mvk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cz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/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iskové zprávy, člá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agační materiá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og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C:\Users\Katka\Documents\KATKA\KATKA\Ženy a muži v komunitní knihovně - projekt RP říjen 08\Publicita\Loga\symbol_rovnost_sbaleno\jpeg\logo_plnobarevne.jpg"/>
          <p:cNvPicPr/>
          <p:nvPr/>
        </p:nvPicPr>
        <p:blipFill>
          <a:blip r:embed="rId8"/>
          <a:stretch/>
        </p:blipFill>
        <p:spPr>
          <a:xfrm>
            <a:off x="3000240" y="3714840"/>
            <a:ext cx="34531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ppt-úvodní strana"/>
          <p:cNvPicPr/>
          <p:nvPr/>
        </p:nvPicPr>
        <p:blipFill>
          <a:blip r:embed="rId1"/>
          <a:stretch/>
        </p:blipFill>
        <p:spPr>
          <a:xfrm>
            <a:off x="-12600" y="0"/>
            <a:ext cx="9177120" cy="549756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432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ěkuji za pozorno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10880" y="4943520"/>
            <a:ext cx="549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sarykova veřejná knihovna Vsetí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117360" y="5402160"/>
            <a:ext cx="19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www.mvk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vk@vs.inex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411280" y="540216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.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1 412 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0 449 4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1800" y="98280"/>
            <a:ext cx="7009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einvestiční projek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964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elý název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„Rovné příležitosti žen a mužů v komunitní knihovně Vsetín - partnerství a zdravá komunita - celoživotní vzdělávání – prosperit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Rozpočet: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038.345,92 K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armonogram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ervenec 2009 - červen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Hlavní cíl: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br>
              <a:rPr sz="4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38960" y="1285920"/>
            <a:ext cx="9050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ppt-horní pruh logo"/>
          <p:cNvPicPr/>
          <p:nvPr/>
        </p:nvPicPr>
        <p:blipFill>
          <a:blip r:embed="rId1"/>
          <a:stretch/>
        </p:blipFill>
        <p:spPr>
          <a:xfrm>
            <a:off x="0" y="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24840" y="0"/>
            <a:ext cx="534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tační program projek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000" y="14130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ční program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dské zdroje a zaměstnan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PSV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ní o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ální integrace a rovné příležit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last podpor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vné příležitosti žen a mužů na trhu práce a sladění pracovního rodinného živ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179280" y="1413000"/>
            <a:ext cx="849636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85716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640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lavním cílem projektu j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moci ženám ohroženým z různých důvodů na trhu práce (a mužům ve stejné situaci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 za pomoci vytvoření partnerství mezi vybranými institucemi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 místě ovlivnit vnímání problematiky rovných příležitostí žen a mužů v okrese Vsetí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357200"/>
            <a:ext cx="698400" cy="7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800" y="18900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ová skup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79280" y="1341360"/>
            <a:ext cx="850752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louhodobě nezaměstnané ženy - muž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podobné situaci (na MD, 50+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městnavatel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NO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86840" y="1285920"/>
            <a:ext cx="768240" cy="7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rtnerské organ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4072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ěsto Vsetí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dinné a mateřské centrum Sluníčko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olečnost pro komunitní práci Vset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entura pro ekonomický rozvoj Vsetíns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ká spolupráce s Úřadem práce Vsetín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253360" y="1285920"/>
            <a:ext cx="89064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800" y="4932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k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914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zdělávání osob ohrožených na trhu práce (včetně doprovodných opatř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tivace zaměstnavatelů a prosazování prorodinné politiky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gion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sazování problematiky slaďování profesního a rodinného života v povědomí veřejnosti a místní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1800" y="98280"/>
            <a:ext cx="7009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proběh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13840" y="1428480"/>
            <a:ext cx="875052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zdělávání osob ohrožených na trhu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C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zykové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atické kurzy – Ekonomické minimum, Technika administrativy, Právní minimum, Ekologie a dal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obnostní výcvik a psychosociální motivační kur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provodná opatření – hlídání dětí a příspěvek na dopr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lmi dobrá spolupráce s ÚP Vsetín i RM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ční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pojení, výměna zkušeností (mladé maminky, ženy ve věku 50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ěhlo 70 kurzů, ve kterých bylo proškoleno přes 600 os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C:\Users\Katka\Documents\KATKA\KATKA\Ženy a muži v komunitní knihovně - projekt RP říjen 08\Publicita\Loga\symbol_rovnost_sbaleno\jpeg\znak_plnobarevne.jpg"/>
          <p:cNvPicPr/>
          <p:nvPr/>
        </p:nvPicPr>
        <p:blipFill>
          <a:blip r:embed="rId2"/>
          <a:stretch/>
        </p:blipFill>
        <p:spPr>
          <a:xfrm>
            <a:off x="8307360" y="1285920"/>
            <a:ext cx="836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ppt-horní pruh logo"/>
          <p:cNvPicPr/>
          <p:nvPr/>
        </p:nvPicPr>
        <p:blipFill>
          <a:blip r:embed="rId1"/>
          <a:stretch/>
        </p:blipFill>
        <p:spPr>
          <a:xfrm>
            <a:off x="-12600" y="-12600"/>
            <a:ext cx="9144000" cy="12762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4920" y="98280"/>
            <a:ext cx="700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 „Ženy a muži v komunitní knihovně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179280" y="1413000"/>
            <a:ext cx="86788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F:\2009\Projekt Rovné příležitosti\Jazykové kurzy\P1010358x.jpg"/>
          <p:cNvPicPr/>
          <p:nvPr/>
        </p:nvPicPr>
        <p:blipFill>
          <a:blip r:embed="rId2"/>
          <a:stretch/>
        </p:blipFill>
        <p:spPr>
          <a:xfrm>
            <a:off x="142920" y="1571760"/>
            <a:ext cx="4095720" cy="30715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F:\2009\Projekt Rovné příležitosti\Jazykové kurzy\P1010355x.jpg"/>
          <p:cNvPicPr/>
          <p:nvPr/>
        </p:nvPicPr>
        <p:blipFill>
          <a:blip r:embed="rId3"/>
          <a:stretch/>
        </p:blipFill>
        <p:spPr>
          <a:xfrm>
            <a:off x="4429080" y="2357280"/>
            <a:ext cx="44769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3:40:35Z</dcterms:created>
  <dc:creator>uživatel</dc:creator>
  <dc:description/>
  <dc:language>en-US</dc:language>
  <cp:lastModifiedBy>Haisová</cp:lastModifiedBy>
  <dcterms:modified xsi:type="dcterms:W3CDTF">2011-07-25T07:05:13Z</dcterms:modified>
  <cp:revision>128</cp:revision>
  <dc:subject/>
  <dc:title>Nadpis prezentace</dc:title>
</cp:coreProperties>
</file>