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035B-948C-44CA-9179-8D4A0BBA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6723-A8B1-469F-BD05-B1D7FDD7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8BFE8-633A-42A6-BA7D-018E0A3B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98D9B-0031-4C6A-9A78-AEAC371E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FB696-F79F-4D01-BE74-B39D28A1F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6EC4A5-9088-45E7-8390-CA85D853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4ADE8C-4F04-488B-B538-53A3933B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CBE94-DC75-40E2-AA1B-19A34E34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239EB1-5085-4CAD-9C36-32458E82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4847E-E41F-433C-BE5F-0A507C9A6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399B8-0A0A-46A9-80D2-563BEEE9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64F9B-AAB8-42B1-A451-483A4490C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7A0-DC79-4536-B7EA-7BC0C018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88D24-A8B4-4EB3-BAEB-4A4AFC40C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386277-0D85-4DFA-97E3-EC65152F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F31A4E-AFB2-4321-8B99-42465422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841EB1-9C40-4A40-B682-29D7D11F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B6A29-D5D5-411A-A544-93B0807EC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7198C-53B3-4CA3-8E60-8F766EF2C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580E7-5C4B-4B8A-AF7F-FEA18C11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CC9D5-8266-436D-A78A-B3326EEE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1619CF-C014-4298-B916-73A985C7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7B415D-476C-4275-A374-80CDCADA9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8EFF-2F63-4CFB-A6DB-01F80B85D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ABB6A-FE47-4E9D-B611-1C42A945A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9465A-7DF1-40FA-9A85-04F70A6E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B7AB4-B48E-4AEB-876F-4A06B321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E801C-50B7-496D-A020-33BD5D83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B91A9-0468-4AA9-B531-9BF97BC7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06C58-797B-4801-BEC4-ECCCC05BE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11B397-1165-4916-82BF-08AC42355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92B45-E46A-4230-9BDE-B4189745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DE0FC-0A09-4BEF-8ADF-F9DCCA39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E5E41A-41F7-48E1-9843-FD987242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98F4A-DD75-4BE4-ADE0-D84F4FD93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B121E2-6A1E-49D1-8288-8E163B6C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F10B9-43EE-4429-9FAE-61DDA0CE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4945BC-4D8D-4538-BD87-C86A45D6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EDCBB-186A-4E45-8BEF-E72D2B4D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ED800-AAAA-4EE7-AF23-914CFB64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209E44-6587-453A-8589-E36C4574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A70FA-D3EB-448F-9EE3-70560A6E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05014-6EF8-4E57-B925-1CCC15B4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C5E28-A7EF-4238-8F40-66658EFE4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B3BD4-BB97-4605-85D5-87BB436A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6B3D-FB8A-47E0-BFE5-709EAC8A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109A1-A650-44BC-A467-AB5800CC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908E19-B358-432B-A181-C67D35D0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4B6713-0123-485E-9671-97285870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90D5A4-A601-4228-A5BE-55B56DFA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37B881-CC6E-479A-A40B-948713BD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41070-E7AB-464A-A7F5-BAB60865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46D0-18EC-4AF4-B6A6-15AF216E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B906-F5D1-4BDA-B9DB-3B6C4938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C2C0-5971-417D-A9E4-499C8194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4DC0-552E-4CA7-AF30-3D20F955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64C5-2A48-4AEA-98AC-BA970A1F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4E7DB-AA57-4BC1-AA58-17E690BD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550A-4A75-4099-8ADF-70B707ED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BEC7-CA4C-4962-A5C5-F7E66BAA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4360-7239-48CC-8F55-E4050607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0516-B518-4BF8-87F7-223D520DE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F848-E0AC-4703-86C9-5F569FA1C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37DF-9DA4-4E49-982C-482E39D9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C45D8-F0BF-4610-85D1-D89FBCC3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E46C1-E5F5-437A-9CEA-DE81F3FF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15B0E-DD73-47B1-9EAE-446E9B76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ABBC-9996-4B83-8E03-409DE81F3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D435A-9EC9-4C0F-8653-8751AC99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82EE6-643C-4E2B-A31F-B629F483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A94D4-765A-45B8-AC3A-17CE788B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A6CF1-054E-432D-B1A7-57D9608E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0CB9D-BDD7-4373-AD05-C757F860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32C9E-858A-4319-9B39-141D05EB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5D548-FB97-4FAD-A439-EF91459B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E4139-B20F-4701-A865-784E40DB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54824-A792-4642-8485-39053B9F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89C2-4613-4434-BCA6-003CCA78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97F-356B-4FA6-88A8-AFB80799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6B52C-AF2D-4C88-82AE-9EB23F2C6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B8FCC-1D81-4F59-B16F-C17FEA3F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F3C55-0E47-47B0-9D9B-B67F7F90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015C2-3F5D-4F88-9A1A-13D140EE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54F06-8E64-4986-8083-9021359EC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E17DD-F4DA-42DD-B52D-8360B7AD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0E8E8-7D04-45FC-9194-A3B4C88E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53037-31D8-4C77-9D1B-AEBB0AC52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7E4E5-007B-4BD1-ABFA-54E05FFB6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2AA8-6B9E-4A0E-8139-1BFD32A0B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374D-C087-4CC0-A342-A6AE65378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BE286D-A075-4501-B941-F6AF686D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093DCE-5F02-4E86-8E14-95F1E625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BCA9E7-A41D-4C7E-9172-9DA84E98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7C6DE-DB3B-4D19-B75B-BCE1695E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22B0C-02F3-4E07-9B44-4534506D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C822C-88EB-4181-8570-5B187EAB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578B9-781F-4265-8A00-1C64CAE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D3EBA-D703-4E3A-BB53-616C3A29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30C51-D45B-4AB5-9CBC-02511B88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4F850-893D-44EC-B4E9-EA004FE5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F90E-190A-4FBB-BE06-5BFF95D6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B0C9A-642B-4802-9199-CCD43339A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082185-FD5C-4717-947F-0CBD3FD3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DA25-C574-43A6-8136-39DD90ED2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130EA-2E5F-428F-A77E-92669CFA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5BDB7-A30D-41B9-997C-52AC1DBB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70B97-3728-4465-974F-A6786F125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31B38-531F-4FE3-96B9-6274FA0A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6289A-DCB2-40A2-B561-59BEF297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3B946-33C0-43B3-8B83-D7453A5E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EE1B0-B035-438F-B05A-7EA3C057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EE8-F8B9-4D7E-9335-51202F48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9F9DA-E843-4A32-987A-E3F89762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EF38D-5B3B-4992-B97A-10B8EDD94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D42CA-47BE-4D77-ADCB-2180C46EA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9C4E6-E7E8-411B-8266-FAC225E9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FEFDC-896C-460C-931D-2D111F5F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90B17-FAD0-4FF8-95D9-F412CA4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D524D-E4DB-43E6-B6DA-C1165E33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7F63D-8786-4D9A-9C33-FF8DD97E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9105C-1048-427B-B7AD-901E243B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3AB8D-A097-4882-9483-E31277F5E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607F-E32B-4AF6-A88C-2F46780A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032024-C97D-4AF8-95A0-AA33BFCD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EB970-DCF2-48E4-A098-2E4FE24C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07226-A67D-4329-85A3-BF64EBF8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F14C7-F251-4778-9559-C42DFE0B7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C46672-21AC-47F5-9BEB-3F084C9F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0A94D-F59E-47CE-9235-57F159136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D3BE3-15A9-4C8C-84C4-277370FA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F082D-F48D-4AC5-AB67-8C82906E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34ECB-F049-42CC-8BD7-6CB6B8B0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D485A-3115-4ECB-8DC6-6B1695FB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5A8C-4902-4EBF-9CCA-4B0E79D7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115640" y="764640"/>
            <a:ext cx="779292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288FB-2F9D-46F4-A3F2-478C8A80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69B71-1A32-46F6-89AD-F300D0D2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3D78F-92FA-406E-AFF8-C73E66B6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F45EB2-E295-441D-94E1-3CCC38D9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187280" y="4138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70C66-F04A-4449-8F28-26C9075A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169960" y="1989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18728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69960" y="4138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9A094B-9DF5-4C81-B17B-509B23AD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81528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442920" y="1989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187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81528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442920" y="4138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ADE3D-1BCF-412C-B5C2-860BFAB7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D3FAB4-2AF4-40F7-955C-8ADB529C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0AE024-C7AA-442B-B07C-2588DF19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779C77-D7F7-446E-90D1-A187C2C9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1249-78A0-48B6-AA82-CB7419760FB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9678-7E84-4024-BC28-54F07C7B2BD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51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2810-1286-44B9-98A6-7576289596D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8445-76DC-40EF-BCEB-C08417AC25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00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0C7C-858E-497C-9E37-AFBEA131C56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BFB3-0389-4C9C-9E8C-C90D2D6BBE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C7890-00A6-4B15-B3AC-F1228657CD53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8361-836A-4299-827A-810B4F9194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9" name="Picture 18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3252-453B-48F1-8896-A2855B189174}" type="datetime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05892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31069-D3FB-42F3-99E7-0B368FDD3939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0AF2-1783-4592-9B16-C36D40EF766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5D64-4C2A-4DF9-94E4-0BEB13DB9C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7139A-14BC-451A-88BC-097E82B07E0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4FB0-C0BA-421D-952A-B6A3E20D90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E9A0-6A85-4E52-80AE-4E3F1684A6B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2FD0B-FEBA-4297-9CBB-74D6E521A4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DF8B-F973-49D6-A829-2E2C85ACB5EA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C2FA-635D-4AB0-9EB6-77A01A7424E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8A27-32F4-40A6-BC0C-F0F5E4785F3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DF5F0-923F-42F0-AA58-8D1E944D67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6F67-007D-4328-97A8-9D58F7135D8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C8A6-51F4-48DA-B5BA-C2181DF824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15" descr="Loga barevná 1"/>
          <p:cNvPicPr/>
          <p:nvPr/>
        </p:nvPicPr>
        <p:blipFill>
          <a:blip r:embed="rId2"/>
          <a:stretch/>
        </p:blipFill>
        <p:spPr>
          <a:xfrm>
            <a:off x="971640" y="0"/>
            <a:ext cx="7269120" cy="905040"/>
          </a:xfrm>
          <a:prstGeom prst="rect">
            <a:avLst/>
          </a:prstGeom>
          <a:ln w="0">
            <a:noFill/>
          </a:ln>
        </p:spPr>
      </p:pic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6FBF-3FA1-4664-B858-C67F84CE18C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5A2C-51BC-4073-8020-D3710374B8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cozlovaklara@csz.cz" TargetMode="Externa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0645-2034-455E-AA4B-33A9D8CB5212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D788-70B2-43F3-AF78-730274C0B017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187280" y="2421000"/>
            <a:ext cx="76312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br>
              <a:rPr sz="4000"/>
            </a:b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CZ.1.04/3.4.04/26.00335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1547280" y="4581360"/>
            <a:ext cx="604692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Klára Čmolíková Cozlová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98989"/>
                </a:solidFill>
                <a:latin typeface="Arial"/>
              </a:rPr>
              <a:t>Český svaz ž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7D0A9-FCBE-46F9-8A2B-BFC3AB3430A4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5CC5-8CFF-48A7-B06F-A38B8ACC7F94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Díky za Vaši pozornost.</a:t>
            </a:r>
            <a:br>
              <a:rPr sz="4800"/>
            </a:br>
            <a:r>
              <a:rPr b="0" lang="cs-CZ" sz="4800" spc="-1" strike="noStrike">
                <a:solidFill>
                  <a:srgbClr val="333399"/>
                </a:solidFill>
                <a:latin typeface="Arial"/>
              </a:rPr>
              <a:t>Prostor pro dotazy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2050560" y="4066920"/>
            <a:ext cx="6045480" cy="159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cozlovaklara@csz.cz</a:t>
            </a:r>
            <a:r>
              <a:rPr b="0" lang="cs-CZ" sz="3200" spc="-1" strike="noStrike">
                <a:solidFill>
                  <a:srgbClr val="89898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1065-535A-455D-B024-7F6428454598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8476-02D7-43F6-8F2A-2D24EE33CB43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15640" y="1125000"/>
            <a:ext cx="779292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Struktura prezentac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í se na genderovou linii projektu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stavení projektů ČSŽ a jejich hlavních cílů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B3FF-40A7-4E3F-910C-8FC770017C1B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115640" y="764640"/>
            <a:ext cx="7792920" cy="112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Genderová rovnost v projektech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řípravě projektové žádost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ž samotné tvoření výzev obsahuje či neobsahuje téma (vědomě či nevědomě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ční tým a cílové skupin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sílení genderové rovnosti skrze projektové ak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é zaměření (zvyšování povědomí o rovnost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přímé zaměření (zaměření se na rizikové skupiny a jejich posilován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Gender v praktické práci v projekt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hlaví vadí či nevadí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y ženské skupin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užský prvek a genderové stereoty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F07A-2783-47AD-9398-5D2A14924B4D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8AF0-0D35-4209-89AD-426DD9C35306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8043840" cy="9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Projekty ČSŽ pro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pora žen při vstupu na trh práce a odstraňování bariér – Středočeský kraj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Z.1.04/3.4.04/26.0033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genderovou lin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 posílit dovednosti na trhu práce CZ.1.04/3.3.05/31.0024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měřený na znevýhodnění na základě věku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3B5A-17F1-4FB4-B189-EBD87EDACECC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09B8-6DB8-4EC1-88C8-CD10D6185EFC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15640" y="691920"/>
            <a:ext cx="7792920" cy="11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odpora žen při vstupu na trh práce a odstraňování bariér – Středočeský kraj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ová skupina a její specifik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zaměstnané ženy, registrované na ú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eny (muži), pečující o dítě do 15 let věk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ové aktivity pro cílovou skupin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ítačové kurzy (základní, nadstavb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adenství (sociální, právní, psychologické, kariérové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cká genderová rov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kendové školení aktivistek v prorodinné poli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ulaté stoly se zastupiteli a zastupitelkam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Zaměření se na Středočeský kraj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60" y="1125000"/>
            <a:ext cx="404028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áno projektově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j. aktivity jsou poskytovány ve výjezdové formě (např. v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Klad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Mlad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Boleslav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Berou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6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Příbram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etc.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250560" indent="3340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le i v rámci Informačního a poradenského centra v Praze (poradenské a počítačové místnosti, zázemí projektu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4649400" y="214632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Zástupný symbol pro zápatí 3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ahoma"/>
              </a:rPr>
              <a:t>6. 6. 2011 Pragu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Zástupný symbol pro číslo snímku 4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CDE8-2239-4C09-8004-D4CB0BD8BD6C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20" name="Picture 2" descr=""/>
          <p:cNvPicPr/>
          <p:nvPr/>
        </p:nvPicPr>
        <p:blipFill>
          <a:blip r:embed="rId1"/>
          <a:srcRect l="15583" t="32889" r="36750" b="4591"/>
          <a:stretch/>
        </p:blipFill>
        <p:spPr>
          <a:xfrm>
            <a:off x="3995640" y="1341360"/>
            <a:ext cx="5148360" cy="532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9D2F-AE92-4A75-BC0E-41426C0E4DD8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779328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Zaměření projekt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468360" y="1700280"/>
            <a:ext cx="848664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ůraz na ženy, genderově senzitivní příst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lé skupinky, podpora vytvoření podpůrné skupiny, individuální přís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lně si být vědomé genderových stereotypů a předsudků, nepodporovat je naopak proti nim bojovat a zvědomovat je i uživatelká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lavním cílem je posílení vlastních schopností uživatelek k překonání období nezaměstnanost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Zástupný symbol pro zápatí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Zástupný symbol pro číslo snímku 2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8E1B-5096-4918-B642-D880B4EDBC23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BAA9-0FD3-499D-BA4C-5E34A9E68F74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93F0-E1E9-496C-A898-A9D2F0341214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15640" y="1077840"/>
            <a:ext cx="779292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3399"/>
                </a:solidFill>
                <a:latin typeface="Arial"/>
              </a:rPr>
              <a:t>Náš přístup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915920"/>
            <a:ext cx="819972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Individuální přístup nabízející adekvátní pomoc vzhledem ke konkrétní situaci uživatelky (včetně individuálního poradenství a vedení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ilování uživatelek ve schopnosti odhalit různé druhy diskriminace a náležitě se proti nim bránit (včetně možnosti právního poradenství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oskytnout znalosti a dovednosti k tomu, aby byly schopné uspět na trhu práce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CV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včetně průvodního dopisu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napsat motivační dopi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komunikovat s potenciálním zaměstnavatelem</a:t>
            </a:r>
            <a:r>
              <a:rPr b="0" lang="cs-CZ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70000"/>
              </a:lnSpc>
              <a:spcBef>
                <a:spcPts val="55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Jak se připravit na přijímací řízení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1"/>
          <p:cNvSpPr/>
          <p:nvPr/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C89E-CFD6-4DEA-94F5-25D3575599F4}" type="datetime">
              <a:rPr b="0" lang="cs-CZ" sz="1400" spc="-1" strike="noStrike">
                <a:solidFill>
                  <a:srgbClr val="000000"/>
                </a:solidFill>
                <a:latin typeface="Tahoma"/>
              </a:rPr>
              <a:t>28.07.20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Zástupný symbol pro zápatí 2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Zástupný symbol pro číslo snímku 3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527D-63D7-4622-A1CD-6FF6D520F44B}" type="slidenum">
              <a:rPr b="0" lang="cs-CZ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15640" y="1190160"/>
            <a:ext cx="779292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3399"/>
                </a:solidFill>
                <a:latin typeface="Arial"/>
              </a:rPr>
              <a:t>Problém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Přes legislativní zakotvení diskriminace stále existuje ve všech oblastech života, včetně zaměstnání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Diskriminace je široce přijímána – jako prostý fakt, koncept diskriminace je brán za něco „doveženého“ a není pro nás tématem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diskriminace se často nebrání, ani soudně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Strach z výsledku a budoucnosti</a:t>
            </a: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ěti si nejsou jisté, jaký může mít případný soudní spor výsledek, soudní spory jsou náročné (časově, finančně)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mají dostatečné informace (včetně průběhu a možností pomoci)</a:t>
            </a:r>
            <a:r>
              <a:rPr b="0" lang="cs-CZ" sz="2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60000"/>
              </a:lnSpc>
              <a:spcBef>
                <a:spcPts val="524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Nedostatečná informovanost o problematice je i v širší společnosti, bohužel i mezi profesionály a profesionálkami</a:t>
            </a:r>
            <a:endParaRPr b="0" lang="en-US" sz="21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60000"/>
              </a:lnSpc>
              <a:spcBef>
                <a:spcPts val="6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utnost respektovat rozhodnutí uživatelky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3T07:06:48Z</dcterms:created>
  <dc:creator>Klára Cozlová</dc:creator>
  <dc:description/>
  <dc:language>en-US</dc:language>
  <cp:lastModifiedBy>prednaska</cp:lastModifiedBy>
  <dcterms:modified xsi:type="dcterms:W3CDTF">2011-07-27T08:04:11Z</dcterms:modified>
  <cp:revision>49</cp:revision>
  <dc:subject/>
  <dc:title>The position of seniors and people over 50 in Czech republic and advocacy services for discrimination victims</dc:title>
</cp:coreProperties>
</file>