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691813" cy="7559675"/>
  <p:notesSz cx="6670675" cy="98964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3522-2BD2-4C23-8D84-3ED9B6323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2576-2124-4A11-9E41-FFD09FB7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167-9F41-4B1E-AA77-B251B693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4AE5-F29D-4206-923A-0B43596D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002A-92FC-4FBE-B69B-26B88148F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DD8F-A386-4629-92F8-AC94CBDC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CA99-90C6-46C9-8200-5C7537F84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5D6-8FE2-48FB-9E47-0148B1F0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2C0-381C-4E0A-833C-CABDE1D2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F38-2E41-4BC8-B2EF-32E0178B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8A3A-776B-424D-9306-F2EB563C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8EAD-B0E2-47D7-A93C-55E857F5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139A772C-F330-4A7A-BB44-7237D5C57116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ba trvání projektu: 09/2009 – 08/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ování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ropský sociální fond v ČR a státní rozpočet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e proškolen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120 ž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řádáme: semináře, odborné konzultace, worksh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kupin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1 - ženy se záměrem podni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2 - začínající podnikatelky první 3 roky podnik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3 - začínající podnikatelky: oblast služeb péče o děti do 15 l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Partner projekt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avská asociace podnikatelek a manažerek, o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Regionální klub Br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59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457880" y="303120"/>
            <a:ext cx="1776240" cy="1260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78000" y="1405080"/>
            <a:ext cx="4248000" cy="1749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5418000" y="3060720"/>
            <a:ext cx="4969080" cy="1992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306360" y="4807080"/>
            <a:ext cx="4464000" cy="17064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62720" y="1981080"/>
            <a:ext cx="397800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1- zapojeno 168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2360" y="3852720"/>
            <a:ext cx="44085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2- zapojeno 79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5869080"/>
            <a:ext cx="4913280" cy="7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03- zapojeno 19 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6"/>
          <a:stretch/>
        </p:blipFill>
        <p:spPr>
          <a:xfrm>
            <a:off x="347508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3280" y="2052720"/>
            <a:ext cx="100094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Nabídka pro klient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– cykl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adenská činno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stupní konzul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konzultace ( účetní, daňové, marketing, reklama, PR, stres a časový management, koučink, ochrana loga, moderní technologie, web-stránky,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borné právní služ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tkání s podnikatelkami – business kluby, kulatý stůl – předávání zkuše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186000" y="6805440"/>
            <a:ext cx="4464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467080" y="1044720"/>
            <a:ext cx="5344920" cy="86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720" rIns="99720" tIns="49680" bIns="4968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Asistenční centrum Brno</a:t>
            </a:r>
            <a:br>
              <a:rPr sz="2600"/>
            </a:b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pro podporu podnikání ž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0" t="23555" r="0" b="37688"/>
          <a:stretch/>
        </p:blipFill>
        <p:spPr>
          <a:xfrm>
            <a:off x="233280" y="1981080"/>
            <a:ext cx="10082160" cy="52563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402000" y="687708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Těšíme se na shledanou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na dalším ze seminářů!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podnikanizen@rhkbrno.cz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spcBef>
                <a:spcPts val="876"/>
              </a:spcBef>
              <a:buClr>
                <a:srgbClr val="990033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cs-CZ" sz="3500" spc="-1" strike="noStrike">
                <a:solidFill>
                  <a:srgbClr val="990033"/>
                </a:solidFill>
                <a:latin typeface="Arial"/>
              </a:rPr>
              <a:t>www.rhkbrno.cz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2960" indent="0">
              <a:spcBef>
                <a:spcPts val="876"/>
              </a:spcBef>
              <a:buNone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170000" y="29718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dnikanizen@rhkbrno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www.rhkbrno.c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475080" y="6732720"/>
            <a:ext cx="4464000" cy="4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13:15:21Z</dcterms:created>
  <dc:creator>Věra</dc:creator>
  <dc:description/>
  <dc:language>en-US</dc:language>
  <cp:lastModifiedBy>-</cp:lastModifiedBy>
  <dcterms:modified xsi:type="dcterms:W3CDTF">2011-06-15T08:24:43Z</dcterms:modified>
  <cp:revision>67</cp:revision>
  <dc:subject/>
  <dc:title>První kroky pro vstup do podnikání Ing. Dagmar Jelínková ECONOMY RATING</dc:title>
</cp:coreProperties>
</file>